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062-1CFC-4BB5-B49F-6D6C01C8D9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C0B-F106-4326-9843-D442F5FB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E46-FFAD-4509-812F-09CBD85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928-2DA8-4B3D-809B-3FBA58D2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872-3C11-4F30-8F47-C3E6D9F9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41F-4D38-4C8E-AAA8-4F948EC5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F20A-3D93-4A2B-839C-018BE2F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158-989B-48DE-8BDC-2D925EA3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3118-8327-46BF-AD72-5FCDE3E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68C-BD54-40E9-9B62-23ACC9B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19AE-777D-4CF9-8268-1C03219C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BB6E-55B6-4BFE-9576-7868E42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3A2-7441-4520-B803-CADE860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4ABC-2AF9-41BA-AE6F-A2A662E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1B9F-9C97-43AA-870E-1D55EEF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73A-57F7-4A99-8F0B-DA6AB060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A77-2A53-49CC-975A-6F2C190E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3AFD-1764-4B73-956D-5FFDDAD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E90-6D78-4B52-930B-F8AE320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FC2-6830-49A0-ADF2-2FF8FE1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E43-D215-4DB6-9F66-D8F1938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C09-9E24-429E-8FBA-4ABD88A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3D7-8C5F-4CCA-9D0D-1E7AC2F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318-9827-428E-A241-8A7BE7C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193-AB05-44B9-B15E-50BF038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8CC4-2959-42CA-B49B-A19C55FBF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EFC-480C-4171-B6AE-A04BDE6566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81480" y="2362320"/>
            <a:ext cx="2362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45720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98" name="羚羊2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006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情节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18148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生字音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4290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讨论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叶子" descr=""/>
          <p:cNvPicPr/>
          <p:nvPr/>
        </p:nvPicPr>
        <p:blipFill>
          <a:blip r:embed="rId7"/>
          <a:stretch/>
        </p:blipFill>
        <p:spPr>
          <a:xfrm>
            <a:off x="6324480" y="4648320"/>
            <a:ext cx="190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600200"/>
            <a:ext cx="6934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_x000b__x000c_"/>
              </a:rPr>
              <a:t>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_x000b__x000c_"/>
              </a:rPr>
              <a:t>1945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年 生于北京。现为中国电影集团策划部编审、一级编剧。国务院授予的有特殊贡献的专家、中国作协儿童文学委员会委员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886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1997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年被入选中央电视台“东方之子”栏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7432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电影剧本《霹雳贝贝》、《魔表》、《疯狂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兔子》长篇小说“第三军团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960" y="658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华文中宋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给下边加点的字注音，并注意字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24080" y="3728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08560" y="38052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寒颤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828800"/>
            <a:ext cx="456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628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6104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3360" y="205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429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ǎ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572000"/>
            <a:ext cx="7632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4495680"/>
            <a:ext cx="75960" cy="76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1752480"/>
            <a:ext cx="6096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用普通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不添字  不漏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不读破句子  停顿恰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吐字清楚   音量适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速度合宜   读出表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5200" y="835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朗读课文片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花" descr=""/>
          <p:cNvPicPr/>
          <p:nvPr/>
        </p:nvPicPr>
        <p:blipFill>
          <a:blip r:embed="rId1"/>
          <a:srcRect l="20827" t="6253" r="13238" b="37500"/>
          <a:stretch/>
        </p:blipFill>
        <p:spPr>
          <a:xfrm>
            <a:off x="5791320" y="4038480"/>
            <a:ext cx="1644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851120"/>
            <a:ext cx="72388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爸爸送我羚羊木雕，我把它送给了好朋友。我这么做对吗？并告诉我你的理由，好吗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爸爸妈妈执意让我要回羚羊木雕，而奶奶却说“这不太好”。他们谁有道理呢？我好想听听你们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假如你是我，会因为有万芳这个朋友而庆幸吗？为什么？假如你是万芳，还会做我的好朋友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6858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请讨论下列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182880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你遇到过类似的伤心事吗？是怎样处理的？能让我分享你的想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笑" descr=""/>
          <p:cNvPicPr/>
          <p:nvPr/>
        </p:nvPicPr>
        <p:blipFill>
          <a:blip r:embed="rId1"/>
          <a:srcRect l="2943" t="2986" r="0" b="0"/>
          <a:stretch/>
        </p:blipFill>
        <p:spPr>
          <a:xfrm>
            <a:off x="3276720" y="312408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的《民法通则》对于自然人的民事权利能力和民事行为能力有明确的规定。《民法通则》第十一条规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下，因此“我”的行为应该得到法定监护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家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同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57400" y="533520"/>
            <a:ext cx="28195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99cc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知道吗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99cc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家庭”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3623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父母一起欣赏这篇小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父母一起探讨后，合理地改编某一部分的故事 情节，并工整地做到稿纸上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2:17:37Z</dcterms:created>
  <dc:creator>wutao</dc:creator>
  <dc:description/>
  <dc:language>en-US</dc:language>
  <cp:lastModifiedBy>zhsjs</cp:lastModifiedBy>
  <dcterms:modified xsi:type="dcterms:W3CDTF">2004-10-16T08:11:58Z</dcterms:modified>
  <cp:revision>100</cp:revision>
  <dc:subject/>
  <dc:title>PowerPoint 演示文稿</dc:title>
</cp:coreProperties>
</file>