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gif" ContentType="image/gif"/>
  <Override PartName="/ppt/media/image10.gif" ContentType="image/gif"/>
  <Override PartName="/ppt/media/image6.gif" ContentType="image/gif"/>
  <Override PartName="/ppt/media/image9.wmf" ContentType="image/x-wmf"/>
  <Override PartName="/ppt/media/image7.gif" ContentType="image/gif"/>
  <Override PartName="/ppt/media/image8.png" ContentType="image/pn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FAC9-479F-4190-8F6C-98FF2909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194-1669-4C60-A00C-09DE9971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1604-1EA7-4F87-972D-EDAEA703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3619-C67C-491C-9329-753CA7DF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8AF4-C062-46F4-92C7-BF21DE50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7CB9-7EF7-44A4-9B69-7D0C7098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A0A9-209A-4D8D-A575-23A067EB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E66D-5457-4155-B74B-43F0541F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26D2-BF82-470E-916D-C7C2DFBB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D583-8308-44E1-B508-B2C2D825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79A9-5B9C-480C-9F3A-E9C822C9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74D2-2BB9-4A9C-9266-8EF0611C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C22E-9059-4EE3-9B3E-E06378F273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68360" y="1125360"/>
            <a:ext cx="4537080" cy="1492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948360" y="3284640"/>
            <a:ext cx="1771920" cy="647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2016000" cy="1344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2400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A.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怎样才能避免这类不愉快的事情发生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885080" y="5805360"/>
            <a:ext cx="959040" cy="771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4360" y="40053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儿童心灵多么美好，尽管他们幼稚，但是不能粗暴地伤害他们的心灵，孩子的心灵比任何贵重的东西都贵重，只知东西贵重，不知孩子心灵贵重，是一种愚蠢的行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合  作  探  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86040" y="2913120"/>
            <a:ext cx="54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者的感情倾向是怎样的？你的看法怎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619280" y="620640"/>
            <a:ext cx="2057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小朋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14479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62064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大人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256536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重义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华文中宋"/>
              </a:rPr>
              <a:t>轻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2565360"/>
            <a:ext cx="33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重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轻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40360" y="1484280"/>
            <a:ext cx="228600" cy="782640"/>
          </a:xfrm>
          <a:prstGeom prst="downArrow">
            <a:avLst>
              <a:gd name="adj1" fmla="val 50000"/>
              <a:gd name="adj2" fmla="val 855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357336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这篇文章的作者是站在孩子的立场上，赞美了小朋友们</a:t>
            </a:r>
            <a:r>
              <a:rPr b="0" lang="zh-CN" sz="3600" spc="-1" strike="noStrike">
                <a:solidFill>
                  <a:srgbClr val="ff0000"/>
                </a:solidFill>
                <a:latin typeface="方正魏碑简体"/>
                <a:ea typeface="方正魏碑简体"/>
              </a:rPr>
              <a:t>真诚无私的友爱</a:t>
            </a:r>
            <a:r>
              <a:rPr b="0" lang="zh-CN" sz="36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5119560"/>
            <a:ext cx="8101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告诫做父母的要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理解少年的心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尊重他们的友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不要重财轻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1557360"/>
            <a:ext cx="228600" cy="782640"/>
          </a:xfrm>
          <a:prstGeom prst="downArrow">
            <a:avLst>
              <a:gd name="adj1" fmla="val 50000"/>
              <a:gd name="adj2" fmla="val 855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92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板书、文章主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-243000"/>
            <a:ext cx="845820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家庭是社会的细胞。家庭生活中一次小小的波折反映出的是社会上比较普遍存在的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父母怎样疼爱女子的问题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64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课文小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43000" y="4005360"/>
            <a:ext cx="511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　　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真正的友谊是人生的无价之宝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文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赞美了小朋友之间纯洁无私的友谊，同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也告诉我们：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在物欲横流、人情日渐冷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的今天，更要珍视难能可贵的友情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60120" y="2349360"/>
            <a:ext cx="5484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　　本文意在提醒那些为人父母者爱子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应该爱在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理解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爱在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尊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爱在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沟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拓展练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866000" y="5157720"/>
            <a:ext cx="1278000" cy="1700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8360" y="321300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　　你是怎么处理的？说出来让大家听听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50120" y="198900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你遇到过类似的事情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305080" cy="1344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596360" y="5443560"/>
            <a:ext cx="1223640" cy="1216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68360" y="400536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世界上没有比一个既真诚又聪明的朋友更可贵的了。”　</a:t>
            </a:r>
            <a:r>
              <a:rPr b="0" lang="zh-CN" sz="32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　　　　　　　　　</a:t>
            </a:r>
            <a:r>
              <a:rPr b="0" lang="zh-CN" sz="40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希罗多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76680" y="2060640"/>
            <a:ext cx="55299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　　“世间最美好的东西，莫过于有几个头脑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心地都很正直的真正的朋友。”　　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爱因斯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关于朋友的名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方正行楷简体"/>
                <a:ea typeface="方正行楷简体"/>
              </a:rPr>
              <a:t>长     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1197000"/>
            <a:ext cx="78483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    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　 “随着年龄的增长，我们逐渐形成自己的思想。如果说一个人的历史要用笔来写的话，那么现在应该是我们从父母手里接过笔自己写的时候了。”  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   　　                                                       ——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双 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    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　 “在不知不觉中，我长大了。不再是那个只会听话的小朋友了。在我脑海的深处，有一颗叛逆的种子在发育，长大。我已有了自己的主见，不再事事听从家长了。” 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                                                             ——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江颖楠  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  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朗读情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9563" r="0" b="0"/>
          <a:stretch/>
        </p:blipFill>
        <p:spPr>
          <a:xfrm>
            <a:off x="1187280" y="1143000"/>
            <a:ext cx="7020000" cy="5038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-161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情景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9472" r="0" b="0"/>
          <a:stretch/>
        </p:blipFill>
        <p:spPr>
          <a:xfrm>
            <a:off x="1403280" y="1600200"/>
            <a:ext cx="6589800" cy="4540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43040" y="24271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犄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52720" y="24271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怦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33800" y="24271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树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19800" y="24271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65080" y="427824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逮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21240" y="42624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寒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71640" y="3112920"/>
            <a:ext cx="320760" cy="171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181320" y="3112920"/>
            <a:ext cx="320760" cy="171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695920" y="3112920"/>
            <a:ext cx="320760" cy="171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448400" y="3112920"/>
            <a:ext cx="320760" cy="171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107040" y="4871880"/>
            <a:ext cx="320760" cy="171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1077840" y="4948200"/>
            <a:ext cx="320760" cy="171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65080" y="502452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逮着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21240" y="50086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颤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5649840" y="5634000"/>
            <a:ext cx="320760" cy="171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1093680" y="5634000"/>
            <a:ext cx="320760" cy="171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36480" y="4338720"/>
            <a:ext cx="304920" cy="1447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16680" y="4338720"/>
            <a:ext cx="304560" cy="1447560"/>
          </a:xfrm>
          <a:custGeom>
            <a:avLst/>
            <a:gdLst>
              <a:gd name="textAreaLeft" fmla="*/ 194760 w 304560"/>
              <a:gd name="textAreaRight" fmla="*/ 304920 w 30456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9000" y="17413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j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94120" y="17413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pē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91000" y="18018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ch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15240" y="18018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zu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16360" y="42210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à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16360" y="508464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ǎ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05440" y="42210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zh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05440" y="508464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ch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预习检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08080" y="3333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给加点的字注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84720" y="180324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奶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40464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分角色朗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56000" y="2349360"/>
            <a:ext cx="4572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 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35280" y="4476600"/>
            <a:ext cx="1790640" cy="2381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197440" y="3645000"/>
            <a:ext cx="129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0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我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09720" y="3573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万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28280" y="17319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爸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76280" y="18032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妈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 flipH="1">
            <a:off x="6084360" y="4727520"/>
            <a:ext cx="1243080" cy="21304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分角色朗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1727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553080" y="3794040"/>
            <a:ext cx="1676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90792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父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997360"/>
            <a:ext cx="229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24360" y="5516640"/>
            <a:ext cx="312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万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/>
          <p:nvPr/>
        </p:nvCxnSpPr>
        <p:spPr>
          <a:xfrm flipH="1">
            <a:off x="4284000" y="1773360"/>
            <a:ext cx="1440360" cy="1080000"/>
          </a:xfrm>
          <a:prstGeom prst="straightConnector1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93" name=""/>
          <p:cNvCxnSpPr/>
          <p:nvPr/>
        </p:nvCxnSpPr>
        <p:spPr>
          <a:xfrm>
            <a:off x="4211640" y="4005000"/>
            <a:ext cx="2016720" cy="14403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140360" y="21337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48360" y="501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1700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4581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87640" y="3933720"/>
            <a:ext cx="1008000" cy="898560"/>
          </a:xfrm>
          <a:custGeom>
            <a:avLst/>
            <a:gdLst>
              <a:gd name="textAreaLeft" fmla="*/ 289080 w 1008000"/>
              <a:gd name="textAreaRight" fmla="*/ 863640 w 1008000"/>
              <a:gd name="textAreaTop" fmla="*/ 517680 h 898560"/>
              <a:gd name="textAreaBottom" fmla="*/ 769680 h 8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68360" y="4508640"/>
            <a:ext cx="2438280" cy="2112840"/>
            <a:chOff x="468360" y="4508640"/>
            <a:chExt cx="2438280" cy="2112840"/>
          </a:xfrm>
        </p:grpSpPr>
        <p:sp>
          <p:nvSpPr>
            <p:cNvPr id="100" name=""/>
            <p:cNvSpPr/>
            <p:nvPr/>
          </p:nvSpPr>
          <p:spPr>
            <a:xfrm>
              <a:off x="830160" y="4869000"/>
              <a:ext cx="1676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回顾“我”和万芳真挚的友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468360" y="4508640"/>
              <a:ext cx="2438280" cy="211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380880" y="1752480"/>
            <a:ext cx="236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样写是对故事情节作必要的交待，能够吸引人，使故事悬念迭起，情节起伏跌宕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1692360" y="3716280"/>
            <a:ext cx="457200" cy="99072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-139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整  体  感  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560920" y="2708280"/>
            <a:ext cx="2324160" cy="1556280"/>
            <a:chOff x="5560920" y="2708280"/>
            <a:chExt cx="2324160" cy="1556280"/>
          </a:xfrm>
        </p:grpSpPr>
        <p:sp>
          <p:nvSpPr>
            <p:cNvPr id="106" name=""/>
            <p:cNvSpPr/>
            <p:nvPr/>
          </p:nvSpPr>
          <p:spPr>
            <a:xfrm>
              <a:off x="5560920" y="2708280"/>
              <a:ext cx="2324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羚羊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12840" y="350028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木雕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8" name=""/>
          <p:cNvCxnSpPr/>
          <p:nvPr/>
        </p:nvCxnSpPr>
        <p:spPr>
          <a:xfrm flipV="1">
            <a:off x="6516360" y="1772640"/>
            <a:ext cx="1080" cy="864360"/>
          </a:xfrm>
          <a:prstGeom prst="straightConnector1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</p:cxn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146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Times New Roman"/>
                <a:ea typeface="黑体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278136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我”把羚羊木雕送给了最要好的朋友万芳，父母发觉了，逼“我”去要回来，“我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被逼无奈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，只得硬着头皮开口，让万芳把羚羊还“我”。“我”对朋友这样做，自己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感到反悔，伤心极了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8000" y="544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收回木雕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43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情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28720" y="333360"/>
            <a:ext cx="566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文中写了一只什么样的木雕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围绕它发生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事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涉及到哪些人物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节顺序怎样？ 简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说原因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57920" y="20606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羚羊木雕》讲述的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子女和父母之间发生的一场小矛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24000" y="5445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妈妈追查、逼迫  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56160" y="54450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爸爸讲理由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35680" y="54450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插叙回忆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华文新魏"/>
                <a:ea typeface="华文新魏"/>
              </a:rPr>
              <a:t>　　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分角色朗读课文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品味揣摩语言来分析性格。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49440" y="2204640"/>
            <a:ext cx="3743280" cy="32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妈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爸爸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奶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我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万芳：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29973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婉转、持重沉稳。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71640" y="220500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态度生硬固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44720" y="39337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明白事理、同情理解却无能为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4941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重情、软弱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43280" y="59500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仗义、明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10560" y="333360"/>
            <a:ext cx="442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一起合作</a:t>
            </a:r>
            <a:r>
              <a:rPr b="0" lang="zh-CN" sz="3200" spc="-1" strike="noStrike">
                <a:solidFill>
                  <a:srgbClr val="0066ff"/>
                </a:solidFill>
                <a:latin typeface="华文新魏"/>
                <a:ea typeface="华文新魏"/>
              </a:rPr>
              <a:t>分角色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感情朗读课文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评委。请其他同学边听边</a:t>
            </a:r>
            <a:r>
              <a:rPr b="0" lang="zh-CN" sz="3200" spc="-1" strike="noStrike">
                <a:solidFill>
                  <a:srgbClr val="0066ff"/>
                </a:solidFill>
                <a:latin typeface="华文新魏"/>
                <a:ea typeface="华文新魏"/>
              </a:rPr>
              <a:t>品味揣摩人物个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华文新魏"/>
                <a:ea typeface="华文新魏"/>
              </a:rPr>
              <a:t>化语言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来分析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人物的性格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4T13:20:21Z</dcterms:created>
  <dc:creator>wutao</dc:creator>
  <dc:description/>
  <dc:language>en-US</dc:language>
  <cp:lastModifiedBy>a</cp:lastModifiedBy>
  <dcterms:modified xsi:type="dcterms:W3CDTF">2004-12-16T05:59:42Z</dcterms:modified>
  <cp:revision>100</cp:revision>
  <dc:subject/>
  <dc:title>PowerPoint 演示文稿</dc:title>
</cp:coreProperties>
</file>