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jpeg" ContentType="image/jpeg"/>
  <Override PartName="/ppt/media/image7.jpeg" ContentType="image/jpeg"/>
  <Override PartName="/ppt/media/image9.wmf" ContentType="image/x-wmf"/>
  <Override PartName="/ppt/media/image6.gif" ContentType="image/gif"/>
  <Override PartName="/ppt/media/image17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3.gif" ContentType="image/gif"/>
  <Override PartName="/ppt/media/image22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.gif" ContentType="image/gif"/>
  <Override PartName="/ppt/media/image24.gif" ContentType="image/gif"/>
  <Override PartName="/ppt/media/image14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B93-8CF5-45EB-8193-BE7590A2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9B6-9EF8-43A5-A907-F496FC5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943-36BE-4B91-90AD-36B0821C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F92-FE2F-4F7C-A389-8C92BA2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89C-5032-492D-AEEF-8C7C9E9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416-28D0-46DD-8DF6-0B4BFE3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E5E-5122-4DF0-A475-6FA1F94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784-6A52-4F5E-A17B-AF4B86C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FB2-D962-4E14-B251-39EA0EE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BE3-4099-4591-A01A-E5004F4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AD0-4AF5-49C9-89EE-D9012C4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843-FC49-4D2A-B901-4C833F1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9D1-50F7-4478-8B04-5513E3346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p9" descr="40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09480"/>
            <a:ext cx="815328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声音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语气符合角色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辅以表情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73160"/>
            <a:ext cx="8610840" cy="6303960"/>
          </a:xfrm>
          <a:prstGeom prst="rect">
            <a:avLst/>
          </a:prstGeom>
          <a:ln w="0">
            <a:noFill/>
          </a:ln>
        </p:spPr>
      </p:pic>
      <p:pic>
        <p:nvPicPr>
          <p:cNvPr id="79" name="4137" descr="4137"/>
          <p:cNvPicPr/>
          <p:nvPr/>
        </p:nvPicPr>
        <p:blipFill>
          <a:blip r:embed="rId2"/>
          <a:stretch/>
        </p:blipFill>
        <p:spPr>
          <a:xfrm flipH="1">
            <a:off x="5943600" y="68580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合作朗读、表演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选择你愿意朗读的场景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90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 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、妈妈、爸爸的对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1-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5053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 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、万芳、万芳妈妈的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25---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8094" descr="78094"/>
          <p:cNvPicPr/>
          <p:nvPr/>
        </p:nvPicPr>
        <p:blipFill>
          <a:blip r:embed="rId1"/>
          <a:stretch/>
        </p:blipFill>
        <p:spPr>
          <a:xfrm>
            <a:off x="0" y="419112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28600"/>
            <a:ext cx="8839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在朗读中体悟人物形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        妈妈      爸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8197" r="0" b="0"/>
          <a:stretch/>
        </p:blipFill>
        <p:spPr>
          <a:xfrm>
            <a:off x="228600" y="2590920"/>
            <a:ext cx="891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10170" r="0" b="0"/>
          <a:stretch/>
        </p:blipFill>
        <p:spPr>
          <a:xfrm>
            <a:off x="457200" y="20574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0"/>
            <a:ext cx="73911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在朗读中体悟人物形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我”      万芳      万芳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80880"/>
            <a:ext cx="5867640" cy="10288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羊2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676520"/>
            <a:ext cx="7848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4e01"/>
                </a:solidFill>
                <a:latin typeface="华文中宋"/>
                <a:ea typeface="华文中宋"/>
              </a:rPr>
              <a:t>爸爸、妈妈：羚羊木雕应该讨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4e0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e74e01"/>
                </a:solidFill>
                <a:latin typeface="黑体"/>
                <a:ea typeface="黑体"/>
              </a:rPr>
              <a:t>我     ：羚羊木雕不该讨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4e01"/>
                </a:solidFill>
                <a:latin typeface="黑体"/>
                <a:ea typeface="黑体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论辩时请结合课文内容，要有理有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各组先确定一人作观点陈述，然后自由  辩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要注意抓住对方的疏漏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135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335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合作探究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---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话实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733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既然“我”已经把羚羊木雕送给了万芳，事情怎样处理才更妥当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E03166_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46120" cy="247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352680" y="1219320"/>
            <a:ext cx="441972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我有一个金点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w3" descr="32481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838080"/>
            <a:ext cx="3581280" cy="99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990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中宋"/>
              </a:rPr>
              <a:t>想想我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590920"/>
            <a:ext cx="883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你曾和父母发生过冲突吗？你是怎样处理的？能让我们分享你的想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43800" y="4724280"/>
            <a:ext cx="138276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《民法通则》对于自然人的民事权利能力和民事行为能力有明确的规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民事通则》第十一条规定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岁以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民是成年人，具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完全的民事行为能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进行民事行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十六条规定：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未成年人的父母是未成年人的监护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的年龄应该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以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此我的行为应该得到法定监护人即家长的同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080" y="-5868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琥珀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你 知 道 吗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6494" descr="206494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228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真情实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143000"/>
            <a:ext cx="853416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家是我们永远的港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我们是风筝，父母便是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走到哪儿牵到哪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浓浓 亲情永系心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爱他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就与他们交流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交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是增进感情的源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327672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孩子                                    大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羚羊木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505320"/>
            <a:ext cx="31240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3733920"/>
            <a:ext cx="312408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733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尊 重 和 理 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商 量 和 沟 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962520"/>
            <a:ext cx="99072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95520" y="3886200"/>
            <a:ext cx="685800" cy="762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152280" y="228600"/>
          <a:ext cx="883944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3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父母都能理解、尊重孩子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子女多一些与父母的沟通，做他们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et10" descr="324592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03749" descr="303749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609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071800"/>
            <a:ext cx="87631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清思路、理解文章主要内容，体会文中的心理、语言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有感情的朗读课文，体会课文的思想感 情，从 中获得对人生有益的感悟和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 从不同的角度作探究性阅读，运用自主、合作探究的学习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培养学生健康的心理，正确引导其情感倾向，联系生活实际，学会与父母沟通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j14" descr="337981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1219320"/>
            <a:ext cx="6248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想像“我”拿回木雕回家后的情景，模仿课文续写。 ② 与父母一起读这篇课文并讨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③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学会与父母、他人沟通，快乐的生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320" cy="3962520"/>
          </a:xfrm>
          <a:prstGeom prst="ellipse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8880" y="9144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91540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的祝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你，在悄悄地长大。一方面，要学会思考，有主见；另一方面要试着与他人交流、沟通，特别是家人、老师，他们都是你亲密的朋友。让我们多一份思考，多一份理解，多一份沟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愿我们身边的朋友越来越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dr33" descr="139960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2680" y="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紧急求援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-----S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亲爱的同学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大家好，我是世界最伤心的人！因为我对好朋友反悔了。我做了一件很不光彩的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是，这能全怪我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，我正在烦恼中不能自拔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SO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各位同学火速支援，献出锦囊妙计。拜托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们的朋友——伤心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1337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5181480"/>
            <a:ext cx="14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5640" y="4888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00"/>
                </a:solidFill>
                <a:latin typeface="方正新舒体简体"/>
                <a:ea typeface="方正新舒体简体"/>
              </a:rPr>
              <a:t>羚 羊 木 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8800" y="1981080"/>
            <a:ext cx="13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方正准圆简体"/>
              </a:rPr>
              <a:t>张 之 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lm02-26" descr=""/>
          <p:cNvPicPr/>
          <p:nvPr/>
        </p:nvPicPr>
        <p:blipFill>
          <a:blip r:embed="rId1"/>
          <a:srcRect l="16971" t="14286" r="16971" b="21482"/>
          <a:stretch/>
        </p:blipFill>
        <p:spPr>
          <a:xfrm>
            <a:off x="1295280" y="2895480"/>
            <a:ext cx="61722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0"/>
            <a:ext cx="3962520" cy="2971800"/>
          </a:xfrm>
          <a:prstGeom prst="cloudCallout">
            <a:avLst>
              <a:gd name="adj1" fmla="val -73236"/>
              <a:gd name="adj2" fmla="val 101976"/>
            </a:avLst>
          </a:prstGeom>
          <a:solidFill>
            <a:srgbClr val="3366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方正舒体"/>
                <a:ea typeface="方正舒体"/>
              </a:rPr>
              <a:t>比一比，看一看，谁的回答最正确</a:t>
            </a:r>
            <a:r>
              <a:rPr b="1" lang="zh-CN" sz="3600" spc="-1" strike="noStrike">
                <a:solidFill>
                  <a:srgbClr val="ffff00"/>
                </a:solidFill>
                <a:latin typeface="方正舒体"/>
                <a:ea typeface="方正舒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2286000" y="2209680"/>
            <a:ext cx="1371600" cy="1676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2362320" y="4724280"/>
            <a:ext cx="144756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808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自主学习：智力陷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4952880" y="4724280"/>
            <a:ext cx="152424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4724280"/>
            <a:ext cx="144756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羚 羊 木 雕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讲了一个怎样的故事？（用简洁的语言概括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57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自主学习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1---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隶书"/>
                <a:ea typeface="隶书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fj9" descr="33794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342900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自主学习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羚羊木雕”在课文中起什么作用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74320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线    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9370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线索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是贯穿文章故事情节发展的脉络，使文章故事情节成为一个有机的整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自主学习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体育课上，万芳为“我”做了一件什么事？这部分在文中属于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顺叙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插叙？倒叙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743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“我”换了破裤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57600"/>
            <a:ext cx="609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插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1320" y="1752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800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插叙：是在顺序过程中先中断原来的叙述，插入有关的故事情节，然后回到原来的记叙中的写作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79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自主学习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请把人物填入恰当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ShockwaveFlash1"/>
          <p:cNvGraphicFramePr/>
          <p:nvPr/>
        </p:nvGraphicFramePr>
        <p:xfrm>
          <a:off x="380880" y="838080"/>
          <a:ext cx="82296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22960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6:58:40Z</dcterms:created>
  <dc:creator>wutao</dc:creator>
  <dc:description/>
  <dc:language>en-US</dc:language>
  <cp:lastModifiedBy>a</cp:lastModifiedBy>
  <dcterms:modified xsi:type="dcterms:W3CDTF">2004-12-16T06:01:51Z</dcterms:modified>
  <cp:revision>100</cp:revision>
  <dc:subject/>
  <dc:title>幻灯片 1</dc:title>
</cp:coreProperties>
</file>