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7.jpeg" ContentType="image/jpeg"/>
  <Override PartName="/ppt/media/image15.gif" ContentType="image/gif"/>
  <Override PartName="/ppt/media/image5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8.jpeg" ContentType="image/jpeg"/>
  <Override PartName="/ppt/media/image3.png" ContentType="image/png"/>
  <Override PartName="/ppt/media/image4.jpeg" ContentType="image/jpeg"/>
  <Override PartName="/ppt/media/image28.gif" ContentType="image/gif"/>
  <Override PartName="/ppt/media/suction.wav" ContentType="audio/x-wav"/>
  <Override PartName="/ppt/media/image13.png" ContentType="image/png"/>
  <Override PartName="/ppt/media/image9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chimes.wav" ContentType="audio/x-wav"/>
  <Override PartName="/ppt/media/image21.jpeg" ContentType="image/jpeg"/>
  <Override PartName="/ppt/media/image12.png" ContentType="image/png"/>
  <Override PartName="/ppt/media/image23.jpeg" ContentType="image/jpeg"/>
  <Override PartName="/ppt/media/image25.wmf" ContentType="image/x-wmf"/>
  <Override PartName="/ppt/media/image22.png" ContentType="image/png"/>
  <Override PartName="/ppt/media/image24.jpeg" ContentType="image/jpeg"/>
  <Override PartName="/ppt/media/image20.jpeg" ContentType="image/jpeg"/>
  <Override PartName="/ppt/media/image2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393-70CA-4D04-BD7F-0F89902A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131-E9A7-46C1-A275-BD653BE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E58-3635-40C6-AA30-606CDD08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89F-77F9-43CE-82E6-661D33E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426-A906-4726-ABC2-CBAE3F5D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182-0B06-4AC4-B9C4-2709C165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A8D-AC5C-45C9-9A96-98F1C126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F1D-09F7-4BC6-A4D8-C693BEDC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DE7-594C-4D54-AAF6-9632B06F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B8C-0674-4226-BB77-F65CC29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991-1D66-41AD-A597-36E316D0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990-E21F-44D3-80E1-6C0DDEEF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F08B-3BE7-41D1-A58C-633DAF8436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8.png"/><Relationship Id="rId4" Type="http://schemas.openxmlformats.org/officeDocument/2006/relationships/hyperlink" Target="file:///&#25026;&#20320;.MPG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p9" descr="40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bright="70000" contrast="-70000"/>
          </a:blip>
          <a:srcRect l="11621" t="12750" r="2535" b="1518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0" y="457200"/>
            <a:ext cx="91440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是妈妈不懂道理，你把这盒糖送给你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好朋友……那只羚羊，就是爸爸妈妈也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得送人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黑体"/>
                <a:ea typeface="黑体"/>
              </a:rPr>
              <a:t>奶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算了吧，这样多不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您不知道那是多么名贵的木雕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芳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黑体"/>
                <a:ea typeface="黑体"/>
              </a:rPr>
              <a:t>万芳</a:t>
            </a: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怎么了？也不打伞，是不是挨揍了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奇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有……你能不能把羚羊还我…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声音极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黑体"/>
                <a:ea typeface="黑体"/>
              </a:rPr>
              <a:t>万芳</a:t>
            </a: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昨天不是说得好好的，你怎么能这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黑体"/>
                <a:ea typeface="黑体"/>
              </a:rPr>
              <a:t>万芳妈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芳，你是不是拿了人家什么东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黑体"/>
                <a:ea typeface="黑体"/>
              </a:rPr>
              <a:t>万芳妈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哎呀，你怎么拿人家这么贵重的东西呢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好好拿着，别难过，看我待会揍她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阿姨！羚羊是我送她的，都怪我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9900"/>
                </a:solidFill>
                <a:latin typeface="黑体"/>
                <a:ea typeface="黑体"/>
              </a:rPr>
              <a:t>万芳</a:t>
            </a: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拿着，我们还是好朋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23434" t="20408" r="23434" b="1984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66880" y="1371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持重沉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43828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固执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40384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明白事理、同情理解却无能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重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019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仗义、明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212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83808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13640" y="137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3640" y="243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93040" y="411480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奶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81960" y="5105520"/>
            <a:ext cx="11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6019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56120" y="3276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芳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376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通情达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304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66"/>
                  </a:solidFill>
                  <a:miter/>
                </a:ln>
                <a:solidFill>
                  <a:srgbClr val="000000">
                    <a:alpha val="9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人物分析</a:t>
            </a:r>
            <a:endParaRPr b="1" lang="en-US" sz="1800" spc="1" strike="noStrike">
              <a:ln w="25560">
                <a:solidFill>
                  <a:srgbClr val="ffff66"/>
                </a:solidFill>
                <a:miter/>
              </a:ln>
              <a:solidFill>
                <a:srgbClr val="000000">
                  <a:alpha val="9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0" r="0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52680" y="457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谈点看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6002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认为这件事情怎样处理才妥当？请你以文中任意一个身份来发表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作者的感情倾向是怎样的？你能从文中找到支持你观点的依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有好的办法来避免这一类不愉快的事情发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0"/>
            <a:ext cx="201960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七嘴八舌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6765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民事通则》第十一条规定：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岁以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民是成年人，具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完全的民事行为能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独立进行民事行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十六条规定：“未成年人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父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未成年人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监护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6960" y="609480"/>
            <a:ext cx="2463480" cy="703440"/>
          </a:xfrm>
          <a:prstGeom prst="rect">
            <a:avLst/>
          </a:prstGeom>
          <a:solidFill>
            <a:srgbClr val="00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你 知 道 吗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057400"/>
            <a:ext cx="87631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你以知心人的身份给这位伤心的同学回一封信，帮助他走出困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、有真情实感，最好结合自己的真实经历来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、注意自己的用语措辞，不要伤害别人的自尊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、最好提出有建设性的金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E03166_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2346480" cy="247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800600" y="609480"/>
            <a:ext cx="353376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我有一个金点子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ew3" descr="324817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838080"/>
            <a:ext cx="3581280" cy="99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990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中宋"/>
              </a:rPr>
              <a:t>想想我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590920"/>
            <a:ext cx="883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你曾和父母发生过冲突吗？你是怎样处理的？能让我们分享你的想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457200"/>
            <a:ext cx="7924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老师的祝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你，在悄悄地长大。一方面，要学会思考，要有主见；另一方面要试着与他人交流、沟通，特别是家人、老师，他们都是你亲密的朋友。让我们多一份思考，少一份盲目；多一份理解，少一份烦恼；多一份沟通，少一份误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愿我们身边的朋友越来越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4"/>
          </p:cNvPr>
          <p:cNvSpPr/>
          <p:nvPr/>
        </p:nvSpPr>
        <p:spPr>
          <a:xfrm>
            <a:off x="784872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8406"/>
                </a:moveTo>
                <a:lnTo>
                  <a:pt x="19007" y="8406"/>
                </a:lnTo>
                <a:lnTo>
                  <a:pt x="23428" y="3794"/>
                </a:lnTo>
                <a:lnTo>
                  <a:pt x="23428" y="17806"/>
                </a:lnTo>
                <a:lnTo>
                  <a:pt x="19007" y="13194"/>
                </a:lnTo>
                <a:lnTo>
                  <a:pt x="14577" y="13194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28590" y="10800"/>
                </a:lnTo>
              </a:path>
              <a:path fill="darken" w="43166" h="21600">
                <a:moveTo>
                  <a:pt x="25082" y="8406"/>
                </a:moveTo>
                <a:lnTo>
                  <a:pt x="28590" y="5639"/>
                </a:lnTo>
              </a:path>
              <a:path fill="darken" w="43166" h="21600">
                <a:moveTo>
                  <a:pt x="25082" y="13194"/>
                </a:moveTo>
                <a:lnTo>
                  <a:pt x="2859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父母都能理解、尊重孩子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子女多一些与父母的沟通，做他们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t10" descr="324592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9960" y="122400"/>
            <a:ext cx="36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紧急求援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-----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838080"/>
            <a:ext cx="883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亲爱的同学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大家好，我是世界上最伤心的人！因为我的好朋友过生日时，我只能送他一张贺卡。看着别的同学那么美丽昂贵的礼物，我觉得自己好丢脸，可是，这能全怪我吗？父母说小孩子不能乱花钱，说什么也不肯让我送值钱的礼物，为此我已经三天没和他们说话了，而且我觉得同学们现在都不太爱跟我玩了，他们可能认为我很小气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现在，我正在烦恼中不能自拔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S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各位同学火速支援，献出锦囊妙计。拜托！！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们的朋友——伤心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21337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5181480"/>
            <a:ext cx="145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70000" contrast="-70000"/>
          </a:blip>
          <a:srcRect l="13996" t="12000" r="23988" b="253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828800" y="1981080"/>
            <a:ext cx="548640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9077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新魏"/>
              </a:rPr>
              <a:t>羚羊木雕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新魏"/>
              <a:ea typeface="华文新魏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19520" y="3581280"/>
            <a:ext cx="3276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新宋体"/>
              </a:rPr>
              <a:t>作者：张之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新宋体"/>
              <a:ea typeface="新宋体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43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羚羊木雕是非洲艺术家以羚羊为形体用一种黑木雕刻成的工艺品。非洲木雕是非洲大陆具有代表性的、全世界都享有盛誉的工艺品，其文化、艺术价值很高。非洲很多国家元首出访，或欢迎来访的客人大多喜欢赠送木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1512" t="3024" r="1512" b="7591"/>
          <a:stretch/>
        </p:blipFill>
        <p:spPr>
          <a:xfrm>
            <a:off x="762120" y="4038480"/>
            <a:ext cx="2819160" cy="259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26090" t="15009" r="25758" b="16001"/>
          <a:stretch/>
        </p:blipFill>
        <p:spPr>
          <a:xfrm>
            <a:off x="5791320" y="685800"/>
            <a:ext cx="2590560" cy="24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495680" y="3962520"/>
          <a:ext cx="3924360" cy="21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962520"/>
                    <a:ext cx="3924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19051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  ① 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体感知课文，分角色朗读，体会人物思想感情。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②     联系生活，学会与父母、他人沟通，获得有益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180036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12200" y="47484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057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279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228600" cy="12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24080" y="2666880"/>
            <a:ext cx="193680" cy="1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191120" y="2666880"/>
            <a:ext cx="212760" cy="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733920" y="4572000"/>
            <a:ext cx="228600" cy="1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990720" y="3505320"/>
            <a:ext cx="237960" cy="10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6560" y="39513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着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颤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4038480" y="3657600"/>
            <a:ext cx="176400" cy="8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990720" y="4572000"/>
            <a:ext cx="198360" cy="9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4120" y="308628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12408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4479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14479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13716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95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8862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8195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9625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7600" y="205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脸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4520" y="14479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8640" y="1981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犄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22280" y="1447920"/>
            <a:ext cx="5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06240" y="205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38080" y="1371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5943600" y="2743200"/>
            <a:ext cx="212760" cy="9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6858000" y="2743200"/>
            <a:ext cx="212760" cy="9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8305920" y="2743200"/>
            <a:ext cx="212760" cy="9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352680" y="4800600"/>
            <a:ext cx="2362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颤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9920" y="3200400"/>
            <a:ext cx="2895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攥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4952880"/>
            <a:ext cx="2286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逮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492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给加点字注音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457200"/>
            <a:ext cx="883944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快速阅读课文，然后回答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为什么把羚羊木雕送给万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父母为什么一定要要回羚羊木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怎么看文中的父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假如你送给父母的礼物，父母把它送给了别人，你会怎么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4290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609480"/>
            <a:ext cx="815328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角色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声音清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语气符合角色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辅以表情动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73160"/>
            <a:ext cx="8610840" cy="6303960"/>
          </a:xfrm>
          <a:prstGeom prst="rect">
            <a:avLst/>
          </a:prstGeom>
          <a:ln w="0">
            <a:noFill/>
          </a:ln>
        </p:spPr>
      </p:pic>
      <p:pic>
        <p:nvPicPr>
          <p:cNvPr id="102" name="4137" descr="4137"/>
          <p:cNvPicPr/>
          <p:nvPr/>
        </p:nvPicPr>
        <p:blipFill>
          <a:blip r:embed="rId3"/>
          <a:stretch/>
        </p:blipFill>
        <p:spPr>
          <a:xfrm flipH="1">
            <a:off x="5943600" y="685800"/>
            <a:ext cx="266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>
            <a:lum bright="70000" contrast="-70000"/>
          </a:blip>
          <a:srcRect l="0" t="10018" r="760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06200" y="304920"/>
            <a:ext cx="90378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那只羚羊哪里去了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突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爸爸不是说给我了吗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小声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知道给你了，可是现在它在哪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把它收起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放在哪儿了？拿来我看看。要说实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不是拿出去卖了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十分严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有卖……我送人了。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声音发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送给谁了？告诉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送给万芳了，她是我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最好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朋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现在就去把它要回来！那么贵重的东西怎么能随便送人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要不我和你一起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！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哭着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爸爸：小朋友之间不是不可以送东西，但是，要看什么样的东西。这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贵重的东西不象一块点心一盒糖，怎么能自作主张呢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声音平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您已经给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爸爸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的，这是爸爸给你的，可并没有允许你拿去送人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6:02:53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