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gif" ContentType="image/gi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方正舒体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AB21-27BE-4E2D-97F9-05152686E72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封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播放《朋友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到“讨论交流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？‘链接到〈你知道吗〉进行法律知识渗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回家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片尾 放〈朋友〉音乐（周华健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链接相应的教学内容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张之路（作者介绍）——生字音形——朗读课文——情节结构——讨论交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情节”两字链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flash.exe(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请拖动人物摆在适当的位置）；“结构”两字链接〈书信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FA86-8FDF-4B22-86A9-89E79FED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3DD0-438C-406D-B662-8EA12773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B30-8DFE-4A91-BE27-30D091DB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DE6-FCDA-432C-89C3-02F32E1F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16AE-0D5D-4CEC-8201-BD99AA82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7C3F-4FB1-47B3-975B-9D6F2F7E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E579-63EB-4842-8697-9E323F82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B87B-3382-4611-BE78-87C6473B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5C37-7A7E-49FA-BFFC-ECF52D9F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5F04-506D-4BE9-B8B1-547DD8E4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B22B-00AB-4817-AF42-5665A618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F1D9-CBFE-4B5D-9344-157D31BC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45D4-C7B0-43D3-A69A-170D243F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6224-EC7C-4366-B57B-48FE99D7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2948-A53B-4101-B88A-1360C260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8E27-9131-43AC-AF49-91D48261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3779-9E42-4771-B0C1-F984F44C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8A2-5DBF-442A-B6AB-CF28909A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1CF-4C6D-4D2B-BE72-73AF75DB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149-B49A-4006-B66D-B592C273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155-5556-47D0-8E85-5E855D48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601-C29D-4767-8B26-D3B163CB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70B4-5654-4DE6-A2F5-3F5B5E4E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17E-3EF6-4CD3-8016-C2CE1C14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方正舒体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236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  <a:p>
            <a:pPr lvl="1" marL="743040" indent="-285840">
              <a:spcBef>
                <a:spcPts val="799"/>
              </a:spcBef>
              <a:buClr>
                <a:srgbClr val="626292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  <a:p>
            <a:pPr lvl="2" marL="1143000" indent="-228600">
              <a:spcBef>
                <a:spcPts val="799"/>
              </a:spcBef>
              <a:buClr>
                <a:srgbClr val="a236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  <a:p>
            <a:pPr lvl="3" marL="1600200" indent="-228600">
              <a:spcBef>
                <a:spcPts val="799"/>
              </a:spcBef>
              <a:buClr>
                <a:srgbClr val="626292"/>
              </a:buClr>
              <a:buSzPct val="115000"/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  <a:p>
            <a:pPr lvl="4" marL="2057400" indent="-228600">
              <a:spcBef>
                <a:spcPts val="799"/>
              </a:spcBef>
              <a:buClr>
                <a:srgbClr val="a236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方正舒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方正舒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方正舒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方正舒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方正舒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0A08-7D83-4635-9669-3A3FD9875559}" type="slidenum">
              <a:rPr b="0" lang="zh-CN" sz="1400" spc="-1" strike="noStrike">
                <a:solidFill>
                  <a:srgbClr val="000000"/>
                </a:solidFill>
                <a:latin typeface="方正舒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方正舒体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方正舒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方正舒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方正舒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方正舒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方正舒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6F78-8D24-4F98-B6C8-C732E5C4842C}" type="slidenum">
              <a:rPr b="0" lang="zh-CN" sz="1400" spc="-1" strike="noStrike">
                <a:solidFill>
                  <a:srgbClr val="000000"/>
                </a:solidFill>
                <a:latin typeface="方正舒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7696080" y="6095880"/>
          <a:ext cx="406440" cy="38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6095880"/>
                    <a:ext cx="4064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836720"/>
            <a:ext cx="8077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亲爱的同学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你们好！终于盼到了能向你们求助的这一刻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有多烦恼、多痛苦，我不再累述。我现在急需你们帮我解开思想上的疙瘩，我把它列成了几个小问题，附在下一页。我热切地盼望着你们为我出主意，帮我走出困境。        祝你们学习愉快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你们的新朋友    露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2003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600200" cy="1559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010280" y="5562720"/>
            <a:ext cx="76320" cy="75960"/>
          </a:xfrm>
          <a:prstGeom prst="ellipse">
            <a:avLst/>
          </a:prstGeom>
          <a:solidFill>
            <a:srgbClr val="37a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67480" y="5486400"/>
            <a:ext cx="76320" cy="76320"/>
          </a:xfrm>
          <a:prstGeom prst="ellipse">
            <a:avLst/>
          </a:prstGeom>
          <a:solidFill>
            <a:srgbClr val="37a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15200" y="3200400"/>
            <a:ext cx="1447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6771bf"/>
                </a:solidFill>
                <a:latin typeface="Times New Roman"/>
                <a:ea typeface="楷体_GB2312"/>
              </a:rPr>
              <a:t>？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914400" y="56386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7ade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2067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00000" y="1125360"/>
            <a:ext cx="7239240" cy="30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  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爸爸送我羚羊木雕，我把它送给了好朋友。我这么做对吗？并告诉我你的理由，好吗 </a:t>
            </a:r>
            <a:r>
              <a:rPr b="0" lang="zh-CN" sz="3600" spc="-1" strike="noStrike" u="sng">
                <a:solidFill>
                  <a:srgbClr val="626292"/>
                </a:solidFill>
                <a:uFillTx/>
                <a:latin typeface="Times New Roman"/>
                <a:ea typeface="仿宋_GB2312"/>
                <a:hlinkClick r:id="rId2" action="ppaction://hlinksldjump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   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、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爸爸妈妈执意让我要回羚羊木雕，而奶奶却说“这不太好”。他们谁有道理呢？我好想听听你们的想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假如你是我，会因为有万芳这个朋友而庆幸吗？为什么？假如你是万芳，还会做我的好朋友吗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26292"/>
                </a:solidFill>
                <a:latin typeface="Times New Roman"/>
                <a:ea typeface="仿宋_GB2312"/>
              </a:rPr>
              <a:t>         </a:t>
            </a:r>
            <a:r>
              <a:rPr b="1" lang="zh-CN" sz="2800" spc="-1" strike="noStrike">
                <a:solidFill>
                  <a:srgbClr val="a2366c"/>
                </a:solidFill>
                <a:latin typeface="Times New Roman"/>
                <a:ea typeface="仿宋_GB2312"/>
              </a:rPr>
              <a:t>(</a:t>
            </a:r>
            <a:r>
              <a:rPr b="1" lang="zh-CN" sz="2800" spc="-1" strike="noStrike">
                <a:solidFill>
                  <a:srgbClr val="a2366c"/>
                </a:solidFill>
                <a:latin typeface="Times New Roman"/>
                <a:ea typeface="仿宋_GB2312"/>
              </a:rPr>
              <a:t>请同学们写一段话来表达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476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Arial"/>
              </a:rPr>
              <a:t>请讨论下列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7924680" y="6019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ff99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00200" y="1828800"/>
            <a:ext cx="6172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你遇到过类似的伤心事吗？是怎样处理的？能让我分享你的想法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05920" y="60199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2943" t="2986" r="0" b="0"/>
          <a:stretch/>
        </p:blipFill>
        <p:spPr>
          <a:xfrm>
            <a:off x="3276720" y="3124080"/>
            <a:ext cx="250668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14400" y="160020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国的《民法通则》对于自然人的民事权利能力和民事行为能力有明确的规定。《民法通则》第十一条规定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岁以上的公民是成年人，具有完全的民事行为能力，可以独立进行民事活动。第十六条则规定未成年人的父母是未成年人的监护人。根据课文内容，“我”的年龄应该是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岁以下，因此“我”的行为应该得到法定监护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家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同意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057400" y="533520"/>
            <a:ext cx="28195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99ff"/>
                    </a:gs>
                    <a:gs pos="50000">
                      <a:srgbClr val="99ccff"/>
                    </a:gs>
                    <a:gs pos="100000">
                      <a:srgbClr val="ff99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你知道吗？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9ff"/>
                  </a:gs>
                  <a:gs pos="50000">
                    <a:srgbClr val="99ccff"/>
                  </a:gs>
                  <a:gs pos="100000">
                    <a:srgbClr val="ff99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5638680"/>
            <a:ext cx="685800" cy="45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方正舒体"/>
              </a:rPr>
              <a:t>小结</a:t>
            </a: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964720" cy="47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236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</a:rPr>
              <a:t>《羚羊木雕》展示了两种内心世界：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</a:rPr>
              <a:t>         “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</a:rPr>
              <a:t>我”珍惜友情，把羚羊木雕送给万芳；父母心中珍视的是羚羊木雕，逼“我”把羚羊木雕要回来，由此产生冲突。应该说，父母是有欠缺的，“我”也是有欠缺的。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  <a:p>
            <a:pPr marL="343080" indent="-343080">
              <a:spcBef>
                <a:spcPts val="799"/>
              </a:spcBef>
              <a:buClr>
                <a:srgbClr val="a236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</a:rPr>
              <a:t>作为中学生的我们，如果在生活中，学会沟通，让父母、他人理解自己，自己也努力去理解父母、他人，这样就能尽量避免出现文中的矛盾冲突。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</p:spTree>
  </p:cSld>
  <p:transition spd="slow">
    <p:wipe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71600" y="8380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Arial"/>
              </a:rPr>
              <a:t>家庭”作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2276640"/>
            <a:ext cx="6529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父母一起欣赏这篇小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父母一起探讨后，合理地改编某一部分的故事 情节，并工整地做到稿纸上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7924680" y="6019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ff99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761760"/>
            <a:ext cx="4686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方正舒体"/>
                <a:ea typeface="华文新魏"/>
              </a:rPr>
              <a:t>让我们休息一下</a:t>
            </a: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916360" y="2781360"/>
            <a:ext cx="31795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ff99ff"/>
                    </a:gs>
                    <a:gs pos="50000">
                      <a:srgbClr val="66ccff"/>
                    </a:gs>
                    <a:gs pos="100000">
                      <a:srgbClr val="ff99ff"/>
                    </a:gs>
                  </a:gsLst>
                  <a:lin ang="5400000"/>
                </a:gradFill>
                <a:latin typeface="隶书"/>
              </a:rPr>
              <a:t>谢谢大家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ff99ff"/>
                  </a:gs>
                  <a:gs pos="50000">
                    <a:srgbClr val="66ccff"/>
                  </a:gs>
                  <a:gs pos="100000">
                    <a:srgbClr val="ff99ff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3" action="ppaction://hlinksldjump"/>
          </p:cNvPr>
          <p:cNvSpPr/>
          <p:nvPr/>
        </p:nvSpPr>
        <p:spPr>
          <a:xfrm>
            <a:off x="7812000" y="6165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181480" y="23623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 u="sng">
                <a:solidFill>
                  <a:srgbClr val="626292"/>
                </a:solidFill>
                <a:uFillTx/>
                <a:latin typeface="Times New Roman"/>
                <a:ea typeface="Arial"/>
                <a:hlinkClick r:id="rId2" action="ppaction://hlinksldjump"/>
              </a:rPr>
              <a:t>张之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057400" y="457200"/>
            <a:ext cx="4952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羚羊木雕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048120" y="2209680"/>
            <a:ext cx="2790720" cy="236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59280" y="5157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体感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530064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26292"/>
                </a:solidFill>
                <a:uFillTx/>
                <a:latin typeface="Times New Roman"/>
                <a:hlinkClick r:id="rId4" action="ppaction://hlinksldjump"/>
              </a:rPr>
              <a:t>朗读课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386064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26292"/>
                </a:solidFill>
                <a:uFillTx/>
                <a:latin typeface="Times New Roman"/>
                <a:hlinkClick r:id="rId5" action="ppaction://hlinksldjump"/>
              </a:rPr>
              <a:t>生字音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3933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讨论交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324480" y="4648320"/>
            <a:ext cx="1905120" cy="161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26920" y="4724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言揣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30686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26292"/>
                </a:solidFill>
                <a:latin typeface="Arial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2924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00000" y="1628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1945</a:t>
            </a:r>
            <a:r>
              <a:rPr b="0" lang="zh-CN" sz="2800" spc="-1" strike="noStrike">
                <a:solidFill>
                  <a:srgbClr val="000066"/>
                </a:solidFill>
                <a:latin typeface="华文行楷"/>
              </a:rPr>
              <a:t>年 生于北京。现为中国电影集团策划部编审、一级编剧。国务院授予的有特殊贡献的专家、中国作协儿童文学委员会委员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4724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华文行楷"/>
              </a:rPr>
              <a:t>1997</a:t>
            </a:r>
            <a:r>
              <a:rPr b="0" lang="zh-CN" sz="2800" spc="-1" strike="noStrike">
                <a:solidFill>
                  <a:srgbClr val="000066"/>
                </a:solidFill>
                <a:latin typeface="华文行楷"/>
              </a:rPr>
              <a:t>年被入选中央电视台“东方之子”栏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3068640"/>
            <a:ext cx="698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华文行楷"/>
              </a:rPr>
              <a:t>       </a:t>
            </a:r>
            <a:r>
              <a:rPr b="0" lang="zh-CN" sz="2800" spc="-1" strike="noStrike">
                <a:solidFill>
                  <a:srgbClr val="000066"/>
                </a:solidFill>
                <a:latin typeface="华文行楷"/>
              </a:rPr>
              <a:t>电影剧本《霹雳贝贝》、《魔表》、《疯狂的兔子》，长篇小说《第三军团》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华文行楷"/>
              </a:rPr>
              <a:t>小说集《羚羊木雕》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78200" y="658800"/>
            <a:ext cx="18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华文行楷"/>
              </a:rPr>
              <a:t>张之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7924680" y="6019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ff99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方正舒体"/>
              </a:rPr>
              <a:t>教学目标</a:t>
            </a: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7129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236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26292"/>
                </a:solidFill>
                <a:latin typeface="方正舒体"/>
              </a:rPr>
              <a:t>（</a:t>
            </a:r>
            <a:r>
              <a:rPr b="0" lang="zh-CN" sz="3600" spc="-1" strike="noStrike">
                <a:solidFill>
                  <a:srgbClr val="626292"/>
                </a:solidFill>
                <a:latin typeface="方正舒体"/>
              </a:rPr>
              <a:t>1</a:t>
            </a:r>
            <a:r>
              <a:rPr b="0" lang="zh-CN" sz="3600" spc="-1" strike="noStrike">
                <a:solidFill>
                  <a:srgbClr val="626292"/>
                </a:solidFill>
                <a:latin typeface="方正舒体"/>
              </a:rPr>
              <a:t>）、有感情地朗读，体会课文的思想感情，从中获得对人生有益的启示。</a:t>
            </a:r>
            <a:endParaRPr b="0" lang="en-US" sz="3600" spc="-1" strike="noStrike">
              <a:solidFill>
                <a:srgbClr val="000000"/>
              </a:solidFill>
              <a:latin typeface="方正舒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236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26292"/>
                </a:solidFill>
                <a:latin typeface="方正舒体"/>
              </a:rPr>
              <a:t>（</a:t>
            </a:r>
            <a:r>
              <a:rPr b="0" lang="zh-CN" sz="3600" spc="-1" strike="noStrike">
                <a:solidFill>
                  <a:srgbClr val="626292"/>
                </a:solidFill>
                <a:latin typeface="方正舒体"/>
              </a:rPr>
              <a:t>2</a:t>
            </a:r>
            <a:r>
              <a:rPr b="0" lang="zh-CN" sz="3600" spc="-1" strike="noStrike">
                <a:solidFill>
                  <a:srgbClr val="626292"/>
                </a:solidFill>
                <a:latin typeface="方正舒体"/>
              </a:rPr>
              <a:t>）、学习并运用朗读的方法；运用自主、合作探究的学习方式。</a:t>
            </a:r>
            <a:endParaRPr b="0" lang="en-US" sz="3600" spc="-1" strike="noStrike">
              <a:solidFill>
                <a:srgbClr val="000000"/>
              </a:solidFill>
              <a:latin typeface="方正舒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236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26292"/>
                </a:solidFill>
                <a:latin typeface="方正舒体"/>
              </a:rPr>
              <a:t>（</a:t>
            </a:r>
            <a:r>
              <a:rPr b="0" lang="zh-CN" sz="3600" spc="-1" strike="noStrike">
                <a:solidFill>
                  <a:srgbClr val="626292"/>
                </a:solidFill>
                <a:latin typeface="方正舒体"/>
              </a:rPr>
              <a:t>3</a:t>
            </a:r>
            <a:r>
              <a:rPr b="0" lang="zh-CN" sz="3600" spc="-1" strike="noStrike">
                <a:solidFill>
                  <a:srgbClr val="626292"/>
                </a:solidFill>
                <a:latin typeface="方正舒体"/>
              </a:rPr>
              <a:t>）、联系生活实际，学习与父母沟通的方法。</a:t>
            </a:r>
            <a:endParaRPr b="0" lang="en-US" sz="36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7924680" y="6019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ff99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457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Arial"/>
              </a:rPr>
              <a:t>给下边加点的字注音，并注意字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24120" y="350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逮着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3240" y="3500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寒颤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828800"/>
            <a:ext cx="4562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56280" y="1976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犄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61040" y="1976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怦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23360" y="2052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树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1447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47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ē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1523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2997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zhà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29973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ǎ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666880"/>
            <a:ext cx="76320" cy="76320"/>
          </a:xfrm>
          <a:prstGeom prst="ellipse">
            <a:avLst/>
          </a:prstGeom>
          <a:solidFill>
            <a:srgbClr val="86b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86b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86b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79640" y="4221000"/>
            <a:ext cx="76320" cy="76320"/>
          </a:xfrm>
          <a:prstGeom prst="ellipse">
            <a:avLst/>
          </a:prstGeom>
          <a:solidFill>
            <a:srgbClr val="86b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35280" y="4221000"/>
            <a:ext cx="76320" cy="76320"/>
          </a:xfrm>
          <a:prstGeom prst="ellipse">
            <a:avLst/>
          </a:prstGeom>
          <a:solidFill>
            <a:srgbClr val="86b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7451640" y="595008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ff99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35002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攥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2924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zuà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4720" y="4221000"/>
            <a:ext cx="76320" cy="76320"/>
          </a:xfrm>
          <a:prstGeom prst="ellipse">
            <a:avLst/>
          </a:prstGeom>
          <a:solidFill>
            <a:srgbClr val="86b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9417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颤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9417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逮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4437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hà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48000" y="4437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à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5661000"/>
            <a:ext cx="76320" cy="76320"/>
          </a:xfrm>
          <a:prstGeom prst="ellipse">
            <a:avLst/>
          </a:prstGeom>
          <a:solidFill>
            <a:srgbClr val="86b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5661000"/>
            <a:ext cx="76320" cy="76320"/>
          </a:xfrm>
          <a:prstGeom prst="ellipse">
            <a:avLst/>
          </a:prstGeom>
          <a:solidFill>
            <a:srgbClr val="86b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595008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2366c"/>
                </a:solidFill>
                <a:latin typeface="方正舒体"/>
                <a:ea typeface="文鼎中楷P"/>
              </a:rPr>
              <a:t>注意字形</a:t>
            </a:r>
            <a:endParaRPr b="0" lang="en-US" sz="60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138" name=""/>
          <p:cNvSpPr/>
          <p:nvPr/>
        </p:nvSpPr>
        <p:spPr>
          <a:xfrm>
            <a:off x="7451640" y="595008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ff99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0920" y="981000"/>
            <a:ext cx="2736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楷体"/>
              </a:rPr>
              <a:t>犄</a:t>
            </a:r>
            <a:endParaRPr b="1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916360" y="3429000"/>
            <a:ext cx="29509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楷体"/>
              </a:rPr>
              <a:t>颤</a:t>
            </a:r>
            <a:endParaRPr b="1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940360" y="1197000"/>
            <a:ext cx="2808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楷体"/>
              </a:rPr>
              <a:t>攥</a:t>
            </a:r>
            <a:endParaRPr b="1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52480" y="1752480"/>
            <a:ext cx="609624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用普通话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读准字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不添字  不漏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不读破句子  停顿恰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吐字清楚   音量适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速度合宜   读出表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5160" y="835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Arial"/>
              </a:rPr>
              <a:t>朗读课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20827" t="6253" r="13238" b="37500"/>
          <a:stretch/>
        </p:blipFill>
        <p:spPr>
          <a:xfrm>
            <a:off x="5791320" y="4038480"/>
            <a:ext cx="1644480" cy="190512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3" action="ppaction://hlinksldjump"/>
          </p:cNvPr>
          <p:cNvSpPr/>
          <p:nvPr/>
        </p:nvSpPr>
        <p:spPr>
          <a:xfrm>
            <a:off x="7924680" y="6019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40e6e2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268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5445000"/>
            <a:ext cx="21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26292"/>
                </a:solidFill>
                <a:uFillTx/>
                <a:latin typeface="方正舒体"/>
                <a:hlinkClick r:id="rId4" action="ppaction://hlinksldjump"/>
              </a:rPr>
              <a:t>朗读基本要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方正舒体"/>
              </a:rPr>
              <a:t>朗读的基本要求</a:t>
            </a: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91440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236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</a:rPr>
              <a:t>一、 用普通话语音朗读；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  <a:p>
            <a:pPr marL="335880" indent="-335880">
              <a:spcBef>
                <a:spcPts val="799"/>
              </a:spcBef>
              <a:buClr>
                <a:srgbClr val="a236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</a:rPr>
              <a:t>二、 把握作品的基调；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  <a:p>
            <a:pPr marL="335880" indent="-335880">
              <a:spcBef>
                <a:spcPts val="799"/>
              </a:spcBef>
              <a:buClr>
                <a:srgbClr val="a236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</a:rPr>
              <a:t>三、 掌握朗读的基本技巧：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停顿  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标点符号停顿；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语法停顿；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感情停顿；</a:t>
            </a:r>
            <a:endParaRPr b="0" lang="en-US" sz="2800" spc="-1" strike="noStrike">
              <a:solidFill>
                <a:srgbClr val="000000"/>
              </a:solidFill>
              <a:latin typeface="方正舒体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重音  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语法重音；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强调重音；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感情重音；</a:t>
            </a:r>
            <a:endParaRPr b="0" lang="en-US" sz="2800" spc="-1" strike="noStrike">
              <a:solidFill>
                <a:srgbClr val="000000"/>
              </a:solidFill>
              <a:latin typeface="方正舒体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语速  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根据内容掌握语速；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根据体裁掌握语速；</a:t>
            </a:r>
            <a:endParaRPr b="0" lang="en-US" sz="2800" spc="-1" strike="noStrike">
              <a:solidFill>
                <a:srgbClr val="000000"/>
              </a:solidFill>
              <a:latin typeface="方正舒体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语调  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高升调；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降抑调；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平直调；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曲折调；</a:t>
            </a:r>
            <a:endParaRPr b="0" lang="en-US" sz="28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149" name=""/>
          <p:cNvSpPr/>
          <p:nvPr/>
        </p:nvSpPr>
        <p:spPr>
          <a:xfrm>
            <a:off x="8172360" y="587700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40e6e2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268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方正舒体"/>
              </a:rPr>
              <a:t>语言揣摩</a:t>
            </a: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2421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</a:rPr>
              <a:t>紧紧地盯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2436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</a:rPr>
              <a:t>低着头不敢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32000" y="3068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</a:rPr>
              <a:t>十分严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6000" y="2997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</a:rPr>
              <a:t>一动不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386064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舒体"/>
              </a:rPr>
              <a:t>妈妈的语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59280" y="386064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舒体"/>
              </a:rPr>
              <a:t>孩子的语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4653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</a:rPr>
              <a:t>咄咄逼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</a:rPr>
              <a:t>声音有些发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1640" y="5300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</a:rPr>
              <a:t>坚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373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</a:rPr>
              <a:t>哭着喊了起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57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舒体"/>
              </a:rPr>
              <a:t>孩子的神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700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舒体"/>
              </a:rPr>
              <a:t>妈妈的神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7924680" y="6019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ff99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02:17:37Z</dcterms:created>
  <dc:creator>wutao</dc:creator>
  <dc:description/>
  <dc:language>en-US</dc:language>
  <cp:lastModifiedBy>a</cp:lastModifiedBy>
  <dcterms:modified xsi:type="dcterms:W3CDTF">2004-12-16T06:04:00Z</dcterms:modified>
  <cp:revision>100</cp:revision>
  <dc:subject/>
  <dc:title>PowerPoint 演示文稿</dc:title>
</cp:coreProperties>
</file>