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A837-68A6-4275-AB22-243D4D76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E99-C9BF-4708-AE04-1078EABF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10A-FDDD-45A0-8F82-0A40C63D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AC8-34A7-43D5-A8C0-2E64E937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0C2C-FFF3-4924-9625-2F0FE280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4AAE-7726-4E7B-8BB3-B6948972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6125-CFB6-43D2-AF91-BF662C6C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BC0F-2E05-4FD5-8C79-B24A266C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0475-255C-47A4-98DA-6C865730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C29D-4625-4950-9BA9-79358745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484B-170B-431C-A850-7EE05B8C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FF6-289A-4D5B-80F6-96EB6302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B076-6249-4A2E-B8EC-EC50B0886F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2895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朋友》那首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 rot="5400000">
            <a:off x="754560" y="1413360"/>
            <a:ext cx="3529080" cy="22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朋友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51280" y="177336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33"/>
                </a:solidFill>
                <a:latin typeface="Times New Roman"/>
              </a:rPr>
              <a:t>谈点看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333360"/>
            <a:ext cx="3672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七嘴八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76212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你有类似的经历吗？介绍给大家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2943" t="2986" r="0" b="0"/>
          <a:stretch/>
        </p:blipFill>
        <p:spPr>
          <a:xfrm>
            <a:off x="457200" y="3200400"/>
            <a:ext cx="250668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2195640" y="2637000"/>
            <a:ext cx="2790720" cy="2363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828800" y="380880"/>
            <a:ext cx="4952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羚羊木雕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25909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张之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8229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228600"/>
            <a:ext cx="73152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，整体感知课文，分角色朗读，体会人物思想感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，联系生活，学会与父母、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他人沟通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20827" t="6253" r="13238" b="37500"/>
          <a:stretch/>
        </p:blipFill>
        <p:spPr>
          <a:xfrm>
            <a:off x="0" y="4952880"/>
            <a:ext cx="164448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467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66680" y="3049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有同学愿意告诉我们文章介绍了一个什么样的故事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9107" r="0" b="0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8895" r="0" b="0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72200" y="304920"/>
            <a:ext cx="29718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就同学们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读时的神态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语气，看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们是否读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了人物的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感以及对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事的态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讨论下列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32720" y="10666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你怎么看文中的父母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97440" y="1981080"/>
            <a:ext cx="49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父母为什么一定要要回羚羊木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7400" y="2895480"/>
            <a:ext cx="16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父亲为什么要把羚羊木雕送给“我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95640" y="3809880"/>
            <a:ext cx="445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假如你送给父母的礼物，父母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它送给了别人，你会怎么想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2578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怎样才能避免这一类不愉快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事情发生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14400" y="3049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探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90320" y="1419120"/>
            <a:ext cx="456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女儿既然把羚羊木雕送给了万芳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认为事情怎么处理才妥当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65760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你如果遇到类似“我”那样 的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心事，会怎样处理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447920"/>
            <a:ext cx="8763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在生活中让我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多一些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____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少一些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____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多一些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____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少一些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____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多一些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____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少一些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____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多一些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____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少一些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____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多一些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____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少一些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____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93800" y="3808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根据课文所学内容填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3160" y="27432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理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08480" y="27432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争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3160" y="3429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理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3160" y="41148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理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3160" y="47242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理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79480" y="54100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理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08480" y="3429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埋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08480" y="41148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猜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84800" y="47242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摩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2160" y="54100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忧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12:59:56Z</dcterms:created>
  <dc:creator>wutao</dc:creator>
  <dc:description/>
  <dc:language>en-US</dc:language>
  <cp:lastModifiedBy>a</cp:lastModifiedBy>
  <dcterms:modified xsi:type="dcterms:W3CDTF">2004-12-16T06:04:48Z</dcterms:modified>
  <cp:revision>100</cp:revision>
  <dc:subject/>
  <dc:title>PowerPoint 演示文稿</dc:title>
</cp:coreProperties>
</file>