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268-5A31-4C3F-91EF-EB150D9D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F4A-DB9F-47BE-8DC7-8FB8DBF7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BA62D-6867-4D59-B57D-55F9F6B3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49778-A37F-4A98-9082-CA5272C0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0D9DE-5E36-490C-8449-3B4A3505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DF81A-F577-4DA8-8886-3A7B4A7F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057E8-B0FC-4014-B279-2E98EBEF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58473-4D21-4329-8488-2BA400EF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C9425-A0D2-48C2-B18A-C16C5285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99C81-E94C-4A5E-A469-62391603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CC3EF-8E84-42FF-AD65-6ED0CF3C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C6E1C-50DF-4D18-8BC8-764787EF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C51-F106-4483-A766-9004F18B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02A21-6230-4194-AA34-50D7CB0E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E56E3-1800-4420-A3C4-226BCF77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9326C-FC15-46AB-AE90-8A7F4708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80A91-876A-40C0-9D20-277EB875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BFC1E-08C1-49CB-BFCE-8E3F1CF0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33FE9-58D6-4718-8F44-A45797DD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4E782-5A21-4353-A2F1-30F4E4B9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391AA-E30D-4358-8148-6C26FE03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F9F05-97DC-4BBD-9821-11842035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B7B3C-37AC-479C-9E47-35D59A95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6A3-3D94-42E9-8F34-7A5B4A1A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00D9E-1853-4710-9319-3239000B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4788-3885-42B8-9E4A-14652D0C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980C-7441-46F7-81E9-7205292C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15C7-BB56-43CE-B11E-05A99A8D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6F69-8009-45E8-B9E2-EC929B3F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6C0B-711C-4B3A-B9DF-3FC90EBB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DE46-5A6C-455D-9ED3-9F7CFA85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14A7-01F3-48F8-A1AF-E6265A17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391-2C5F-419F-9F5D-DFFC30CF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5877-9347-4BB4-9919-9C223EFD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744C-544B-44BB-983F-CFEC6256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8862-1FE7-4087-AB67-415F13EB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13D0-9DA7-4E6A-B1B9-6EA837DF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E28D-98BF-4AF2-9B90-EE06639B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899D-2F76-4F76-9B2D-181FBF1D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603CF-5482-4B76-924E-8AECD609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B60A-D293-491A-9CAC-0C0F4F2F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F73C-5DC4-4857-9202-B919759E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73709-6469-4FCD-BDFB-800996C8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1B6-A9A2-4ED2-9BA9-2EC734D7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141D-4340-4CC5-B3E5-444B7B6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04AD-CAAD-4D87-AD82-7CC55275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9CF6-F2DA-445A-B47B-BEAADCBF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2CFD-08A7-479C-B564-FB9BA855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8B0B-15A8-4EC1-81BA-5480E0DD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F610F-F659-43C9-ADBD-0FE19BE2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21DA-CFBD-4129-9410-374DA827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C941D-860F-432F-815F-55863052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3F03-E800-4B36-B82E-EA36870A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0B81-F0D9-4046-A9C6-85924A35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8A5-AB8E-4846-9639-CB012ABC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F1F9B-2D5A-4091-BFAD-42059D4D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08AAC-44CB-45ED-86CB-8F3F31C7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1905-877F-4FFD-8781-E68F3CB6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8F88-4465-4FAE-851A-16DB2248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83A95-3023-45A5-A5D4-4659B9CA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E6BD3-264A-4E9E-BB23-398A8837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B939-A470-44A7-A254-10A5BE2F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F060-EB33-410B-AAB3-744C889A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A0F4-1D6F-467D-88CE-F67BA070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285D1-682A-4546-B0C0-00177E21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75B-940D-4025-AFFF-1005D88B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4F9A2-D618-4A11-9948-D2F79278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4B46E-70DA-47B5-8C4A-F9704F21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DE5A9-61D1-47E0-A780-2B3D26E3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ECC3-27ED-46C5-8176-3BABF0E5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DD9D8-85AD-4570-B6C4-94E0EF6A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029BF-7A4F-498D-A6D2-6F2D3DDC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85E08-6A22-4753-A78A-CA0474D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DACE2-161A-4EAD-AA90-9F862C0F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F2F8-E9DB-4182-85BA-82113DDE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BCE04-E389-4F9E-AEBC-AA1B908B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5E6-5093-4B18-BF50-CA1D5E29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3A70E-02B9-4777-ADD2-9204F5F1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EB3AE-2D6B-441E-8B76-665598FA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E7AA7-B7DF-437D-B818-685B815D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AAB06-7E9A-4DA2-B8B5-8B917F96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B1990-5D02-42A4-8595-22A8A1BC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EFD2C-00E1-4F95-968C-3E3CC486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5875E-0DF4-4ABC-962A-5FD0E375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4D3F6-9589-4ADE-AFFE-7B9AEFA3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EB8A-2CA4-4046-9DC8-AD4ED8CA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89DB4-7250-4A01-9EBA-B6C9C556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6C8-CB99-4E4D-AD9D-05DC8DF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55AAE-4D3F-4257-AD5D-D6016153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4DBB2-2A46-424B-8DED-510B6FF6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41019-F089-46EB-BC48-CBC52299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DDFBC-3B7C-423E-BF92-D2393904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A3C4-2FC5-4F08-BF65-F3D804FB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E4017-0D8A-418C-BF02-C9135DBC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4211F-4F66-4F3F-B913-264D47E1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94170-7D2C-42F8-9AF3-1CCC3E84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7CB50-9C2F-437D-AF06-3913812A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19FAD-E5EA-468D-9D0F-FA0F73C6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CE9-9238-4858-9626-65A6E043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7B997-7C19-4C3D-B85E-506831F0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1FF37-3F7F-4132-A941-B3A07676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3D1C3-742F-437A-88E9-D3F2DD25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132DE-78CB-4006-A0DB-718CE7FF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BE737-2514-45BA-88A2-C2A24A91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5464D-6E44-4422-9368-BE710D20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8F1D3-7A71-4D4A-9409-10713AE0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6FFBF-1EEF-4495-A664-C06F1119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C906C-41C5-4E3F-889B-5731B5D4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165EB-9C19-4690-8609-8037E34B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737-026F-4D43-B13D-E16B3CD5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CF6B1-ECB5-45FF-A51A-C30CE722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2D2BE-4547-4DD5-8817-BA6AEE61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1953-C213-4DA2-A6DB-F3644496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3F3FC-6C1C-487A-A033-828AC274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9AC8-3D98-4C6C-90BB-79AF1AC6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95756-0916-4699-B453-B34262E0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53799-91BA-434E-91F0-6E3E7795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DA11D-1665-4872-B41C-5B072F96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5DC48-08E4-4393-B1AF-7CFEB924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79903-9BD0-49A0-9E1B-CA07AC6C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DD66-C5C8-4629-B4CE-B558C64E448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E0C2-1303-46C0-8061-C3E868211BF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9E09-0E81-4C33-BCE6-A0A51461887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EFA0-B3C2-4040-8952-97B58735CB7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73AE-AAF3-452F-A400-5A4D03DF88B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3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CD27-E796-45D5-9D0E-573DF25A72B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D5ED-C4EF-4DEC-B716-4BA249D57FC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F9B0-D996-4E81-BA7B-BFA810BC1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5CED-E8FB-4089-943D-E61E1BFA8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0071-4562-4FC2-B481-0DCBC54C3DB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" Target="slide4.xml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619280" y="260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Verdana"/>
                <a:ea typeface="楷体_GB2312"/>
              </a:rPr>
              <a:t>欢 迎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19280" y="256536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33cc"/>
                </a:solidFill>
                <a:latin typeface="Verdana"/>
              </a:rPr>
              <a:t>光临指导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2"/>
          <a:srcRect l="0" t="889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2"/>
          <a:srcRect l="0" t="1001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">
            <a:hlinkClick r:id="rId3" action="ppaction://hlinksldjump"/>
          </p:cNvPr>
          <p:cNvSpPr/>
          <p:nvPr/>
        </p:nvSpPr>
        <p:spPr>
          <a:xfrm>
            <a:off x="845964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2124000" cy="5157720"/>
          </a:xfrm>
          <a:prstGeom prst="rect">
            <a:avLst/>
          </a:prstGeom>
          <a:solidFill>
            <a:srgbClr val="f1e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32000" y="220500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24000" y="0"/>
            <a:ext cx="7020000" cy="6858000"/>
          </a:xfrm>
          <a:prstGeom prst="rect">
            <a:avLst/>
          </a:prstGeom>
          <a:solidFill>
            <a:srgbClr val="e8d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0920" y="404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方正舒体"/>
              </a:rPr>
              <a:t>超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26920" y="2997360"/>
            <a:ext cx="86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Verdana"/>
                <a:ea typeface="华文行楷"/>
              </a:rPr>
              <a:t>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6920" y="4005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华文行楷"/>
              </a:rPr>
              <a:t>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95640" y="1125360"/>
            <a:ext cx="655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．针对这样一场家庭冲突谈谈你的看法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参考角度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对父母逼“我”取回木雕的做法；对“我”送木雕给万芳的做法；怎样避免不愉快事情发生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．你有没有遇到类似的烦恼？你是怎么处理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03280" y="189000"/>
            <a:ext cx="1944720" cy="10792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900000" y="692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老师的话</a:t>
            </a:r>
            <a:r>
              <a:rPr b="1" lang="en-US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32000" y="1413000"/>
            <a:ext cx="662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父母深爱孩子，把珍贵的羚羊木雕送给孩子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;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孩子珍视友情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又把羚羊木雕送给最好的朋友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亲情、友情都是世间最美好、最珍贵的情感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之所以发生不愉快的事情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是因为缺乏沟通和理解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遇事考虑不周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如果彼此多些尊重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多些体谅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就不会发生这样的事情了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愿我们都拥有珍贵的亲情和友情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愿我们都珍惜美好的亲情和友情</a:t>
            </a:r>
            <a:r>
              <a:rPr b="0" lang="en-US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02800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187280" y="620640"/>
            <a:ext cx="3889440" cy="916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彩云"/>
              </a:rPr>
              <a:t>课外任务</a:t>
            </a: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2492280"/>
            <a:ext cx="5977080" cy="82512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给文中的小姑娘写一封信，安慰她，开导她，并告诉她你的想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556000" y="2205000"/>
            <a:ext cx="3666960" cy="330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82" name=""/>
          <p:cNvSpPr/>
          <p:nvPr/>
        </p:nvSpPr>
        <p:spPr>
          <a:xfrm>
            <a:off x="1403280" y="630864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95280" y="1627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犄角（   ）   兜里（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挽回（   ）   逮着（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不禁（   ）   寒颤（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反悔（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）   怦怦（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树杈（   ）   攥着</a:t>
            </a: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（    ）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71640" y="170028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56000" y="263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ǎ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56000" y="35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450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u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56000" y="54450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3272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ō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803280" y="263700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ǎ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32720" y="3645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59640" y="4437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ē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32720" y="5445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zu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2484360" cy="11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彩云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0"/>
            <a:ext cx="2050920" cy="98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16000" y="333360"/>
            <a:ext cx="20890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71640" y="404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彩云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124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10" h="21600">
                <a:moveTo>
                  <a:pt x="13511" y="14281"/>
                </a:moveTo>
                <a:lnTo>
                  <a:pt x="13511" y="12323"/>
                </a:lnTo>
                <a:cubicBezTo>
                  <a:pt x="13511" y="11496"/>
                  <a:pt x="13841" y="10800"/>
                  <a:pt x="14442" y="10800"/>
                </a:cubicBezTo>
                <a:cubicBezTo>
                  <a:pt x="15573" y="10800"/>
                  <a:pt x="16470" y="9434"/>
                  <a:pt x="16470" y="7849"/>
                </a:cubicBezTo>
                <a:cubicBezTo>
                  <a:pt x="16470" y="5534"/>
                  <a:pt x="14616" y="3794"/>
                  <a:pt x="12405" y="3794"/>
                </a:cubicBezTo>
                <a:cubicBezTo>
                  <a:pt x="10194" y="3794"/>
                  <a:pt x="8523" y="5534"/>
                  <a:pt x="8523" y="7849"/>
                </a:cubicBezTo>
                <a:lnTo>
                  <a:pt x="10377" y="7849"/>
                </a:lnTo>
                <a:cubicBezTo>
                  <a:pt x="10377" y="6709"/>
                  <a:pt x="11300" y="5821"/>
                  <a:pt x="12405" y="5821"/>
                </a:cubicBezTo>
                <a:cubicBezTo>
                  <a:pt x="13511" y="5821"/>
                  <a:pt x="14442" y="6709"/>
                  <a:pt x="14442" y="7849"/>
                </a:cubicBezTo>
                <a:cubicBezTo>
                  <a:pt x="14442" y="8589"/>
                  <a:pt x="13972" y="9320"/>
                  <a:pt x="13511" y="9320"/>
                </a:cubicBezTo>
                <a:cubicBezTo>
                  <a:pt x="12405" y="9320"/>
                  <a:pt x="11300" y="10800"/>
                  <a:pt x="11300" y="12323"/>
                </a:cubicBezTo>
                <a:lnTo>
                  <a:pt x="11300" y="142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" y="1279440"/>
            <a:ext cx="35290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犄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仗义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形影不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挽回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寒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反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光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48000" y="1268280"/>
            <a:ext cx="540072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物体两个边沿相接的地方，本课指桌面的两个边沿相接的地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讲义气。仗：拿着，引申为主持、讲求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成语。像物体跟它的影子那样分不开，形容彼此关系密切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扭转已成的不利局面。挽：拉，引申为扭转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寒噤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In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，本课指因受冷而身体颤动。［注意］也作“寒战”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对以前允诺的事后悔而不承认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形容词。原指颜色和光泽，也用来比喻光荣。本课指后者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8000" y="1557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79640" y="25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43280" y="31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08000" y="407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08000" y="465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08000" y="5516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35280" y="6381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Verdana"/>
              </a:rPr>
              <a:t>羚羊木雕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219280" y="4941720"/>
            <a:ext cx="2521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行楷"/>
              </a:rPr>
              <a:t>张之路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">
            <a:hlinkClick r:id="rId2" action="ppaction://hlinksldjump"/>
          </p:cNvPr>
          <p:cNvSpPr/>
          <p:nvPr/>
        </p:nvSpPr>
        <p:spPr>
          <a:xfrm>
            <a:off x="7596360" y="5157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2733840" cy="627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03dff"/>
                </a:solidFill>
                <a:latin typeface="Comic Sans MS"/>
                <a:ea typeface="方正姚体"/>
              </a:rPr>
              <a:t>张之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1945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年出生。山东诸城人。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1968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年毕业于北京师范学院物理系。曾任中学教师多年，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1982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年调中国儿童电影制片厂，现任该厂文学部主任。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1977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年开始发表小说、话剧，著有长篇小说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第三军团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，电影剧本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霹雳贝贝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，小说集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羚羊木雕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等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484360" y="0"/>
            <a:ext cx="6659640" cy="6858000"/>
          </a:xfrm>
          <a:prstGeom prst="rect">
            <a:avLst/>
          </a:prstGeom>
          <a:solidFill>
            <a:srgbClr val="fdc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62064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彩云"/>
                <a:ea typeface="华文彩云"/>
              </a:rPr>
              <a:t>课内任务</a:t>
            </a:r>
            <a:r>
              <a:rPr b="1" lang="en-US" sz="6000" spc="-1" strike="noStrike">
                <a:solidFill>
                  <a:srgbClr val="000000"/>
                </a:solidFill>
                <a:latin typeface="华文彩云"/>
                <a:ea typeface="华文彩云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64000" y="1989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初级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635280" y="328464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高级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08360" y="458136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超级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>
            <a:hlinkClick r:id="rId1" action="ppaction://hlinksldjump"/>
          </p:cNvPr>
          <p:cNvSpPr/>
          <p:nvPr/>
        </p:nvSpPr>
        <p:spPr>
          <a:xfrm>
            <a:off x="6300720" y="227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12591" y="3837"/>
                </a:moveTo>
                <a:lnTo>
                  <a:pt x="15167" y="6448"/>
                </a:lnTo>
                <a:lnTo>
                  <a:pt x="15167" y="4707"/>
                </a:lnTo>
                <a:lnTo>
                  <a:pt x="16943" y="4707"/>
                </a:lnTo>
                <a:lnTo>
                  <a:pt x="16943" y="8224"/>
                </a:lnTo>
                <a:lnTo>
                  <a:pt x="19554" y="10800"/>
                </a:lnTo>
                <a:lnTo>
                  <a:pt x="17900" y="10800"/>
                </a:lnTo>
                <a:lnTo>
                  <a:pt x="17900" y="17989"/>
                </a:lnTo>
                <a:lnTo>
                  <a:pt x="7282" y="17989"/>
                </a:lnTo>
                <a:lnTo>
                  <a:pt x="7282" y="10800"/>
                </a:lnTo>
                <a:lnTo>
                  <a:pt x="5628" y="10800"/>
                </a:lnTo>
                <a:close/>
              </a:path>
              <a:path fill="darkenLess" w="25182" h="21600">
                <a:moveTo>
                  <a:pt x="15167" y="6448"/>
                </a:moveTo>
                <a:lnTo>
                  <a:pt x="15167" y="4707"/>
                </a:lnTo>
                <a:lnTo>
                  <a:pt x="16943" y="4707"/>
                </a:lnTo>
                <a:lnTo>
                  <a:pt x="16943" y="8224"/>
                </a:lnTo>
                <a:close/>
              </a:path>
              <a:path fill="darkenLess" w="25182" h="21600">
                <a:moveTo>
                  <a:pt x="11668" y="14299"/>
                </a:moveTo>
                <a:lnTo>
                  <a:pt x="13514" y="14299"/>
                </a:lnTo>
                <a:lnTo>
                  <a:pt x="13514" y="17989"/>
                </a:lnTo>
                <a:lnTo>
                  <a:pt x="17900" y="17989"/>
                </a:lnTo>
                <a:lnTo>
                  <a:pt x="17900" y="10800"/>
                </a:lnTo>
                <a:lnTo>
                  <a:pt x="7282" y="10800"/>
                </a:lnTo>
                <a:lnTo>
                  <a:pt x="7282" y="17989"/>
                </a:lnTo>
                <a:lnTo>
                  <a:pt x="11668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rId2" action="ppaction://hlinksldjump"/>
          </p:cNvPr>
          <p:cNvSpPr/>
          <p:nvPr/>
        </p:nvSpPr>
        <p:spPr>
          <a:xfrm>
            <a:off x="6300720" y="350028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5"/>
                </a:moveTo>
                <a:lnTo>
                  <a:pt x="13376" y="6456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8"/>
                </a:lnTo>
                <a:lnTo>
                  <a:pt x="16109" y="10808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8"/>
                </a:lnTo>
                <a:lnTo>
                  <a:pt x="3837" y="10808"/>
                </a:lnTo>
                <a:close/>
              </a:path>
              <a:path fill="darkenLess" w="21600" h="21615">
                <a:moveTo>
                  <a:pt x="13376" y="6456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7"/>
                </a:moveTo>
                <a:lnTo>
                  <a:pt x="11723" y="14307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8"/>
                </a:lnTo>
                <a:lnTo>
                  <a:pt x="5491" y="10808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>
            <a:hlinkClick r:id="rId3" action="ppaction://hlinksldjump"/>
          </p:cNvPr>
          <p:cNvSpPr/>
          <p:nvPr/>
        </p:nvSpPr>
        <p:spPr>
          <a:xfrm>
            <a:off x="6300720" y="4797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124000" y="33336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0"/>
            <a:ext cx="1979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1844640"/>
            <a:ext cx="2124000" cy="501336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-442440" y="3213000"/>
            <a:ext cx="2009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初级任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5640" y="1844640"/>
            <a:ext cx="0" cy="1224000"/>
          </a:xfrm>
          <a:prstGeom prst="line">
            <a:avLst/>
          </a:prstGeom>
          <a:ln w="76320">
            <a:solidFill>
              <a:srgbClr val="e400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16000" y="1844640"/>
            <a:ext cx="0" cy="936720"/>
          </a:xfrm>
          <a:prstGeom prst="line">
            <a:avLst/>
          </a:prstGeom>
          <a:ln w="76320">
            <a:solidFill>
              <a:srgbClr val="e400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24000" y="0"/>
            <a:ext cx="7020000" cy="6858000"/>
          </a:xfrm>
          <a:prstGeom prst="rect">
            <a:avLst/>
          </a:prstGeom>
          <a:solidFill>
            <a:srgbClr val="e8d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95640" y="333360"/>
            <a:ext cx="6948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选择你喜欢的方式快速浏览课文，然后围绕以下话题展开讨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．说说文章为什么以“羚羊木雕”为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．文章写了发生在三个时间的三件事：哪三件事？作者是怎样布局的？这样布局有何好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．作者运用哪些方法来刻画人物？这样描写有何好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187280" y="62064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43280" y="62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地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427640" y="62064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人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43640" y="620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32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今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87640" y="177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家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00720" y="1341360"/>
            <a:ext cx="1152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妈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爸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奶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我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00720" y="177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逼“我”取回木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58920" y="357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昨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87640" y="357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家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84720" y="3429000"/>
            <a:ext cx="143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我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万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43640" y="3573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送羚羊木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58920" y="4941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上星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16360" y="49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56000" y="4797360"/>
            <a:ext cx="100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我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万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43640" y="4797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Verdana"/>
              </a:rPr>
              <a:t>万芳拿自己的新裤子换“我”的破裤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84360" y="3141720"/>
            <a:ext cx="3959280" cy="0"/>
          </a:xfrm>
          <a:prstGeom prst="line">
            <a:avLst/>
          </a:prstGeom>
          <a:ln w="3816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924280"/>
            <a:ext cx="1511280" cy="1871640"/>
          </a:xfrm>
          <a:prstGeom prst="cloudCallout">
            <a:avLst>
              <a:gd name="adj1" fmla="val 43699"/>
              <a:gd name="adj2" fmla="val 7069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0920" y="3068640"/>
            <a:ext cx="7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</a:rPr>
              <a:t>插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0920" y="4581360"/>
            <a:ext cx="288720" cy="1584360"/>
          </a:xfrm>
          <a:custGeom>
            <a:avLst/>
            <a:gdLst>
              <a:gd name="textAreaLeft" fmla="*/ 38520 w 288720"/>
              <a:gd name="textAreaRight" fmla="*/ 250200 w 28872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9640" y="5877000"/>
            <a:ext cx="3240360" cy="576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9640" y="5877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Verdana"/>
                <a:ea typeface="华文新魏"/>
              </a:rPr>
              <a:t>情节紧凑，波澜起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564000" y="20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Verdana"/>
              </a:rPr>
              <a:t>语言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67280" y="2708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Verdana"/>
              </a:rPr>
              <a:t>动作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0" y="3357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Verdana"/>
              </a:rPr>
              <a:t>心理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63640" y="105264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华文新魏"/>
              </a:rPr>
              <a:t>人物描写</a:t>
            </a:r>
            <a:r>
              <a:rPr b="1" lang="en-US" sz="4800" spc="-1" strike="noStrike">
                <a:solidFill>
                  <a:srgbClr val="0033cc"/>
                </a:solidFill>
                <a:latin typeface="Verdana"/>
                <a:ea typeface="华文新魏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76720" y="4076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神态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rId2" action="ppaction://hlinksldjump"/>
          </p:cNvPr>
          <p:cNvSpPr/>
          <p:nvPr/>
        </p:nvSpPr>
        <p:spPr>
          <a:xfrm>
            <a:off x="7093080" y="4292640"/>
            <a:ext cx="358560" cy="28872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818" h="21600">
                <a:moveTo>
                  <a:pt x="0" y="0"/>
                </a:moveTo>
                <a:lnTo>
                  <a:pt x="26818" y="0"/>
                </a:lnTo>
                <a:lnTo>
                  <a:pt x="26818" y="21600"/>
                </a:lnTo>
                <a:lnTo>
                  <a:pt x="0" y="21600"/>
                </a:lnTo>
                <a:close/>
              </a:path>
              <a:path fill="lightenLess" w="26818" h="21600">
                <a:moveTo>
                  <a:pt x="0" y="0"/>
                </a:moveTo>
                <a:lnTo>
                  <a:pt x="26818" y="0"/>
                </a:lnTo>
                <a:lnTo>
                  <a:pt x="25418" y="1400"/>
                </a:lnTo>
                <a:lnTo>
                  <a:pt x="1400" y="1400"/>
                </a:lnTo>
                <a:close/>
              </a:path>
              <a:path fill="darken" w="26818" h="21600">
                <a:moveTo>
                  <a:pt x="26818" y="0"/>
                </a:moveTo>
                <a:lnTo>
                  <a:pt x="26818" y="21600"/>
                </a:lnTo>
                <a:lnTo>
                  <a:pt x="25418" y="20200"/>
                </a:lnTo>
                <a:lnTo>
                  <a:pt x="25418" y="1400"/>
                </a:lnTo>
                <a:close/>
              </a:path>
              <a:path fill="darkenLess" w="26818" h="21600">
                <a:moveTo>
                  <a:pt x="26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18" y="20200"/>
                </a:lnTo>
                <a:close/>
              </a:path>
              <a:path fill="lighten" w="26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18" h="21600">
                <a:moveTo>
                  <a:pt x="13409" y="3837"/>
                </a:moveTo>
                <a:lnTo>
                  <a:pt x="15986" y="6448"/>
                </a:lnTo>
                <a:lnTo>
                  <a:pt x="15986" y="4707"/>
                </a:lnTo>
                <a:lnTo>
                  <a:pt x="17761" y="4707"/>
                </a:lnTo>
                <a:lnTo>
                  <a:pt x="17761" y="8224"/>
                </a:lnTo>
                <a:lnTo>
                  <a:pt x="20372" y="10800"/>
                </a:lnTo>
                <a:lnTo>
                  <a:pt x="18718" y="10800"/>
                </a:lnTo>
                <a:lnTo>
                  <a:pt x="18718" y="17989"/>
                </a:lnTo>
                <a:lnTo>
                  <a:pt x="8100" y="17989"/>
                </a:lnTo>
                <a:lnTo>
                  <a:pt x="8100" y="10800"/>
                </a:lnTo>
                <a:lnTo>
                  <a:pt x="6446" y="10800"/>
                </a:lnTo>
                <a:close/>
              </a:path>
              <a:path fill="darkenLess" w="26818" h="21600">
                <a:moveTo>
                  <a:pt x="15986" y="6448"/>
                </a:moveTo>
                <a:lnTo>
                  <a:pt x="15986" y="4707"/>
                </a:lnTo>
                <a:lnTo>
                  <a:pt x="17761" y="4707"/>
                </a:lnTo>
                <a:lnTo>
                  <a:pt x="17761" y="8224"/>
                </a:lnTo>
                <a:close/>
              </a:path>
              <a:path fill="darkenLess" w="26818" h="21600">
                <a:moveTo>
                  <a:pt x="12487" y="14299"/>
                </a:moveTo>
                <a:lnTo>
                  <a:pt x="14332" y="14299"/>
                </a:lnTo>
                <a:lnTo>
                  <a:pt x="14332" y="17989"/>
                </a:lnTo>
                <a:lnTo>
                  <a:pt x="18718" y="17989"/>
                </a:lnTo>
                <a:lnTo>
                  <a:pt x="18718" y="10800"/>
                </a:lnTo>
                <a:lnTo>
                  <a:pt x="8100" y="10800"/>
                </a:lnTo>
                <a:lnTo>
                  <a:pt x="8100" y="17989"/>
                </a:lnTo>
                <a:lnTo>
                  <a:pt x="12487" y="1798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35280" y="53737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Verdana"/>
                <a:ea typeface="华文新魏"/>
              </a:rPr>
              <a:t>环境描写</a:t>
            </a:r>
            <a:r>
              <a:rPr b="1" lang="en-US" sz="4400" spc="-1" strike="noStrike">
                <a:solidFill>
                  <a:srgbClr val="0033cc"/>
                </a:solidFill>
                <a:latin typeface="Verdana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59280" y="1773360"/>
            <a:ext cx="0" cy="8636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26920" y="2637000"/>
            <a:ext cx="2881440" cy="1728720"/>
          </a:xfrm>
          <a:prstGeom prst="flowChartPunchedTap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00000" y="2924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cc0066"/>
                </a:solidFill>
                <a:latin typeface="Verdana"/>
              </a:rPr>
              <a:t>有利于刻画人物性格，表现人物的思想感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88000" y="5300640"/>
            <a:ext cx="3816360" cy="1081080"/>
          </a:xfrm>
          <a:custGeom>
            <a:avLst/>
            <a:gdLst>
              <a:gd name="textAreaLeft" fmla="*/ 0 w 3816360"/>
              <a:gd name="textAreaRight" fmla="*/ 3816720 w 381636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16360" y="558972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Verdana"/>
              </a:rPr>
              <a:t>渲染气氛，烘托人物心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rId3" action="ppaction://hlinksldjump"/>
          </p:cNvPr>
          <p:cNvSpPr/>
          <p:nvPr/>
        </p:nvSpPr>
        <p:spPr>
          <a:xfrm>
            <a:off x="25092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10800"/>
                </a:moveTo>
                <a:lnTo>
                  <a:pt x="19331" y="3794"/>
                </a:lnTo>
                <a:lnTo>
                  <a:pt x="19331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826920" y="198900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6920" y="270828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6920" y="3357720"/>
            <a:ext cx="15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00000" y="1197000"/>
            <a:ext cx="863640" cy="33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Verdana"/>
              </a:rPr>
              <a:t>神态描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40360" y="260280"/>
            <a:ext cx="1295640" cy="703440"/>
          </a:xfrm>
          <a:prstGeom prst="rect">
            <a:avLst/>
          </a:prstGeom>
          <a:solidFill>
            <a:srgbClr val="fdc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  <a:ea typeface="方正姚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Verdana"/>
                <a:ea typeface="方正姚体"/>
              </a:rPr>
              <a:t>我</a:t>
            </a:r>
            <a:r>
              <a:rPr b="1" lang="en-US" sz="4000" spc="-1" strike="noStrike">
                <a:solidFill>
                  <a:srgbClr val="0033cc"/>
                </a:solidFill>
                <a:latin typeface="Verdana"/>
                <a:ea typeface="方正姚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00360" y="260280"/>
            <a:ext cx="1224000" cy="703440"/>
          </a:xfrm>
          <a:prstGeom prst="rect">
            <a:avLst/>
          </a:prstGeom>
          <a:solidFill>
            <a:srgbClr val="ecf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Verdana"/>
                <a:ea typeface="方正姚体"/>
              </a:rPr>
              <a:t>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08720" y="549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方正姚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24360" y="1052640"/>
            <a:ext cx="2953080" cy="3764160"/>
          </a:xfrm>
          <a:prstGeom prst="rect">
            <a:avLst/>
          </a:prstGeom>
          <a:solidFill>
            <a:srgbClr val="fdc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心怦怦地跳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小声地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一动不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低着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声音有些发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哭着喊了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27280" y="1052640"/>
            <a:ext cx="2952720" cy="3764160"/>
          </a:xfrm>
          <a:prstGeom prst="rect">
            <a:avLst/>
          </a:prstGeom>
          <a:solidFill>
            <a:srgbClr val="eef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突然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目光紧紧地盯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十分严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Verdana"/>
              </a:rPr>
              <a:t>坚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71640" y="4869000"/>
            <a:ext cx="5472360" cy="0"/>
          </a:xfrm>
          <a:prstGeom prst="line">
            <a:avLst/>
          </a:prstGeom>
          <a:ln cap="rnd" w="7632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03280" y="5300640"/>
            <a:ext cx="5616720" cy="1297080"/>
          </a:xfrm>
          <a:prstGeom prst="wedgeEllipseCallout">
            <a:avLst>
              <a:gd name="adj1" fmla="val -44347"/>
              <a:gd name="adj2" fmla="val -10471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9236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cc0066"/>
                </a:solidFill>
                <a:latin typeface="Verdana"/>
              </a:rPr>
              <a:t>着力渲染对话的气氛，表明妈妈为一件工艺品就伤害了孩子的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2" action="ppaction://hlinksldjump"/>
          </p:cNvPr>
          <p:cNvSpPr/>
          <p:nvPr/>
        </p:nvSpPr>
        <p:spPr>
          <a:xfrm>
            <a:off x="7812000" y="558972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2124000" cy="1773360"/>
          </a:xfrm>
          <a:prstGeom prst="rect">
            <a:avLst/>
          </a:prstGeom>
          <a:solidFill>
            <a:srgbClr val="ecf094"/>
          </a:solidFill>
          <a:ln w="9360">
            <a:solidFill>
              <a:srgbClr val="ecf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500280"/>
            <a:ext cx="2124000" cy="3357720"/>
          </a:xfrm>
          <a:prstGeom prst="rect">
            <a:avLst/>
          </a:prstGeom>
          <a:solidFill>
            <a:srgbClr val="ecf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84360" y="0"/>
            <a:ext cx="6659640" cy="6858000"/>
          </a:xfrm>
          <a:prstGeom prst="rect">
            <a:avLst/>
          </a:prstGeom>
          <a:solidFill>
            <a:srgbClr val="eef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9280" y="189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高 </a:t>
            </a:r>
            <a:r>
              <a:rPr b="1" i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71640" y="83664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42920" y="378936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彩云"/>
              </a:rPr>
              <a:t>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9640" y="530064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彩云"/>
              </a:rPr>
              <a:t>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40000" y="189000"/>
            <a:ext cx="6553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情境体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角色定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妈妈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〈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着急、生硬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爸爸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〈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平静、有力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奶奶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〈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慈祥、无奈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”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〈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委屈、无助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万芳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〈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仗义、爽朗</a:t>
            </a: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评价角度：感情投入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吐字清晰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语音准确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配合默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35280" y="76500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35280" y="141300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08000" y="580536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08000" y="465300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a</cp:lastModifiedBy>
  <dcterms:modified xsi:type="dcterms:W3CDTF">2004-12-16T06:05:36Z</dcterms:modified>
  <cp:revision>100</cp:revision>
  <dc:subject/>
  <dc:title>PowerPoint Presentation</dc:title>
</cp:coreProperties>
</file>