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13.png" ContentType="image/png"/>
  <Override PartName="/ppt/media/chimes.wav" ContentType="audio/x-wav"/>
  <Override PartName="/ppt/media/image12.png" ContentType="image/png"/>
  <Override PartName="/ppt/media/projctor.wav" ContentType="audio/x-wav"/>
  <Override PartName="/ppt/media/image5.gif" ContentType="image/gif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E2D8C-AF98-47A8-81C2-7A5FB4BDCD52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？‘链接到〈你知道吗〉进行法律知识渗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回家练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54E5E-D017-4FA8-9D1B-2C19F384C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9B15B-45A6-440B-8054-42DCC067B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57ACB-8740-40A7-A561-99D12CA96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6226C-216A-4280-815B-B81C7B807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DA565-5E38-44E8-B20C-1CBAA963F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C6BA7-1500-4143-8300-8993C83B0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F1E7B-E36B-4BDB-9ED8-EE7F1E993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361E3-98B1-43E6-8F46-E6FBB1A42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6A680-C0C6-4248-8965-517A84C87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E935B-D288-485B-A831-EDF412AB9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0D291-983E-4739-B52C-C8D59C392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B6014-6956-44CD-BB8C-F1815D4FB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8C25A-88A8-4770-8AD8-F949885DF0C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gif"/><Relationship Id="rId6" Type="http://schemas.openxmlformats.org/officeDocument/2006/relationships/image" Target="../media/image6.png"/><Relationship Id="rId7" Type="http://schemas.openxmlformats.org/officeDocument/2006/relationships/image" Target="../media/image5.gif"/><Relationship Id="rId8" Type="http://schemas.openxmlformats.org/officeDocument/2006/relationships/image" Target="../media/image5.gif"/><Relationship Id="rId9" Type="http://schemas.openxmlformats.org/officeDocument/2006/relationships/audio" Target="../media/chimes.wav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371600" y="1415880"/>
            <a:ext cx="5867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</a:t>
            </a:r>
            <a:r>
              <a:rPr b="1" lang="zh-CN" sz="6600" spc="-1" strike="noStrike">
                <a:solidFill>
                  <a:srgbClr val="000000"/>
                </a:solidFill>
                <a:latin typeface="华文新魏"/>
                <a:ea typeface="华文新魏"/>
              </a:rPr>
              <a:t>羚  羊  木  雕</a:t>
            </a:r>
            <a:r>
              <a:rPr b="0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733920" y="359568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张之路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  <p:sndAc>
      <p:stSnd>
        <p:snd r:embed="rId2" name="projctor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380880" y="1676520"/>
            <a:ext cx="6705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爸爸送我羚羊木雕，我把它送给了好朋友。我这么做对吗？并告诉我你的理由，好吗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爸爸妈妈执意让我要回羚羊木雕，而奶奶却说“这不太好”。他们谁有道理呢？我好想听听你们的想法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假如你是我，会因为有万芳这个朋友而庆幸吗？为什么？假如你是万芳，还会做我的好朋友吗？为什么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04920" y="762120"/>
            <a:ext cx="7772400" cy="6426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Times New Roman"/>
                <a:ea typeface="华文新魏"/>
              </a:rPr>
              <a:t>请讨论下列问题（以四人小组为单位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mb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569880" y="528480"/>
            <a:ext cx="3032280" cy="702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04920" y="1292400"/>
            <a:ext cx="6781680" cy="195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国的《民法通则》对于自然人的民事权利能力和民事行为能力有明确的规定。《民法通则》第十一条规定：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8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岁以上的公民是成年人，具有完全的民事行为能力，可以独立进行民事活动。第十六条则规定未成年人的父母是未成年人的监护人。根据课文内容，“我”的年龄应该是在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6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岁以下，因此“我”的行为应该得到法定监护人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即家长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同意。</a:t>
            </a:r>
            <a:br>
              <a:rPr sz="3200"/>
            </a:b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711360" y="457200"/>
            <a:ext cx="2819160" cy="76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0">
                  <a:noFill/>
                </a:ln>
                <a:solidFill>
                  <a:srgbClr val="0000cc"/>
                </a:solidFill>
                <a:effectLst>
                  <a:outerShdw dist="40186" dir="1096358" blurRad="0" rotWithShape="0">
                    <a:srgbClr val="808080"/>
                  </a:outerShdw>
                </a:effectLst>
                <a:latin typeface="华文新魏"/>
              </a:rPr>
              <a:t>你知道吗？</a:t>
            </a:r>
            <a:endParaRPr b="1" lang="en-US" sz="2400" spc="1" strike="noStrike">
              <a:ln w="0">
                <a:noFill/>
              </a:ln>
              <a:solidFill>
                <a:srgbClr val="0000cc"/>
              </a:solidFill>
              <a:effectLst>
                <a:outerShdw dist="40186" dir="1096358" blurRad="0" rotWithShape="0">
                  <a:srgbClr val="808080"/>
                </a:outerShdw>
              </a:effectLst>
              <a:latin typeface="华文新魏"/>
              <a:ea typeface="华文新魏"/>
            </a:endParaRPr>
          </a:p>
        </p:txBody>
      </p:sp>
    </p:spTree>
  </p:cSld>
  <p:transition spd="slow">
    <p:diamond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534960" y="1219320"/>
            <a:ext cx="693252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buClr>
                <a:srgbClr val="9966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你遇到过类似的伤心事吗？是怎样处理的？能让我分享你的想法吗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heel spokes="8"/>
    <p:sndAc>
      <p:stSnd>
        <p:snd r:embed="rId2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457200" y="1035720"/>
            <a:ext cx="7620120" cy="45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要学会思考，有主见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做事情要跟大人商量了再做，自以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，自作主张是不对的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0000cc"/>
                </a:solidFill>
                <a:latin typeface="华文新魏"/>
                <a:ea typeface="华文新魏"/>
              </a:rPr>
              <a:t>推而广之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①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遇是多商量，就可以避免 许多矛盾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②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学会沟通，让父母、他人理解自己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自己也努力去理解父母、他人，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样也可以避免许多矛盾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609480"/>
            <a:ext cx="4952880" cy="7034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Arial"/>
                <a:ea typeface="华文新魏"/>
              </a:rPr>
              <a:t>作为中学生的我们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228600" y="1295280"/>
            <a:ext cx="7704000" cy="24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</a:t>
            </a:r>
            <a:r>
              <a:rPr b="1" lang="zh-CN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马克思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说：“真正的友谊——十分理智的友谊，是人生最好的无价之宝，你能够对自己的朋友守信，永远无愧于他，那将是对你的性格、灵魂以及道德的最高的考验。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希罗多德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说：“世界上没有比一个既真诚又聪明的朋友更可贵的了。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斯托贝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说：“财富不是朋友，而朋友却是财富”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33520" y="457200"/>
            <a:ext cx="2311200" cy="7034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Times New Roman"/>
                <a:ea typeface="华文新魏"/>
              </a:rPr>
              <a:t>朋友赠言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mb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446040" y="2060640"/>
            <a:ext cx="725004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与父母一起欣赏这篇小说，学会与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母、他人沟通，快乐生活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与父母一起探讨后，记下父母的处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方法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82760" y="990720"/>
            <a:ext cx="2887560" cy="7034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Times New Roman"/>
                <a:ea typeface="华文新魏"/>
              </a:rPr>
              <a:t>“</a:t>
            </a:r>
            <a:r>
              <a:rPr b="1" lang="zh-CN" sz="4000" spc="-1" strike="noStrike">
                <a:solidFill>
                  <a:srgbClr val="0000cc"/>
                </a:solidFill>
                <a:latin typeface="Times New Roman"/>
                <a:ea typeface="华文新魏"/>
              </a:rPr>
              <a:t>家庭”作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hecker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145040" y="4363920"/>
            <a:ext cx="2170080" cy="89388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霹雳贝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49800" y="4363920"/>
            <a:ext cx="2103480" cy="89388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疯狂的兔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43000" y="1219320"/>
            <a:ext cx="6781680" cy="18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张之路，是我国八九十年代以来国内最有影响的少儿小说作家之一。中国儿童电影制片厂编剧。短篇小说集</a:t>
            </a:r>
            <a:r>
              <a:rPr b="1" lang="zh-CN" sz="2600" spc="-1" strike="noStrike" u="sng">
                <a:solidFill>
                  <a:srgbClr val="0000cc"/>
                </a:solidFill>
                <a:uFillTx/>
                <a:latin typeface="楷体_GB2312"/>
                <a:ea typeface="楷体_GB2312"/>
              </a:rPr>
              <a:t>&lt;&lt;</a:t>
            </a:r>
            <a:r>
              <a:rPr b="1" lang="zh-CN" sz="2600" spc="-1" strike="noStrike" u="sng">
                <a:solidFill>
                  <a:srgbClr val="0000cc"/>
                </a:solidFill>
                <a:uFillTx/>
                <a:latin typeface="楷体_GB2312"/>
                <a:ea typeface="楷体_GB2312"/>
              </a:rPr>
              <a:t>题王</a:t>
            </a:r>
            <a:r>
              <a:rPr b="1" lang="zh-CN" sz="2600" spc="-1" strike="noStrike" u="sng">
                <a:solidFill>
                  <a:srgbClr val="0000cc"/>
                </a:solidFill>
                <a:uFillTx/>
                <a:latin typeface="楷体_GB2312"/>
                <a:ea typeface="楷体_GB2312"/>
              </a:rPr>
              <a:t>&gt;&gt;</a:t>
            </a:r>
            <a:r>
              <a:rPr b="1" lang="zh-CN" sz="2600" spc="-1" strike="noStrike" u="sng">
                <a:solidFill>
                  <a:srgbClr val="0000cc"/>
                </a:solidFill>
                <a:uFillTx/>
                <a:latin typeface="楷体_GB2312"/>
                <a:ea typeface="楷体_GB2312"/>
              </a:rPr>
              <a:t>、</a:t>
            </a:r>
            <a:r>
              <a:rPr b="1" lang="zh-CN" sz="2600" spc="-1" strike="noStrike" u="sng">
                <a:solidFill>
                  <a:srgbClr val="0000cc"/>
                </a:solidFill>
                <a:uFillTx/>
                <a:latin typeface="楷体_GB2312"/>
                <a:ea typeface="楷体_GB2312"/>
              </a:rPr>
              <a:t>&lt;&lt;</a:t>
            </a:r>
            <a:r>
              <a:rPr b="1" lang="zh-CN" sz="2600" spc="-1" strike="noStrike" u="sng">
                <a:solidFill>
                  <a:srgbClr val="0000cc"/>
                </a:solidFill>
                <a:uFillTx/>
                <a:latin typeface="楷体_GB2312"/>
                <a:ea typeface="楷体_GB2312"/>
              </a:rPr>
              <a:t>空箱子</a:t>
            </a:r>
            <a:r>
              <a:rPr b="1" lang="zh-CN" sz="2600" spc="-1" strike="noStrike" u="sng">
                <a:solidFill>
                  <a:srgbClr val="0000cc"/>
                </a:solidFill>
                <a:uFillTx/>
                <a:latin typeface="楷体_GB2312"/>
                <a:ea typeface="楷体_GB2312"/>
              </a:rPr>
              <a:t>&gt;&gt;</a:t>
            </a:r>
            <a:r>
              <a:rPr b="1" lang="zh-CN" sz="2600" spc="-1" strike="noStrike" u="sng">
                <a:solidFill>
                  <a:srgbClr val="0000cc"/>
                </a:solidFill>
                <a:uFillTx/>
                <a:latin typeface="楷体_GB2312"/>
                <a:ea typeface="楷体_GB2312"/>
              </a:rPr>
              <a:t>、</a:t>
            </a:r>
            <a:r>
              <a:rPr b="1" lang="zh-CN" sz="2600" spc="-1" strike="noStrike" u="sng">
                <a:solidFill>
                  <a:srgbClr val="0000cc"/>
                </a:solidFill>
                <a:uFillTx/>
                <a:latin typeface="楷体_GB2312"/>
                <a:ea typeface="楷体_GB2312"/>
              </a:rPr>
              <a:t>&lt;&lt;</a:t>
            </a:r>
            <a:r>
              <a:rPr b="1" lang="zh-CN" sz="2600" spc="-1" strike="noStrike" u="sng">
                <a:solidFill>
                  <a:srgbClr val="0000cc"/>
                </a:solidFill>
                <a:uFillTx/>
                <a:latin typeface="楷体_GB2312"/>
                <a:ea typeface="楷体_GB2312"/>
              </a:rPr>
              <a:t>铃羊木雕</a:t>
            </a:r>
            <a:r>
              <a:rPr b="1" lang="zh-CN" sz="2600" spc="-1" strike="noStrike" u="sng">
                <a:solidFill>
                  <a:srgbClr val="0000cc"/>
                </a:solidFill>
                <a:uFillTx/>
                <a:latin typeface="楷体_GB2312"/>
                <a:ea typeface="楷体_GB2312"/>
              </a:rPr>
              <a:t>&gt;&gt;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等作品曾获：中国图书奖一等奖、宋庆龄文学奖、全国优秀儿童文学奖、冰心文学奖、陈伯吹儿童文学奖、国际青少年读物联盟优秀作家奖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国际安徒生奖提名。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编导的电影有：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-239400" y="533520"/>
            <a:ext cx="1277640" cy="16002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Times New Roman"/>
                <a:ea typeface="华文新魏"/>
              </a:rPr>
              <a:t>张之路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in"/>
    <p:sndAc>
      <p:stSnd>
        <p:snd r:embed="rId2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835200" y="2133720"/>
            <a:ext cx="1523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怦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333600" y="2143080"/>
            <a:ext cx="160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树杈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726160" y="2143080"/>
            <a:ext cx="160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攥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33320" y="3637080"/>
            <a:ext cx="1219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逮捕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286160" y="3637080"/>
            <a:ext cx="160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寒颤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1216080" y="2971800"/>
            <a:ext cx="228600" cy="1224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4070520" y="3030480"/>
            <a:ext cx="193680" cy="1033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6016680" y="3021120"/>
            <a:ext cx="212760" cy="903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5">
            <a:lum bright="-6000"/>
          </a:blip>
          <a:stretch/>
        </p:blipFill>
        <p:spPr>
          <a:xfrm>
            <a:off x="5102280" y="4419720"/>
            <a:ext cx="228600" cy="1047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6"/>
          <a:stretch/>
        </p:blipFill>
        <p:spPr>
          <a:xfrm>
            <a:off x="987480" y="4419720"/>
            <a:ext cx="237960" cy="1094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733320" y="4789440"/>
            <a:ext cx="1752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逮着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286160" y="4789440"/>
            <a:ext cx="160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颤抖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7"/>
          <a:stretch/>
        </p:blipFill>
        <p:spPr>
          <a:xfrm>
            <a:off x="4568760" y="5638680"/>
            <a:ext cx="176400" cy="842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8"/>
          <a:stretch/>
        </p:blipFill>
        <p:spPr>
          <a:xfrm>
            <a:off x="941400" y="5638680"/>
            <a:ext cx="198360" cy="939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380880" y="3924360"/>
            <a:ext cx="304920" cy="1447920"/>
          </a:xfrm>
          <a:custGeom>
            <a:avLst/>
            <a:gdLst>
              <a:gd name="textAreaLeft" fmla="*/ 194760 w 304920"/>
              <a:gd name="textAreaRight" fmla="*/ 305280 w 30492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981600" y="3924360"/>
            <a:ext cx="304560" cy="1447920"/>
          </a:xfrm>
          <a:custGeom>
            <a:avLst/>
            <a:gdLst>
              <a:gd name="textAreaLeft" fmla="*/ 194760 w 304560"/>
              <a:gd name="textAreaRight" fmla="*/ 304920 w 30456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57080" y="1547640"/>
            <a:ext cx="172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pē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710160" y="1547640"/>
            <a:ext cx="143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chà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581800" y="1547640"/>
            <a:ext cx="180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zuà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797440" y="3637080"/>
            <a:ext cx="136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zhà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797440" y="4789440"/>
            <a:ext cx="151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chà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57440" y="3637080"/>
            <a:ext cx="158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dà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557440" y="4789440"/>
            <a:ext cx="93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dǎ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53960" y="533520"/>
            <a:ext cx="6477120" cy="7034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Times New Roman"/>
                <a:ea typeface="华文新魏"/>
              </a:rPr>
              <a:t>给加点字注音，并注意字形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  <p:sndAc>
      <p:stSnd>
        <p:snd r:embed="rId9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520" y="980640"/>
            <a:ext cx="4249440" cy="6476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Times New Roman"/>
                <a:ea typeface="华文新魏"/>
              </a:rPr>
              <a:t>速读课文并思考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60360" y="2178000"/>
            <a:ext cx="748836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课文写了哪几个人物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你能用简要的语言概括课文情节吗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课文围绕羚羊木雕发生了什么事情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揣摩人物说话的语气、语调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木雕1" descr=""/>
          <p:cNvPicPr/>
          <p:nvPr/>
        </p:nvPicPr>
        <p:blipFill>
          <a:blip r:embed="rId2"/>
          <a:stretch/>
        </p:blipFill>
        <p:spPr>
          <a:xfrm>
            <a:off x="6324480" y="609480"/>
            <a:ext cx="2057400" cy="190512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892440" y="2736720"/>
            <a:ext cx="1034280" cy="52056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50000">
                <a:srgbClr val="ffebfa"/>
              </a:gs>
              <a:gs pos="100000">
                <a:srgbClr val="5e9e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华文新魏"/>
              </a:rPr>
              <a:t>木雕贵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63800" y="2789280"/>
            <a:ext cx="1460880" cy="52056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50000">
                <a:srgbClr val="ffebfa"/>
              </a:gs>
              <a:gs pos="100000">
                <a:srgbClr val="5e9e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华文新魏"/>
              </a:rPr>
              <a:t>我俩是好朋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351080" y="1555920"/>
            <a:ext cx="0" cy="9144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397560" y="1555920"/>
            <a:ext cx="0" cy="99036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502080" y="1212840"/>
            <a:ext cx="13716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511440" y="457200"/>
            <a:ext cx="15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冲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78000" y="4633920"/>
            <a:ext cx="1970280" cy="11430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主题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65200" y="4260960"/>
            <a:ext cx="1033560" cy="1726920"/>
          </a:xfrm>
          <a:prstGeom prst="rect">
            <a:avLst/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华文新魏"/>
              </a:rPr>
              <a:t>重财轻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89520" y="4346640"/>
            <a:ext cx="1033560" cy="158436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华文新魏"/>
              </a:rPr>
              <a:t>重情重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351080" y="3554280"/>
            <a:ext cx="0" cy="53352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473880" y="3554280"/>
            <a:ext cx="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795320" y="5210280"/>
            <a:ext cx="106704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5187960" y="5210280"/>
            <a:ext cx="91440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341520" y="2546280"/>
            <a:ext cx="1033560" cy="13208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50000">
                <a:srgbClr val="ffebfa"/>
              </a:gs>
              <a:gs pos="100000">
                <a:srgbClr val="5e9e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华文新魏"/>
              </a:rPr>
              <a:t>应商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086360" y="1249200"/>
            <a:ext cx="0" cy="1143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086360" y="3986280"/>
            <a:ext cx="0" cy="53316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78000" y="984240"/>
            <a:ext cx="3200400" cy="52056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华文新魏"/>
              </a:rPr>
              <a:t>父母逼我要回木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645080" y="984240"/>
            <a:ext cx="2822400" cy="52056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华文新魏"/>
              </a:rPr>
              <a:t>我送木雕给万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mb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2057400" y="822240"/>
            <a:ext cx="2311560" cy="7034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Times New Roman"/>
                <a:ea typeface="华文新魏"/>
              </a:rPr>
              <a:t>课文主题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09480" y="2057400"/>
            <a:ext cx="66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本文围绕羚羊木雕，写了一场家庭矛盾，赞美真诚无私的友爱，批评重财轻义的思想，呼吁父母要理解尊重孩子纯真的感情；同时也说明我们做事应与人商量，考虑周全些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heel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905120" y="1981080"/>
            <a:ext cx="6400800" cy="30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妈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爸爸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奶奶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我”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万芳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819520" y="1981080"/>
            <a:ext cx="281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态度生硬固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819520" y="3886200"/>
            <a:ext cx="472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重情、软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819520" y="3124080"/>
            <a:ext cx="5410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819520" y="3276720"/>
            <a:ext cx="541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明白事理，同情理解却无能为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819520" y="3809880"/>
            <a:ext cx="22860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仗义、明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23880" y="914400"/>
            <a:ext cx="434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04920" y="914400"/>
            <a:ext cx="1218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209680" y="9907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514600" y="838080"/>
            <a:ext cx="3581280" cy="7034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Times New Roman"/>
                <a:ea typeface="华文新魏"/>
              </a:rPr>
              <a:t>人物分析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0014" descr=""/>
          <p:cNvPicPr/>
          <p:nvPr/>
        </p:nvPicPr>
        <p:blipFill>
          <a:blip r:embed="rId2">
            <a:lum contrast="-18000"/>
          </a:blip>
          <a:stretch/>
        </p:blipFill>
        <p:spPr>
          <a:xfrm>
            <a:off x="609480" y="4114800"/>
            <a:ext cx="1219320" cy="1447920"/>
          </a:xfrm>
          <a:prstGeom prst="rect">
            <a:avLst/>
          </a:prstGeom>
          <a:ln w="0">
            <a:noFill/>
          </a:ln>
        </p:spPr>
      </p:pic>
      <p:pic>
        <p:nvPicPr>
          <p:cNvPr id="112" name="0020" descr=""/>
          <p:cNvPicPr/>
          <p:nvPr/>
        </p:nvPicPr>
        <p:blipFill>
          <a:blip r:embed="rId3">
            <a:lum contrast="-18000"/>
          </a:blip>
          <a:stretch/>
        </p:blipFill>
        <p:spPr>
          <a:xfrm>
            <a:off x="609480" y="685800"/>
            <a:ext cx="137160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0011" descr=""/>
          <p:cNvPicPr/>
          <p:nvPr/>
        </p:nvPicPr>
        <p:blipFill>
          <a:blip r:embed="rId4">
            <a:lum contrast="-18000"/>
          </a:blip>
          <a:stretch/>
        </p:blipFill>
        <p:spPr>
          <a:xfrm>
            <a:off x="685800" y="2438280"/>
            <a:ext cx="1219320" cy="16002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89880" y="2590920"/>
            <a:ext cx="3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婉转、持重沉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152280" y="1600200"/>
            <a:ext cx="7467840" cy="388620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51920" y="609480"/>
            <a:ext cx="3505320" cy="9907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Arial Black"/>
                <a:ea typeface="华文新魏"/>
              </a:rPr>
              <a:t>分角色朗读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904760"/>
            <a:ext cx="4648320" cy="43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三人扮演——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、妈妈、爸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叙述部分——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其余同学齐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530600" y="2971800"/>
            <a:ext cx="38512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读准语气、语调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摹拟表情动作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962520" y="2133720"/>
            <a:ext cx="533160" cy="2808000"/>
          </a:xfrm>
          <a:custGeom>
            <a:avLst/>
            <a:gdLst>
              <a:gd name="textAreaLeft" fmla="*/ 0 w 533160"/>
              <a:gd name="textAreaRight" fmla="*/ 192600 w 533160"/>
              <a:gd name="textAreaTop" fmla="*/ 73080 h 2808000"/>
              <a:gd name="textAreaBottom" fmla="*/ 2734920 h 28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19720" y="914400"/>
            <a:ext cx="2819160" cy="7034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Times New Roman"/>
                <a:ea typeface="华文行楷"/>
              </a:rPr>
              <a:t> </a:t>
            </a:r>
            <a:r>
              <a:rPr b="1" lang="zh-CN" sz="4000" spc="-1" strike="noStrike">
                <a:solidFill>
                  <a:srgbClr val="0000cc"/>
                </a:solidFill>
                <a:latin typeface="华文新魏"/>
                <a:ea typeface="华文新魏"/>
              </a:rPr>
              <a:t>朗 读 要 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8229600" y="6019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304920" y="1143000"/>
            <a:ext cx="7543800" cy="487692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562720" y="2971800"/>
            <a:ext cx="14475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0" spc="-1" strike="noStrike">
                <a:solidFill>
                  <a:srgbClr val="fa44d3"/>
                </a:solidFill>
                <a:latin typeface="Times New Roman"/>
                <a:ea typeface="华文新魏"/>
              </a:rPr>
              <a:t>？</a:t>
            </a:r>
            <a:endParaRPr b="0" lang="en-US" sz="2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04920" y="380880"/>
            <a:ext cx="2463840" cy="7034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Times New Roman"/>
                <a:ea typeface="华文新魏"/>
              </a:rPr>
              <a:t>讨论交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04920" y="1219320"/>
            <a:ext cx="753264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亲爱的同学们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们好！终于盼到了能向你们求助的这一刻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有多烦恼、多痛苦，我不再赘述。我现在急需你们帮我解开思想上的疙瘩，我把它列成了几个小问题，附在下一页。我热切地盼望着你们为我出主意，帮我走出困境。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祝你们学习愉快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     </a:t>
            </a:r>
            <a:r>
              <a:rPr b="1" lang="zh-CN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你们的新朋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                    </a:t>
            </a:r>
            <a:r>
              <a:rPr b="1" lang="zh-CN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2003.12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04920" y="1219320"/>
            <a:ext cx="7543800" cy="4800600"/>
          </a:xfrm>
          <a:prstGeom prst="foldedCorner">
            <a:avLst>
              <a:gd name="adj" fmla="val 125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heel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8T10:21:40Z</dcterms:created>
  <dc:creator>wutao</dc:creator>
  <dc:description/>
  <dc:language>en-US</dc:language>
  <cp:lastModifiedBy>ymr</cp:lastModifiedBy>
  <dcterms:modified xsi:type="dcterms:W3CDTF">2006-09-06T01:34:48Z</dcterms:modified>
  <cp:revision>101</cp:revision>
  <dc:subject/>
  <dc:title>PowerPoint 演示文稿</dc:title>
</cp:coreProperties>
</file>