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B873-9C46-44BC-B53F-4DE74A6755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？‘链接到〈你知道吗〉进行法律知识渗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回家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525-EE08-4E49-8885-DE74F8B6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E36-0CFC-427C-BD9F-C1372975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C88-2485-4586-A496-C4F18887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648-0FDC-4E19-B434-7036A2AD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E11F-80FD-44CD-B7D4-AD656B2C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6271-64F1-41A0-9ACD-E2A41541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D08A-9168-4195-A074-4074296F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181B-D5DF-4555-AD34-371C4B1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7AD2-C1EC-4552-9E47-B6699F4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281F-9F2D-43B5-ADD8-C5A395A8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C991-08EE-4979-9C0F-92C15A97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03A-7745-4056-9215-5A40804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C694-B789-4199-8679-C481F59D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C3CD-A351-43E9-A84B-D6492A05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7A06-0D5A-4EF5-B3A0-EADDC397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7E7D-D7FE-4329-A027-09D3E795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15D5-9F90-4577-A137-5C47923C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F25-F512-404D-A1E2-E7FAC2C5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BF0-B129-4E8E-A323-EBA3C18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23D-E178-4C46-8F8C-60517FEE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02A-7D97-4BFA-81F8-372CACAA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A5A-AD84-4201-9EA9-B3FBDDDB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657-864E-4052-BBAA-B149BE52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1C0-B3FD-4115-81A9-60FCA2D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3487-5D9E-4B84-9BF4-BF77F1384C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B938-D8A0-4943-BC75-210457FE18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81480" y="2362320"/>
            <a:ext cx="2362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张之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7400" y="45720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羚羊木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98" name="羚羊2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2790720" cy="236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48006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情节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518148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朗读课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生字音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4290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讨论交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叶子" descr=""/>
          <p:cNvPicPr/>
          <p:nvPr/>
        </p:nvPicPr>
        <p:blipFill>
          <a:blip r:embed="rId7"/>
          <a:stretch/>
        </p:blipFill>
        <p:spPr>
          <a:xfrm>
            <a:off x="6324480" y="4648320"/>
            <a:ext cx="190512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1600200"/>
            <a:ext cx="6934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_x000b__x000c_"/>
              </a:rPr>
              <a:t>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_x000b__x000c_"/>
              </a:rPr>
              <a:t>1945</a:t>
            </a: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年 生于北京。现为中国电影集团策划部编审、一级编剧。国务院授予的有特殊贡献的专家、中国作协儿童文学委员会委员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3886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1997</a:t>
            </a: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年被入选中央电视台“东方之子”栏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7432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      </a:t>
            </a: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电影剧本《霹雳贝贝》、《魔表》、《疯狂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兔子》长篇小说“第三军团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3960" y="658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_x000b__x000c_"/>
                <a:ea typeface="华文中宋"/>
              </a:rPr>
              <a:t>张之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57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给下边加点的字注音，并注意字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24080" y="3728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逮着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08560" y="38052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寒颤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828800"/>
            <a:ext cx="4562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56280" y="197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犄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61040" y="197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怦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23360" y="2052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树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ē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152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hà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429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ǎ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666880"/>
            <a:ext cx="7632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572000"/>
            <a:ext cx="7632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4495680"/>
            <a:ext cx="7596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52480" y="1752480"/>
            <a:ext cx="60962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用普通话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不添字  不漏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不读破句子  停顿恰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吐字清楚   音量适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速度合宜   读出表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55200" y="8352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朗读课文片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花" descr=""/>
          <p:cNvPicPr/>
          <p:nvPr/>
        </p:nvPicPr>
        <p:blipFill>
          <a:blip r:embed="rId1"/>
          <a:srcRect l="20827" t="6253" r="13238" b="37500"/>
          <a:stretch/>
        </p:blipFill>
        <p:spPr>
          <a:xfrm>
            <a:off x="5791320" y="4038480"/>
            <a:ext cx="16444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1851120"/>
            <a:ext cx="72388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爸爸送我羚羊木雕，我把它送给了好朋友。我这么做对吗？并告诉我你的理由，好吗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爸爸妈妈执意让我要回羚羊木雕，而奶奶却说“这不太好”。他们谁有道理呢？我好想听听你们的想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假如你是我，会因为有万芳这个朋友而庆幸吗？为什么？假如你是万芳，还会做我的好朋友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6858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请讨论下列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00200" y="182880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你遇到过类似的伤心事吗？是怎样处理的？能让我分享你的想法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笑" descr=""/>
          <p:cNvPicPr/>
          <p:nvPr/>
        </p:nvPicPr>
        <p:blipFill>
          <a:blip r:embed="rId1"/>
          <a:srcRect l="2943" t="2986" r="0" b="0"/>
          <a:stretch/>
        </p:blipFill>
        <p:spPr>
          <a:xfrm>
            <a:off x="3276720" y="3124080"/>
            <a:ext cx="25066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16002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国的《民法通则》对于自然人的民事权利能力和民事行为能力有明确的规定。《民法通则》第十一条规定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以上的公民是成年人，具有完全的民事行为能力，可以独立进行民事活动。第十六条则规定未成年人的父母是未成年人的监护人。根据课文内容，“我”的年龄应该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以下，因此“我”的行为应该得到法定监护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家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同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057400" y="533520"/>
            <a:ext cx="28195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99ccff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知道吗？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50000">
                    <a:srgbClr val="99ccff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838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家庭”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36232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父母一起欣赏这篇小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父母一起探讨后，合理地改编某一部分的故事 情节，并工整地做到稿纸上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02:17:37Z</dcterms:created>
  <dc:creator>wutao</dc:creator>
  <dc:description/>
  <dc:language>en-US</dc:language>
  <cp:lastModifiedBy>zhsjs</cp:lastModifiedBy>
  <dcterms:modified xsi:type="dcterms:W3CDTF">2004-10-16T08:11:58Z</dcterms:modified>
  <cp:revision>100</cp:revision>
  <dc:subject/>
  <dc:title>PowerPoint 演示文稿</dc:title>
</cp:coreProperties>
</file>