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ADF-26AC-4A23-B137-1F66C74A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376-D1BD-44FB-A10C-67305E1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884-008D-4B75-9B55-9A2EA421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8A0-17E4-4C36-A222-72BFE100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85F-E18A-4085-A166-E0FF1A93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AF4-2D5D-45AB-8657-CB393E42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17C-7E2E-4C28-A0FD-6939275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AC9-3029-462E-8CAB-AA8D2FFC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DC8-ECE0-4645-9177-91964D8A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75B-78E0-4C7C-888A-1012F768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74F-867A-45D2-9BE9-40F36701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6D4-7DF2-4DEA-B57D-6E16DA5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40B-EB5D-4799-9551-01F4199BB0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537080" cy="1492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77192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怎样才能避免这类不愉快的事情发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5080" y="5805360"/>
            <a:ext cx="959040" cy="771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4005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儿童心灵多么美好，尽管他们幼稚，但是不能粗暴地伤害他们的心灵，孩子的心灵比任何贵重的东西都贵重，只知东西贵重，不知孩子心灵贵重，是一种愚蠢的行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合  作  探  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86040" y="2913120"/>
            <a:ext cx="54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的感情倾向是怎样的？你的看法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19280" y="620640"/>
            <a:ext cx="2057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小朋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1447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6206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大人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2565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重义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轻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重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轻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484280"/>
            <a:ext cx="228600" cy="782640"/>
          </a:xfrm>
          <a:prstGeom prst="downArrow">
            <a:avLst>
              <a:gd name="adj1" fmla="val 50000"/>
              <a:gd name="adj2" fmla="val 8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573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这篇文章的作者是站在孩子的立场上，赞美了小朋友们</a:t>
            </a:r>
            <a:r>
              <a:rPr b="0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真诚无私的友爱</a:t>
            </a:r>
            <a:r>
              <a:rPr b="0" lang="zh-CN" sz="36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119560"/>
            <a:ext cx="810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告诫做父母的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理解少年的心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尊重他们的友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不要重财轻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557360"/>
            <a:ext cx="228600" cy="782640"/>
          </a:xfrm>
          <a:prstGeom prst="downArrow">
            <a:avLst>
              <a:gd name="adj1" fmla="val 50000"/>
              <a:gd name="adj2" fmla="val 8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板书、文章主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-243000"/>
            <a:ext cx="8458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庭是社会的细胞。家庭生活中一次小小的波折反映出的是社会上比较普遍存在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父母怎样疼爱女子的问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文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43000" y="40053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真正的友谊是人生的无价之宝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文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赞美了小朋友之间纯洁无私的友谊，同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告诉我们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物欲横流、人情日渐冷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今天，更要珍视难能可贵的友情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0120" y="2349360"/>
            <a:ext cx="548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本文意在提醒那些为人父母者爱子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应该爱在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理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爱在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尊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爱在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沟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拓展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66000" y="5157720"/>
            <a:ext cx="127800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3213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你是怎么处理的？说出来让大家听听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50120" y="198900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遇到过类似的事情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6360" y="5443560"/>
            <a:ext cx="1223640" cy="1216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400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世界上没有比一个既真诚又聪明的朋友更可贵的了。”　</a:t>
            </a:r>
            <a:r>
              <a:rPr b="0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　　　　　　　　　</a:t>
            </a: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希罗多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6680" y="2060640"/>
            <a:ext cx="55299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“世间最美好的东西，莫过于有几个头脑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心地都很正直的真正的朋友。”　　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关于朋友的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长     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197000"/>
            <a:ext cx="7848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 “随着年龄的增长，我们逐渐形成自己的思想。如果说一个人的历史要用笔来写的话，那么现在应该是我们从父母手里接过笔自己写的时候了。” 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　　                                                       ——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双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 “在不知不觉中，我长大了。不再是那个只会听话的小朋友了。在我脑海的深处，有一颗叛逆的种子在发育，长大。我已有了自己的主见，不再事事听从家长了。” 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                                                         ——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颖楠 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朗读情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9563" r="0" b="0"/>
          <a:stretch/>
        </p:blipFill>
        <p:spPr>
          <a:xfrm>
            <a:off x="1187280" y="1143000"/>
            <a:ext cx="702000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-161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情景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9472" r="0" b="0"/>
          <a:stretch/>
        </p:blipFill>
        <p:spPr>
          <a:xfrm>
            <a:off x="1403280" y="1600200"/>
            <a:ext cx="6589800" cy="45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3040" y="2427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犄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2427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怦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2427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19800" y="2427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65080" y="42782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1240" y="4262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8132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9592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44840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07040" y="487188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077840" y="494820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65080" y="50245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着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21240" y="5008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649840" y="5634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093680" y="563400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6480" y="43387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6680" y="43387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9000" y="1741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j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94120" y="1741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1000" y="1801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5240" y="1801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42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5084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05440" y="4221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05440" y="5084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8080" y="333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给加点的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84720" y="180324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奶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0464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角色朗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349360"/>
            <a:ext cx="4572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4476600"/>
            <a:ext cx="1790640" cy="238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97440" y="3645000"/>
            <a:ext cx="12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09720" y="357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万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28280" y="1731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爸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6280" y="1803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妈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flipH="1">
            <a:off x="6084360" y="4727520"/>
            <a:ext cx="1243080" cy="213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分角色朗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3794040"/>
            <a:ext cx="1676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9079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父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997360"/>
            <a:ext cx="229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51664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万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H="1">
            <a:off x="4284000" y="1773360"/>
            <a:ext cx="1440360" cy="1080000"/>
          </a:xfrm>
          <a:prstGeom prst="straightConnector1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211640" y="4005000"/>
            <a:ext cx="2016720" cy="1440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140360" y="2133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01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70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5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933720"/>
            <a:ext cx="1008000" cy="898560"/>
          </a:xfrm>
          <a:custGeom>
            <a:avLst/>
            <a:gdLst>
              <a:gd name="textAreaLeft" fmla="*/ 289080 w 1008000"/>
              <a:gd name="textAreaRight" fmla="*/ 863640 w 1008000"/>
              <a:gd name="textAreaTop" fmla="*/ 517680 h 898560"/>
              <a:gd name="textAreaBottom" fmla="*/ 769680 h 8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8360" y="4508640"/>
            <a:ext cx="2438280" cy="2112840"/>
            <a:chOff x="468360" y="4508640"/>
            <a:chExt cx="2438280" cy="2112840"/>
          </a:xfrm>
        </p:grpSpPr>
        <p:sp>
          <p:nvSpPr>
            <p:cNvPr id="100" name=""/>
            <p:cNvSpPr/>
            <p:nvPr/>
          </p:nvSpPr>
          <p:spPr>
            <a:xfrm>
              <a:off x="830160" y="486900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回顾“我”和万芳真挚的友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68360" y="4508640"/>
              <a:ext cx="2438280" cy="21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17524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样写是对故事情节作必要的交待，能够吸引人，使故事悬念迭起，情节起伏跌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692360" y="3716280"/>
            <a:ext cx="457200" cy="99072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-139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整  体  感  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60920" y="2708280"/>
            <a:ext cx="2324160" cy="1556280"/>
            <a:chOff x="5560920" y="2708280"/>
            <a:chExt cx="2324160" cy="1556280"/>
          </a:xfrm>
        </p:grpSpPr>
        <p:sp>
          <p:nvSpPr>
            <p:cNvPr id="106" name=""/>
            <p:cNvSpPr/>
            <p:nvPr/>
          </p:nvSpPr>
          <p:spPr>
            <a:xfrm>
              <a:off x="5560920" y="2708280"/>
              <a:ext cx="23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羚羊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2840" y="3500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木雕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/>
          <p:nvPr/>
        </p:nvCxnSpPr>
        <p:spPr>
          <a:xfrm flipV="1">
            <a:off x="6516360" y="1772640"/>
            <a:ext cx="1080" cy="864360"/>
          </a:xfrm>
          <a:prstGeom prst="straightConnector1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</p:cxn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146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781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”把羚羊木雕送给了最要好的朋友万芳，父母发觉了，逼“我”去要回来，“我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被逼无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只得硬着头皮开口，让万芳把羚羊还“我”。“我”对朋友这样做，自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感到反悔，伤心极了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8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收回木雕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4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情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28720" y="333360"/>
            <a:ext cx="566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中写了一只什么样的木雕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围绕它发生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涉及到哪些人物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节顺序怎样？ 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原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7920" y="2060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羚羊木雕》讲述的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子女和父母之间发生的一场小矛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4000" y="544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追查、逼迫  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6160" y="5445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爸爸讲理由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5680" y="5445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叙回忆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　　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分角色朗读课文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品味揣摩语言来分析性格。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9440" y="2204640"/>
            <a:ext cx="374328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妈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爸爸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奶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万芳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婉转、持重沉稳。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2205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态度生硬固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4720" y="39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白事理、同情理解却无能为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9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重情、软弱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仗义、明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10560" y="333360"/>
            <a:ext cx="442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一起合作</a:t>
            </a: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分角色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感情朗读课文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评委。请其他同学边听边</a:t>
            </a: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品味揣摩人物个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化语言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分析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物的性格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3:20:21Z</dcterms:created>
  <dc:creator>wutao</dc:creator>
  <dc:description/>
  <dc:language>en-US</dc:language>
  <cp:lastModifiedBy>a</cp:lastModifiedBy>
  <dcterms:modified xsi:type="dcterms:W3CDTF">2004-12-16T05:59:42Z</dcterms:modified>
  <cp:revision>100</cp:revision>
  <dc:subject/>
  <dc:title>PowerPoint 演示文稿</dc:title>
</cp:coreProperties>
</file>