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jpeg" ContentType="image/jpeg"/>
  <Override PartName="/ppt/media/image7.jpeg" ContentType="image/jpeg"/>
  <Override PartName="/ppt/media/image9.wmf" ContentType="image/x-wmf"/>
  <Override PartName="/ppt/media/image6.gif" ContentType="image/gif"/>
  <Override PartName="/ppt/media/image17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3.gif" ContentType="image/gif"/>
  <Override PartName="/ppt/media/image22.jpeg" ContentType="image/jpeg"/>
  <Override PartName="/ppt/media/image21.gif" ContentType="image/gif"/>
  <Override PartName="/ppt/media/image20.jpeg" ContentType="image/jpeg"/>
  <Override PartName="/ppt/media/image19.jpeg" ContentType="image/jpeg"/>
  <Override PartName="/ppt/media/image10.png" ContentType="image/png"/>
  <Override PartName="/ppt/media/image16.jpeg" ContentType="image/jpeg"/>
  <Override PartName="/ppt/media/image1.gif" ContentType="image/gif"/>
  <Override PartName="/ppt/media/image24.gif" ContentType="image/gif"/>
  <Override PartName="/ppt/media/image14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020-82C4-464C-B1A6-8B625292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4F7-091C-4FC1-B1D5-71446867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6E7-E10E-4E45-960D-DD584A45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2C3-D365-45E7-9F5E-1C907815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F8C-1249-46C3-977B-99771C3B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66D-3820-4B82-9608-ACF0EC4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198-854E-403A-843B-2AF4DD27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548-3207-46A0-94FF-7648532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B05-6066-4FD6-B293-8AA2551D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A23-EF7A-41D4-B408-FE5C1496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C08-8C2F-4457-8FFC-23CB24B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0F4-4104-46FF-A77A-82895913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CB1A-7224-4564-89FA-726CFB81B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p9" descr="40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09480"/>
            <a:ext cx="815328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角色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声音清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语气符合角色性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、辅以表情动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173160"/>
            <a:ext cx="8610840" cy="6303960"/>
          </a:xfrm>
          <a:prstGeom prst="rect">
            <a:avLst/>
          </a:prstGeom>
          <a:ln w="0">
            <a:noFill/>
          </a:ln>
        </p:spPr>
      </p:pic>
      <p:pic>
        <p:nvPicPr>
          <p:cNvPr id="79" name="4137" descr="4137"/>
          <p:cNvPicPr/>
          <p:nvPr/>
        </p:nvPicPr>
        <p:blipFill>
          <a:blip r:embed="rId2"/>
          <a:stretch/>
        </p:blipFill>
        <p:spPr>
          <a:xfrm flipH="1">
            <a:off x="5943600" y="685800"/>
            <a:ext cx="266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cc3300"/>
                </a:solidFill>
                <a:uFillTx/>
                <a:latin typeface="华文新魏"/>
                <a:ea typeface="华文新魏"/>
              </a:rPr>
              <a:t>合作朗读、表演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请选择你愿意朗读的场景：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590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 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”、妈妈、爸爸的对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(1-1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5053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 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”、万芳、万芳妈妈的对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(25---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78094" descr="78094"/>
          <p:cNvPicPr/>
          <p:nvPr/>
        </p:nvPicPr>
        <p:blipFill>
          <a:blip r:embed="rId1"/>
          <a:stretch/>
        </p:blipFill>
        <p:spPr>
          <a:xfrm>
            <a:off x="0" y="4191120"/>
            <a:ext cx="3352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28600"/>
            <a:ext cx="88390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方正舒体"/>
              </a:rPr>
              <a:t>在朗读中体悟人物形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方正舒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”        妈妈      爸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8197" r="0" b="0"/>
          <a:stretch/>
        </p:blipFill>
        <p:spPr>
          <a:xfrm>
            <a:off x="228600" y="2590920"/>
            <a:ext cx="8915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10170" r="0" b="0"/>
          <a:stretch/>
        </p:blipFill>
        <p:spPr>
          <a:xfrm>
            <a:off x="457200" y="20574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0"/>
            <a:ext cx="739116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方正舒体"/>
              </a:rPr>
              <a:t>在朗读中体悟人物形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我”      万芳      万芳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80880"/>
            <a:ext cx="5867640" cy="10288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羊2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676520"/>
            <a:ext cx="784872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4e01"/>
                </a:solidFill>
                <a:latin typeface="华文中宋"/>
                <a:ea typeface="华文中宋"/>
              </a:rPr>
              <a:t>爸爸、妈妈：羚羊木雕应该讨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4e01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e74e01"/>
                </a:solidFill>
                <a:latin typeface="黑体"/>
                <a:ea typeface="黑体"/>
              </a:rPr>
              <a:t>我     ：羚羊木雕不该讨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4e01"/>
                </a:solidFill>
                <a:latin typeface="黑体"/>
                <a:ea typeface="黑体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论辩时请结合课文内容，要有理有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各组先确定一人作观点陈述，然后自由  辩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要注意抓住对方的疏漏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135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335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合作探究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----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话实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3733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既然“我”已经把羚羊木雕送给了万芳，事情怎样处理才更妥当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E03166_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346120" cy="247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352680" y="1219320"/>
            <a:ext cx="441972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我有一个金点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w3" descr="324817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838080"/>
            <a:ext cx="3581280" cy="99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990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中宋"/>
              </a:rPr>
              <a:t>想想我自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590920"/>
            <a:ext cx="8839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中你曾和父母发生过冲突吗？你是怎样处理的？能让我们分享你的想法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43800" y="4724280"/>
            <a:ext cx="1382760" cy="1930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的《民法通则》对于自然人的民事权利能力和民事行为能力有明确的规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民事通则》第十一条规定：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岁以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民是成年人，具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完全的民事行为能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独立进行民事行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十六条规定：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未成年人的父母是未成年人的监护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”的年龄应该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以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此我的行为应该得到法定监护人即家长的同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080" y="-58680"/>
            <a:ext cx="24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琥珀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你 知 道 吗 </a:t>
            </a: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06494" descr="206494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0880" y="2286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真情实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143000"/>
            <a:ext cx="8534160" cy="56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家是我们永远的港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我们是风筝，父母便是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走到哪儿牵到哪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浓浓 亲情永系心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爱他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就与他们交流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交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彩云简体"/>
              </a:rPr>
              <a:t>是增进感情的源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90720" y="3276720"/>
            <a:ext cx="7696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孩子                                    大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羚羊木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505320"/>
            <a:ext cx="31240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3733920"/>
            <a:ext cx="312408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7339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尊 重 和 理 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商 量 和 沟 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962520"/>
            <a:ext cx="990720" cy="761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95520" y="3886200"/>
            <a:ext cx="685800" cy="762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ShockwaveFlash1"/>
          <p:cNvGraphicFramePr/>
          <p:nvPr/>
        </p:nvGraphicFramePr>
        <p:xfrm>
          <a:off x="152280" y="228600"/>
          <a:ext cx="883944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839440" cy="6400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335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所有的父母都能理解、尊重孩子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所有的子女多一些与父母的沟通，做他们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et10" descr="324592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303749" descr="303749"/>
          <p:cNvPicPr/>
          <p:nvPr/>
        </p:nvPicPr>
        <p:blipFill>
          <a:blip r:embed="rId1"/>
          <a:stretch/>
        </p:blipFill>
        <p:spPr>
          <a:xfrm>
            <a:off x="457200" y="30492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6094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071800"/>
            <a:ext cx="87631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Garamond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Garamond"/>
              </a:rPr>
              <a:t>1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理清思路、理解文章主要内容，体会文中的心理、语言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有感情的朗读课文，体会课文的思想感 情，从 中获得对人生有益的感悟和启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 从不同的角度作探究性阅读，运用自主、合作探究的学习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培养学生健康的心理，正确引导其情感倾向，联系生活实际，学会与父母沟通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j14" descr="337981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3000" y="1219320"/>
            <a:ext cx="62485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想像“我”拿回木雕回家后的情景，模仿课文续写。 ② 与父母一起读这篇课文并讨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③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学会与父母、他人沟通，快乐的生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219320" cy="3962520"/>
          </a:xfrm>
          <a:prstGeom prst="ellipse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8880" y="91440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91540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老师的祝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你，在悄悄地长大。一方面，要学会思考，有主见；另一方面要试着与他人交流、沟通，特别是家人、老师，他们都是你亲密的朋友。让我们多一份思考，多一份理解，多一份沟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愿我们身边的朋友越来越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dr33" descr="139960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52680" y="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紧急求援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-----S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亲爱的同学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大家好，我是世界最伤心的人！因为我对好朋友反悔了。我做了一件很不光彩的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可是，这能全怪我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现在，我正在烦恼中不能自拔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SO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求各位同学火速支援，献出锦囊妙计。拜托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们的朋友——伤心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00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1337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5181480"/>
            <a:ext cx="1458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25640" y="48888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800000"/>
                </a:solidFill>
                <a:latin typeface="方正新舒体简体"/>
                <a:ea typeface="方正新舒体简体"/>
              </a:rPr>
              <a:t>羚 羊 木 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98800" y="1981080"/>
            <a:ext cx="13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方正准圆简体"/>
              </a:rPr>
              <a:t>张 之 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lm02-26" descr=""/>
          <p:cNvPicPr/>
          <p:nvPr/>
        </p:nvPicPr>
        <p:blipFill>
          <a:blip r:embed="rId1"/>
          <a:srcRect l="16971" t="14286" r="16971" b="21482"/>
          <a:stretch/>
        </p:blipFill>
        <p:spPr>
          <a:xfrm>
            <a:off x="1295280" y="2895480"/>
            <a:ext cx="617220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0"/>
            <a:ext cx="3962520" cy="2971800"/>
          </a:xfrm>
          <a:prstGeom prst="cloudCallout">
            <a:avLst>
              <a:gd name="adj1" fmla="val -73236"/>
              <a:gd name="adj2" fmla="val 101976"/>
            </a:avLst>
          </a:prstGeom>
          <a:solidFill>
            <a:srgbClr val="3366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方正舒体"/>
                <a:ea typeface="方正舒体"/>
              </a:rPr>
              <a:t>比一比，看一看，谁的回答最正确</a:t>
            </a:r>
            <a:r>
              <a:rPr b="1" lang="zh-CN" sz="3600" spc="-1" strike="noStrike">
                <a:solidFill>
                  <a:srgbClr val="ffff00"/>
                </a:solidFill>
                <a:latin typeface="方正舒体"/>
                <a:ea typeface="方正舒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2286000" y="2209680"/>
            <a:ext cx="1371600" cy="1676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2362320" y="4724280"/>
            <a:ext cx="1447560" cy="1752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808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3300"/>
                </a:solidFill>
                <a:uFillTx/>
                <a:latin typeface="Arial"/>
                <a:ea typeface="隶书"/>
              </a:rPr>
              <a:t>自主学习：智力陷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4952880" y="4724280"/>
            <a:ext cx="1524240" cy="1752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4724280"/>
            <a:ext cx="1447560" cy="1752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76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羚 羊 木 雕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讲了一个怎样的故事？（用简洁的语言概括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57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3300"/>
                </a:solidFill>
                <a:uFillTx/>
                <a:latin typeface="Arial"/>
                <a:ea typeface="隶书"/>
              </a:rPr>
              <a:t>自主学习</a:t>
            </a:r>
            <a:r>
              <a:rPr b="1" lang="zh-CN" sz="4400" spc="-1" strike="noStrike" u="sng">
                <a:solidFill>
                  <a:srgbClr val="cc3300"/>
                </a:solidFill>
                <a:uFillTx/>
                <a:latin typeface="Arial"/>
                <a:ea typeface="隶书"/>
              </a:rPr>
              <a:t>1---</a:t>
            </a:r>
            <a:r>
              <a:rPr b="1" lang="zh-CN" sz="4400" spc="-1" strike="noStrike" u="sng">
                <a:solidFill>
                  <a:srgbClr val="cc3300"/>
                </a:solidFill>
                <a:uFillTx/>
                <a:latin typeface="隶书"/>
                <a:ea typeface="隶书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fj9" descr="33794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86400" y="1676520"/>
            <a:ext cx="342900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自主学习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羚羊木雕”在课文中起什么作用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743200"/>
            <a:ext cx="3962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线    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93704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线索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是贯穿文章故事情节发展的脉络，使文章故事情节成为一个有机的整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自主学习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体育课上，万芳为“我”做了一件什么事？这部分在文中属于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顺叙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？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插叙？倒叙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743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为“我”换了破裤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657600"/>
            <a:ext cx="609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插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91320" y="17524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4800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插叙：是在顺序过程中先中断原来的叙述，插入有关的故事情节，然后回到原来的记叙中的写作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795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自主学习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、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请把人物填入恰当的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ShockwaveFlash1"/>
          <p:cNvGraphicFramePr/>
          <p:nvPr/>
        </p:nvGraphicFramePr>
        <p:xfrm>
          <a:off x="380880" y="838080"/>
          <a:ext cx="82296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22960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6:58:40Z</dcterms:created>
  <dc:creator>wutao</dc:creator>
  <dc:description/>
  <dc:language>en-US</dc:language>
  <cp:lastModifiedBy>a</cp:lastModifiedBy>
  <dcterms:modified xsi:type="dcterms:W3CDTF">2004-12-16T06:01:51Z</dcterms:modified>
  <cp:revision>100</cp:revision>
  <dc:subject/>
  <dc:title>幻灯片 1</dc:title>
</cp:coreProperties>
</file>