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6619-E88D-4D30-8406-87E8F479F4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播放《朋友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到“讨论交流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？‘链接到〈你知道吗〉进行法律知识渗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家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片尾 放〈朋友〉音乐（周华健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接相应的教学内容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之路（作者介绍）——生字音形——朗读课文——情节结构——讨论交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节”两字链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flash.exe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拖动人物摆在适当的位置）；“结构”两字链接〈书信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8A8-2AF5-4C11-802D-C414815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49D-9156-4E58-97D9-2D5F7BD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DF4-83FD-423F-8FFD-B9B7CC3C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E40-7291-4AE6-A13B-D2B8C87C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00CC-6257-4D8E-80D6-3EFA4D73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AF46-4CBF-4A41-B2BA-EC21A68C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B4F-EC20-4F46-A3D4-25480268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936F-7910-4E28-8485-9657244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1D1-D9A2-4760-9FDE-42C44A5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C91C-8E3A-4F20-AF02-B6792CCF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586-35E0-4F6E-9734-C328C05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539-956D-4BC0-86CF-C9188CA5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9854-8D59-46BA-A722-AC36F29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4CA-AA03-4437-A33B-2EF8FE1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28C4-0CD0-48AC-9D64-B374D7A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5822-23F5-425C-B833-6CA3920A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CC7-26A6-42F7-BA1E-52E906BF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7F2-84AF-4718-AD40-842D4A0A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5D-73CC-40D6-9DF1-6D74F2F2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C82-8683-44C9-830F-52C65B2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370-7C73-4884-8CFB-213361F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10B-5525-4793-AAE1-A5746C8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308-76C3-4839-AEDF-CD6B0AD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848-DAB1-42B1-A85F-55C13E9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1" marL="743040" indent="-285840">
              <a:spcBef>
                <a:spcPts val="799"/>
              </a:spcBef>
              <a:buClr>
                <a:srgbClr val="626292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2" marL="1143000" indent="-22860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3" marL="1600200" indent="-228600">
              <a:spcBef>
                <a:spcPts val="799"/>
              </a:spcBef>
              <a:buClr>
                <a:srgbClr val="626292"/>
              </a:buClr>
              <a:buSzPct val="115000"/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4" marL="2057400" indent="-22860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FF71-11F7-46D8-965B-EF22D6D78844}" type="slidenum"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方正舒体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方正舒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D0B-B3C0-4069-95AE-54722FCCE669}" type="slidenum">
              <a:rPr b="0" lang="zh-CN" sz="1400" spc="-1" strike="noStrike">
                <a:solidFill>
                  <a:srgbClr val="000000"/>
                </a:solidFill>
                <a:latin typeface="方正舒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696080" y="6095880"/>
          <a:ext cx="40644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6095880"/>
                    <a:ext cx="406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8367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们好！终于盼到了能向你们求助的这一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有多烦恼、多痛苦，我不再累述。我现在急需你们帮我解开思想上的疙瘩，我把它列成了几个小问题，附在下一页。我热切地盼望着你们为我出主意，帮我走出困境。        祝你们学习愉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你们的新朋友    露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600200" cy="1559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5562720"/>
            <a:ext cx="76320" cy="75960"/>
          </a:xfrm>
          <a:prstGeom prst="ellipse">
            <a:avLst/>
          </a:prstGeom>
          <a:solidFill>
            <a:srgbClr val="37a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5486400"/>
            <a:ext cx="76320" cy="76320"/>
          </a:xfrm>
          <a:prstGeom prst="ellipse">
            <a:avLst/>
          </a:prstGeom>
          <a:solidFill>
            <a:srgbClr val="37a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3200400"/>
            <a:ext cx="1447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6771bf"/>
                </a:solidFill>
                <a:latin typeface="Times New Roman"/>
                <a:ea typeface="楷体_GB2312"/>
              </a:rPr>
              <a:t>？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91440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7ade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067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1125360"/>
            <a:ext cx="723924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爸爸送我羚羊木雕，我把它送给了好朋友。我这么做对吗？并告诉我你的理由，好吗 </a:t>
            </a:r>
            <a:r>
              <a:rPr b="0" lang="zh-CN" sz="3600" spc="-1" strike="noStrike" u="sng">
                <a:solidFill>
                  <a:srgbClr val="626292"/>
                </a:solidFill>
                <a:uFillTx/>
                <a:latin typeface="Times New Roman"/>
                <a:ea typeface="仿宋_GB2312"/>
                <a:hlinkClick r:id="rId2" action="ppaction://hlinksldjump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 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爸爸妈妈执意让我要回羚羊木雕，而奶奶却说“这不太好”。他们谁有道理呢？我好想听听你们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假如你是我，会因为有万芳这个朋友而庆幸吗？为什么？假如你是万芳，还会做我的好朋友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26292"/>
                </a:solidFill>
                <a:latin typeface="Times New Roman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a2366c"/>
                </a:solidFill>
                <a:latin typeface="Times New Roman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a2366c"/>
                </a:solidFill>
                <a:latin typeface="Times New Roman"/>
                <a:ea typeface="仿宋_GB2312"/>
              </a:rPr>
              <a:t>请同学们写一段话来表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76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Arial"/>
              </a:rPr>
              <a:t>请讨论下列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0200" y="182880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你遇到过类似的伤心事吗？是怎样处理的？能让我分享你的想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2943" t="2986" r="0" b="0"/>
          <a:stretch/>
        </p:blipFill>
        <p:spPr>
          <a:xfrm>
            <a:off x="3276720" y="312408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16002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的《民法通则》对于自然人的民事权利能力和民事行为能力有明确的规定。《民法通则》第十一条规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上的公民是成年人，具有完全的民事行为能力，可以独立进行民事活动。第十六条则规定未成年人的父母是未成年人的监护人。根据课文内容，“我”的年龄应该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以下，因此“我”的行为应该得到法定监护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家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同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057400" y="533520"/>
            <a:ext cx="28195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99cc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知道吗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99cc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5638680"/>
            <a:ext cx="685800" cy="45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小结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《羚羊木雕》展示了两种内心世界：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我”珍惜友情，把羚羊木雕送给万芳；父母心中珍视的是羚羊木雕，逼“我”把羚羊木雕要回来，由此产生冲突。应该说，父母是有欠缺的，“我”也是有欠缺的。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作为中学生的我们，如果在生活中，学会沟通，让父母、他人理解自己，自己也努力去理解父母、他人，这样就能尽量避免出现文中的矛盾冲突。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</p:txBody>
      </p:sp>
    </p:spTree>
  </p:cSld>
  <p:transition spd="slow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家庭”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276640"/>
            <a:ext cx="652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父母一起欣赏这篇小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父母一起探讨后，合理地改编某一部分的故事 情节，并工整地做到稿纸上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761760"/>
            <a:ext cx="4686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方正舒体"/>
                <a:ea typeface="华文新魏"/>
              </a:rPr>
              <a:t>让我们休息一下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16360" y="2781360"/>
            <a:ext cx="3179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66ccff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隶书"/>
              </a:rPr>
              <a:t>谢谢大家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50000">
                    <a:srgbClr val="66ccff"/>
                  </a:gs>
                  <a:gs pos="100000">
                    <a:srgbClr val="ff99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7812000" y="6165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81480" y="2362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626292"/>
                </a:solidFill>
                <a:uFillTx/>
                <a:latin typeface="Times New Roman"/>
                <a:ea typeface="Arial"/>
                <a:hlinkClick r:id="rId2" action="ppaction://hlinksldjump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400" y="45720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220968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59280" y="51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530064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Times New Roman"/>
                <a:hlinkClick r:id="rId4" action="ppaction://hlinksldjump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386064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Times New Roman"/>
                <a:hlinkClick r:id="rId5" action="ppaction://hlinksldjump"/>
              </a:rPr>
              <a:t>生字音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933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讨论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324480" y="4648320"/>
            <a:ext cx="1905120" cy="161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47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揣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3068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26292"/>
                </a:solidFill>
                <a:latin typeface="Arial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年 生于北京。现为中国电影集团策划部编审、一级编剧。国务院授予的有特殊贡献的专家、中国作协儿童文学委员会委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1997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年被入选中央电视台“东方之子”栏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068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电影剧本《霹雳贝贝》、《魔表》、《疯狂的兔子》，长篇小说《第三军团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</a:rPr>
              <a:t>小说集《羚羊木雕》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8200" y="65880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行楷"/>
              </a:rPr>
              <a:t>张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教学目标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1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有感情地朗读，体会课文的思想感情，从中获得对人生有益的启示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2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学习并运用朗读的方法；运用自主、合作探究的学习方式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（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3</a:t>
            </a:r>
            <a:r>
              <a:rPr b="0" lang="zh-CN" sz="3600" spc="-1" strike="noStrike">
                <a:solidFill>
                  <a:srgbClr val="626292"/>
                </a:solidFill>
                <a:latin typeface="方正舒体"/>
              </a:rPr>
              <a:t>）、联系生活实际，学习与父母沟通的方法。</a:t>
            </a:r>
            <a:endParaRPr b="0" lang="en-US" sz="36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给下边加点的字注音，并注意字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2412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3240" y="3500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寒颤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828800"/>
            <a:ext cx="456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628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61040" y="197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23360" y="205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997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997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ǎ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451640" y="595008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3500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攥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924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u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422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颤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941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逮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437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hà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4437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à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566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5661000"/>
            <a:ext cx="76320" cy="76320"/>
          </a:xfrm>
          <a:prstGeom prst="ellipse">
            <a:avLst/>
          </a:prstGeom>
          <a:solidFill>
            <a:srgbClr val="86b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595008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2366c"/>
                </a:solidFill>
                <a:latin typeface="方正舒体"/>
                <a:ea typeface="文鼎中楷P"/>
              </a:rPr>
              <a:t>注意字形</a:t>
            </a:r>
            <a:endParaRPr b="0" lang="en-US" sz="60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595008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981000"/>
            <a:ext cx="2736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犄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16360" y="3429000"/>
            <a:ext cx="2950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颤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1197000"/>
            <a:ext cx="280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攥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1752480"/>
            <a:ext cx="6096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用普通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不添字  不漏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不读破句子  停顿恰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吐字清楚   音量适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仿宋_GB2312"/>
              </a:rPr>
              <a:t>速度合宜   读出表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5160" y="835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Arial"/>
              </a:rPr>
              <a:t>朗读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20827" t="6253" r="13238" b="37500"/>
          <a:stretch/>
        </p:blipFill>
        <p:spPr>
          <a:xfrm>
            <a:off x="5791320" y="4038480"/>
            <a:ext cx="164448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40e6e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68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5445000"/>
            <a:ext cx="21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26292"/>
                </a:solidFill>
                <a:uFillTx/>
                <a:latin typeface="方正舒体"/>
                <a:hlinkClick r:id="rId4" action="ppaction://hlinksldjump"/>
              </a:rPr>
              <a:t>朗读基本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朗读的基本要求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9144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一、 用普通话语音朗读；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二、 把握作品的基调；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-335880">
              <a:spcBef>
                <a:spcPts val="799"/>
              </a:spcBef>
              <a:buClr>
                <a:srgbClr val="a236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三、 掌握朗读的基本技巧：</a:t>
            </a:r>
            <a:endParaRPr b="0" lang="en-US" sz="32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停顿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标点符号停顿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语法停顿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感情停顿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重音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语法重音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强调重音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感情重音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语速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根据内容掌握语速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根据体裁掌握语速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语调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高升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降抑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平直调；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</a:rPr>
              <a:t>、曲折调；</a:t>
            </a:r>
            <a:endParaRPr b="0" lang="en-US" sz="2800" spc="-1" strike="noStrike">
              <a:solidFill>
                <a:srgbClr val="000000"/>
              </a:solidFill>
              <a:latin typeface="方正舒体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87700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40e6e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268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方正舒体"/>
              </a:rPr>
              <a:t>语言揣摩</a:t>
            </a:r>
            <a:endParaRPr b="0" lang="en-US" sz="4400" spc="-1" strike="noStrike">
              <a:solidFill>
                <a:srgbClr val="0033cc"/>
              </a:solidFill>
              <a:latin typeface="方正舒体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紧紧地盯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低着头不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306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十分严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2997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一动不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妈妈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3860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孩子的语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65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咄咄逼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声音有些发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530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坚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373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</a:rPr>
              <a:t>哭着喊了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5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孩子的神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</a:rPr>
              <a:t>妈妈的神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9246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2:17:37Z</dcterms:created>
  <dc:creator>wutao</dc:creator>
  <dc:description/>
  <dc:language>en-US</dc:language>
  <cp:lastModifiedBy>a</cp:lastModifiedBy>
  <dcterms:modified xsi:type="dcterms:W3CDTF">2004-12-16T06:04:00Z</dcterms:modified>
  <cp:revision>100</cp:revision>
  <dc:subject/>
  <dc:title>PowerPoint 演示文稿</dc:title>
</cp:coreProperties>
</file>