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1A1-B07B-41FD-B0D9-3A7B7220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F3C-75AF-4938-A105-24505B15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982-F3DD-43B5-A5A4-A9F42D9E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CC0-2F1C-4B31-BA70-2F2B2C38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525-BDA7-4F1C-8915-3820769D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F0D-7A2C-441D-B80B-41B33C22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5A4-0E64-48A8-997E-38C7F1F1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D86-D0AF-49F2-A790-6DE4A388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4D7-AB1E-42B0-AE97-BAD4CD6F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B3F-0D6D-49CF-9CFF-1BE2B586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284-E7EF-4961-B297-EC891C6C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2E4-4369-41BC-932F-B63E358F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858A-DDB0-4ADD-B46B-8A95C197D2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95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朋友》那首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5400000">
            <a:off x="754560" y="1413360"/>
            <a:ext cx="3529080" cy="22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朋友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51280" y="17733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Times New Roman"/>
              </a:rPr>
              <a:t>谈点看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333360"/>
            <a:ext cx="367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七嘴八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7621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你有类似的经历吗？介绍给大家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2943" t="2986" r="0" b="0"/>
          <a:stretch/>
        </p:blipFill>
        <p:spPr>
          <a:xfrm>
            <a:off x="457200" y="3200400"/>
            <a:ext cx="25066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2195640" y="2637000"/>
            <a:ext cx="2790720" cy="236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828800" y="38088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羚羊木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25909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张之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8229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228600"/>
            <a:ext cx="73152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，整体感知课文，分角色朗读，体会人物思想感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，联系生活，学会与父母、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他人沟通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20827" t="6253" r="13238" b="37500"/>
          <a:stretch/>
        </p:blipFill>
        <p:spPr>
          <a:xfrm>
            <a:off x="0" y="4952880"/>
            <a:ext cx="164448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467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有同学愿意告诉我们文章介绍了一个什么样的故事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9107" r="0" b="0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8895" r="0" b="0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304920"/>
            <a:ext cx="29718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就同学们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读时的神态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语气，看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们是否读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了人物的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感以及对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事的态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讨论下列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32720" y="10666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你怎么看文中的父母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7440" y="1981080"/>
            <a:ext cx="49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父母为什么一定要要回羚羊木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7400" y="289548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父亲为什么要把羚羊木雕送给“我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3809880"/>
            <a:ext cx="44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假如你送给父母的礼物，父母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送给了别人，你会怎么想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257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怎样才能避免这一类不愉快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情发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304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探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90320" y="1419120"/>
            <a:ext cx="456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女儿既然把羚羊木雕送给了万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认为事情怎么处理才妥当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6576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你如果遇到类似“我”那样 的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事，会怎样处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47920"/>
            <a:ext cx="8763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生活中让我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少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少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少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少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少一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93800" y="3808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根据课文所学内容填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3160" y="2743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08480" y="2743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争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3160" y="3429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3160" y="4114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3160" y="4724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79480" y="5410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08480" y="3429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埋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08480" y="4114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猜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4800" y="4724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摩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2160" y="5410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忧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2:59:56Z</dcterms:created>
  <dc:creator>wutao</dc:creator>
  <dc:description/>
  <dc:language>en-US</dc:language>
  <cp:lastModifiedBy>a</cp:lastModifiedBy>
  <dcterms:modified xsi:type="dcterms:W3CDTF">2004-12-16T06:04:48Z</dcterms:modified>
  <cp:revision>100</cp:revision>
  <dc:subject/>
  <dc:title>PowerPoint 演示文稿</dc:title>
</cp:coreProperties>
</file>