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F95-E609-4CDD-AA63-38918AD1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B1F-9B8E-4448-A9E2-9BE181EA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8B5FC-7BA3-4CA3-AD83-46EE394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99B3-7F22-4155-B26E-5AC8C20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1E41-530B-48D3-85D2-AE0186B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42786-B45C-4E00-BCDF-287EE23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24DF3-51CD-4827-8853-694532A4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A52E-57E4-4B2A-BC98-15A9ACA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BF8DD-ACAC-43DF-87D0-9E77C1AE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F29B6-3B46-4019-A6AA-7902042D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F8B94-C6C2-46F1-AB3F-4823CB18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C7D2A-6928-419F-9DB6-E83EAEA0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63B-2B77-416B-8CC2-415B4CFB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BEEB3-4A07-4F7D-A0E4-2ADEE183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5B38-821F-46AD-909D-0F624FA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17E0-BFAF-4D60-8EB3-3C265751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130C2-906B-49DC-8997-39F8203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EC385-18F1-45E5-BB44-4A8EF702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2A101-19FE-4FF0-B85E-9A204D3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0E88F-2751-48B6-A249-034EE39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46588-410C-4D1D-9ADC-953206D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EDA73-C018-4D4A-9C39-4686657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5BB4-9192-4D21-AD69-C98D7963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2E5-2034-4136-8DF9-331841A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07A8A-B296-4249-AF48-2E894582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D92-926F-4200-B83F-31C99F8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39E-B675-40F1-8CE1-5F7CA6A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295A-1FFE-4CA4-B4A5-F5D0834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930D-292C-4527-BF73-7E1FC0C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FF80-A23E-4528-BC36-5B0D46B5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30F-549A-498D-BA29-BF57105A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6C82-6E19-45AD-9F35-6DFD7F9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BE0-6F09-4104-A49A-04FE9E8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92DE-844A-44C5-8E31-7430977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72E6-17E4-4CC6-A50E-89C15B9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6BE9-568E-4018-B960-BE3E279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BA41-DCF0-42E5-8143-096A2B7B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6726-F64C-42F0-B4CE-E7412FA7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AB08-2535-4741-A5FB-B7D31C57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BFBA-BB88-4A7C-92E0-9868075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0C12-868A-44B9-AFB2-E2C1F952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C9FA-6089-43CB-88DD-71B7E0E0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D6BA-618E-4EF9-A422-2DD13274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A11-B65D-46DD-92A6-08037DA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EAA5-DB6A-4181-B5F9-FB67C2B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C973-B3B9-4EAB-91AF-568B528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DB95-2974-4F7C-B15F-6B0E965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CCCD-09C1-4F21-BCE9-6787773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C76B-6042-47EE-B248-A775760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3721-C490-4221-B40A-AA492031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09D5-4D90-45C6-9049-6EE2114D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D703-B866-4A5F-BD30-DD9319BF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B102-A5E0-459F-8CD4-38BEB01A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F425-C52E-46B8-AD25-D045206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478-D596-483F-BEBA-219EFC69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8C9F-A0B8-40BC-BBC7-0194807A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0C3C-7402-4195-BE5B-1B58FF5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4B39-2A0F-449D-B312-AE29E19E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97BC-E014-4EC1-ADE7-B2188AF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C7A6-A95A-4298-8D04-12A5321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D29F-0338-4728-BC47-277AEB6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6218-F684-400C-91C0-3DD84B6A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5CE8-420A-45F1-96B1-4ECBC60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7794-B96C-400F-A80A-1041237C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E60D-DBC5-4F57-B254-52B4454B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098-AAA5-434A-AF72-87060C7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7ECB-063E-46E9-80C1-84ACC12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DE33-A5FA-45C2-A763-CB3FD67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DA94-DCAC-48BB-9905-9D1F31BC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F7A1-440B-4AFD-B32F-2EC30AB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4911F-1F82-414C-8BBF-0D09EC6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C4D8-5D29-41C7-B97E-FCAE1B8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84D5-1AA0-4FFC-B453-93295FB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91DD-CC5F-47A8-8392-98F3D31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C5ED-0ACA-4C16-B247-0DE8E98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F3DA-1FD6-457B-B3AD-1FA5B17B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383-7218-4F30-B130-4380C51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EF88A-C6DA-404E-B397-FCFC3F3D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AAC3-2E3D-47F8-8782-83183A72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0848B-077D-4E26-B2C0-125DE39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7A5B-9A7E-48A1-95E9-3E2D5C3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D3791-09AB-49F0-8EFE-1C2C68A8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DDB9-2E46-4D97-B4F8-48755C8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3D2E-8297-442B-A608-22F3EFC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E291-25E1-49FC-A478-7532A879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A540-A756-461E-AE10-C975CD2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F996-0F18-47FE-89B4-84F326A3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9A0-EAD3-4C45-85A8-87C8A1C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4F5D-EE7D-4AB2-AAF2-F5D0E0A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3F9A-AC3C-4F50-8A15-82C76F4E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1633-25F1-408B-8C0D-B5FE55DF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AB91-DA5A-44D0-9465-846347EE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E7C72-E3A3-4A07-B633-A819DC0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3414D-8C27-4964-94D3-51897DB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C464-69D3-435D-93B6-70C3A5E1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CF97-03F4-450E-98EB-05FE0EA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31FB0-ADD7-4056-B43F-83730A3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2E10-26E8-42EC-8AB8-E1C2698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A3E-025A-4FCB-8C8C-E46305F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6318-9DB5-4E3F-A706-6CDA406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F4F8-941E-4047-A7CC-139B673D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A5E7-D334-48A6-B54B-0B1ED94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6328-9AF1-4F81-8E28-BBFC93B5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5B61E-2482-4295-8CFD-477B76D7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6750-3CCE-4258-A24F-F0247EFF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AEBD-E91F-4911-9CD1-625D0EF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DA989-C2DF-4B13-AFAB-5FA864BF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3242D-2D76-47A6-8847-E80216EF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8F29-09DC-4AD2-BD6B-DA6F688D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05B-51C0-4BA5-889C-A4C4608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951D6-A70E-4F54-A19C-827EE5FF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A754-319B-4117-BCE8-3D7FDA7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C9AA-39CB-4086-BAD4-C9DBC29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95CC-9106-43C5-AD4E-1B8EB319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B259D-5EA4-4EE4-ADF3-8F37E64C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63128-2B1B-4935-87C8-6B8110F3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E8A21-8574-438E-B035-BBF544F1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C841-819B-456E-99DC-4FA9E17D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06947-494A-447E-8B24-05A8BA0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26707-4F8B-4452-9CF2-F3C4371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C6A1-D293-41FB-8E36-42185D511DF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D5F-1C9E-490C-9929-FA75CBF1E01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7CC-0552-4F7C-8540-B1F2A595446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929-257E-4282-B77E-88A4809E037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439-2863-4BE4-8F2F-B7F62E3048B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0830-CBCB-4061-839F-4BAD3A55C8D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FB9-6591-4504-8701-849A77EE76C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6A7-1816-4B70-9E44-08E500E4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D8DF-1A95-4A86-85AE-7BC0C382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5850-1E10-4424-A233-3C2F16E1452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619280" y="260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Verdana"/>
                <a:ea typeface="楷体_GB2312"/>
              </a:rPr>
              <a:t>欢 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19280" y="256536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Verdana"/>
              </a:rPr>
              <a:t>光临指导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rcRect l="0" t="889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2"/>
          <a:srcRect l="0" t="100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">
            <a:hlinkClick r:id="rId3" action="ppaction://hlinksldjump"/>
          </p:cNvPr>
          <p:cNvSpPr/>
          <p:nvPr/>
        </p:nvSpPr>
        <p:spPr>
          <a:xfrm>
            <a:off x="845964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2124000" cy="5157720"/>
          </a:xfrm>
          <a:prstGeom prst="rect">
            <a:avLst/>
          </a:prstGeom>
          <a:solidFill>
            <a:srgbClr val="f1e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32000" y="220500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e8d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0920" y="404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方正舒体"/>
              </a:rPr>
              <a:t>超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6920" y="2997360"/>
            <a:ext cx="86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Verdana"/>
                <a:ea typeface="华文行楷"/>
              </a:rPr>
              <a:t>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6920" y="4005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行楷"/>
              </a:rPr>
              <a:t>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5640" y="1125360"/>
            <a:ext cx="655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．针对这样一场家庭冲突谈谈你的看法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参考角度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父母逼“我”取回木雕的做法；对“我”送木雕给万芳的做法；怎样避免不愉快事情发生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．你有没有遇到类似的烦恼？你是怎么处理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03280" y="189000"/>
            <a:ext cx="1944720" cy="1079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00000" y="692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老师的话</a:t>
            </a:r>
            <a:r>
              <a:rPr b="1" lang="en-US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2000" y="1413000"/>
            <a:ext cx="662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父母深爱孩子，把珍贵的羚羊木雕送给孩子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孩子珍视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又把羚羊木雕送给最好的朋友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亲情、友情都是世间最美好、最珍贵的情感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之所以发生不愉快的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是因为缺乏沟通和理解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遇事考虑不周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如果彼此多些尊重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多些体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就不会发生这样的事情了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愿我们都拥有珍贵的亲情和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愿我们都珍惜美好的亲情和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02800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187280" y="620640"/>
            <a:ext cx="3889440" cy="916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课外任务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2492280"/>
            <a:ext cx="597708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给文中的小姑娘写一封信，安慰她，开导她，并告诉她你的想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556000" y="2205000"/>
            <a:ext cx="3666960" cy="33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2" name=""/>
          <p:cNvSpPr/>
          <p:nvPr/>
        </p:nvSpPr>
        <p:spPr>
          <a:xfrm>
            <a:off x="1403280" y="630864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162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犄角（   ）   兜里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挽回（   ）   逮着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不禁（   ）   寒颤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反悔（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   怦怦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杈（   ）   攥着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（    ）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71640" y="1700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56000" y="26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ǎ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56000" y="35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u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56000" y="5445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3272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803280" y="263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2720" y="364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59640" y="443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2720" y="544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2484360" cy="11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2050920" cy="98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16000" y="333360"/>
            <a:ext cx="20890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71640" y="404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10" h="21600">
                <a:moveTo>
                  <a:pt x="13511" y="14281"/>
                </a:moveTo>
                <a:lnTo>
                  <a:pt x="13511" y="12323"/>
                </a:lnTo>
                <a:cubicBezTo>
                  <a:pt x="13511" y="11496"/>
                  <a:pt x="13841" y="10800"/>
                  <a:pt x="14442" y="10800"/>
                </a:cubicBezTo>
                <a:cubicBezTo>
                  <a:pt x="15573" y="10800"/>
                  <a:pt x="16470" y="9434"/>
                  <a:pt x="16470" y="7849"/>
                </a:cubicBezTo>
                <a:cubicBezTo>
                  <a:pt x="16470" y="5534"/>
                  <a:pt x="14616" y="3794"/>
                  <a:pt x="12405" y="3794"/>
                </a:cubicBezTo>
                <a:cubicBezTo>
                  <a:pt x="10194" y="3794"/>
                  <a:pt x="8523" y="5534"/>
                  <a:pt x="8523" y="7849"/>
                </a:cubicBezTo>
                <a:lnTo>
                  <a:pt x="10377" y="7849"/>
                </a:lnTo>
                <a:cubicBezTo>
                  <a:pt x="10377" y="6709"/>
                  <a:pt x="11300" y="5821"/>
                  <a:pt x="12405" y="5821"/>
                </a:cubicBezTo>
                <a:cubicBezTo>
                  <a:pt x="13511" y="5821"/>
                  <a:pt x="14442" y="6709"/>
                  <a:pt x="14442" y="7849"/>
                </a:cubicBezTo>
                <a:cubicBezTo>
                  <a:pt x="14442" y="8589"/>
                  <a:pt x="13972" y="9320"/>
                  <a:pt x="13511" y="9320"/>
                </a:cubicBezTo>
                <a:cubicBezTo>
                  <a:pt x="12405" y="9320"/>
                  <a:pt x="11300" y="10800"/>
                  <a:pt x="11300" y="12323"/>
                </a:cubicBezTo>
                <a:lnTo>
                  <a:pt x="11300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1279440"/>
            <a:ext cx="35290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犄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仗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形影不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挽回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反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光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8000" y="1268280"/>
            <a:ext cx="5400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物体两个边沿相接的地方，本课指桌面的两个边沿相接的地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讲义气。仗：拿着，引申为主持、讲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成语。像物体跟它的影子那样分不开，形容彼此关系密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扭转已成的不利局面。挽：拉，引申为扭转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寒噤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In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，本课指因受冷而身体颤动。［注意］也作“寒战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对以前允诺的事后悔而不承认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形容词。原指颜色和光泽，也用来比喻光荣。本课指后者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000" y="1557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7964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43280" y="31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8000" y="407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08000" y="465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8000" y="551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35280" y="6381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Verdana"/>
              </a:rPr>
              <a:t>羚羊木雕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219280" y="4941720"/>
            <a:ext cx="252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行楷"/>
              </a:rPr>
              <a:t>张之路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596360" y="5157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2733840" cy="627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Comic Sans MS"/>
                <a:ea typeface="方正姚体"/>
              </a:rPr>
              <a:t>张之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45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出生。山东诸城人。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68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毕业于北京师范学院物理系。曾任中学教师多年，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82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调中国儿童电影制片厂，现任该厂文学部主任。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77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开始发表小说、话剧，著有长篇小说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第三军团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，电影剧本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霹雳贝贝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，小说集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羚羊木雕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84360" y="0"/>
            <a:ext cx="6659640" cy="6858000"/>
          </a:xfrm>
          <a:prstGeom prst="rect">
            <a:avLst/>
          </a:prstGeom>
          <a:solidFill>
            <a:srgbClr val="fdc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62064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课内任务</a:t>
            </a:r>
            <a:r>
              <a:rPr b="1" lang="en-US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4000" y="1989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初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35280" y="328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高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08360" y="458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超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1" action="ppaction://hlinksldjump"/>
          </p:cNvPr>
          <p:cNvSpPr/>
          <p:nvPr/>
        </p:nvSpPr>
        <p:spPr>
          <a:xfrm>
            <a:off x="6300720" y="227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3837"/>
                </a:moveTo>
                <a:lnTo>
                  <a:pt x="15167" y="6448"/>
                </a:ln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lnTo>
                  <a:pt x="19554" y="10800"/>
                </a:lnTo>
                <a:lnTo>
                  <a:pt x="17900" y="10800"/>
                </a:lnTo>
                <a:lnTo>
                  <a:pt x="17900" y="17989"/>
                </a:lnTo>
                <a:lnTo>
                  <a:pt x="7282" y="17989"/>
                </a:lnTo>
                <a:lnTo>
                  <a:pt x="7282" y="10800"/>
                </a:lnTo>
                <a:lnTo>
                  <a:pt x="5628" y="10800"/>
                </a:lnTo>
                <a:close/>
              </a:path>
              <a:path fill="darkenLess" w="25182" h="21600">
                <a:moveTo>
                  <a:pt x="15167" y="6448"/>
                </a:move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close/>
              </a:path>
              <a:path fill="darkenLess" w="25182" h="21600">
                <a:moveTo>
                  <a:pt x="11668" y="14299"/>
                </a:moveTo>
                <a:lnTo>
                  <a:pt x="13514" y="14299"/>
                </a:lnTo>
                <a:lnTo>
                  <a:pt x="13514" y="17989"/>
                </a:lnTo>
                <a:lnTo>
                  <a:pt x="17900" y="17989"/>
                </a:lnTo>
                <a:lnTo>
                  <a:pt x="17900" y="10800"/>
                </a:lnTo>
                <a:lnTo>
                  <a:pt x="7282" y="10800"/>
                </a:lnTo>
                <a:lnTo>
                  <a:pt x="7282" y="17989"/>
                </a:lnTo>
                <a:lnTo>
                  <a:pt x="11668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6300720" y="350028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rId3" action="ppaction://hlinksldjump"/>
          </p:cNvPr>
          <p:cNvSpPr/>
          <p:nvPr/>
        </p:nvSpPr>
        <p:spPr>
          <a:xfrm>
            <a:off x="6300720" y="4797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124000" y="33336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0"/>
            <a:ext cx="1979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844640"/>
            <a:ext cx="2124000" cy="50133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442440" y="3213000"/>
            <a:ext cx="2009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初级任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5640" y="1844640"/>
            <a:ext cx="0" cy="1224000"/>
          </a:xfrm>
          <a:prstGeom prst="line">
            <a:avLst/>
          </a:prstGeom>
          <a:ln w="76320">
            <a:solidFill>
              <a:srgbClr val="e400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16000" y="1844640"/>
            <a:ext cx="0" cy="936720"/>
          </a:xfrm>
          <a:prstGeom prst="line">
            <a:avLst/>
          </a:prstGeom>
          <a:ln w="76320">
            <a:solidFill>
              <a:srgbClr val="e400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e8d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333360"/>
            <a:ext cx="6948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选择你喜欢的方式快速浏览课文，然后围绕以下话题展开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说说文章为什么以“羚羊木雕”为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文章写了发生在三个时间的三件事：哪三件事？作者是怎样布局的？这样布局有何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作者运用哪些方法来刻画人物？这样描写有何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87280" y="620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43280" y="62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27640" y="620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43640" y="62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今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87640" y="17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0720" y="1341360"/>
            <a:ext cx="115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妈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爸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奶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我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00720" y="17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逼“我”取回木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357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昨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8764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4720" y="3429000"/>
            <a:ext cx="143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43640" y="357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送羚羊木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4941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上星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4797360"/>
            <a:ext cx="10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43640" y="479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拿自己的新裤子换“我”的破裤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84360" y="3141720"/>
            <a:ext cx="3959280" cy="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924280"/>
            <a:ext cx="1511280" cy="1871640"/>
          </a:xfrm>
          <a:prstGeom prst="cloudCallout">
            <a:avLst>
              <a:gd name="adj1" fmla="val 43699"/>
              <a:gd name="adj2" fmla="val 7069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0920" y="306864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</a:rPr>
              <a:t>插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0920" y="4581360"/>
            <a:ext cx="288720" cy="1584360"/>
          </a:xfrm>
          <a:custGeom>
            <a:avLst/>
            <a:gdLst>
              <a:gd name="textAreaLeft" fmla="*/ 38520 w 288720"/>
              <a:gd name="textAreaRight" fmla="*/ 250200 w 288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5877000"/>
            <a:ext cx="324036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9640" y="587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Verdana"/>
                <a:ea typeface="华文新魏"/>
              </a:rPr>
              <a:t>情节紧凑，波澜起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56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67280" y="2708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33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63640" y="105264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华文新魏"/>
              </a:rPr>
              <a:t>人物描写</a:t>
            </a:r>
            <a:r>
              <a:rPr b="1" lang="en-US" sz="4800" spc="-1" strike="noStrike">
                <a:solidFill>
                  <a:srgbClr val="0033cc"/>
                </a:solidFill>
                <a:latin typeface="Verdana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76720" y="40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rId2" action="ppaction://hlinksldjump"/>
          </p:cNvPr>
          <p:cNvSpPr/>
          <p:nvPr/>
        </p:nvSpPr>
        <p:spPr>
          <a:xfrm>
            <a:off x="7093080" y="4292640"/>
            <a:ext cx="358560" cy="28872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13409" y="3837"/>
                </a:moveTo>
                <a:lnTo>
                  <a:pt x="15986" y="6448"/>
                </a:lnTo>
                <a:lnTo>
                  <a:pt x="15986" y="4707"/>
                </a:lnTo>
                <a:lnTo>
                  <a:pt x="17761" y="4707"/>
                </a:lnTo>
                <a:lnTo>
                  <a:pt x="17761" y="8224"/>
                </a:lnTo>
                <a:lnTo>
                  <a:pt x="20372" y="10800"/>
                </a:lnTo>
                <a:lnTo>
                  <a:pt x="18718" y="10800"/>
                </a:lnTo>
                <a:lnTo>
                  <a:pt x="18718" y="17989"/>
                </a:lnTo>
                <a:lnTo>
                  <a:pt x="8100" y="17989"/>
                </a:lnTo>
                <a:lnTo>
                  <a:pt x="8100" y="10800"/>
                </a:lnTo>
                <a:lnTo>
                  <a:pt x="6446" y="10800"/>
                </a:lnTo>
                <a:close/>
              </a:path>
              <a:path fill="darkenLess" w="26818" h="21600">
                <a:moveTo>
                  <a:pt x="15986" y="6448"/>
                </a:moveTo>
                <a:lnTo>
                  <a:pt x="15986" y="4707"/>
                </a:lnTo>
                <a:lnTo>
                  <a:pt x="17761" y="4707"/>
                </a:lnTo>
                <a:lnTo>
                  <a:pt x="17761" y="8224"/>
                </a:lnTo>
                <a:close/>
              </a:path>
              <a:path fill="darkenLess" w="26818" h="21600">
                <a:moveTo>
                  <a:pt x="12487" y="14299"/>
                </a:moveTo>
                <a:lnTo>
                  <a:pt x="14332" y="14299"/>
                </a:lnTo>
                <a:lnTo>
                  <a:pt x="14332" y="17989"/>
                </a:lnTo>
                <a:lnTo>
                  <a:pt x="18718" y="17989"/>
                </a:lnTo>
                <a:lnTo>
                  <a:pt x="18718" y="10800"/>
                </a:lnTo>
                <a:lnTo>
                  <a:pt x="8100" y="10800"/>
                </a:lnTo>
                <a:lnTo>
                  <a:pt x="8100" y="17989"/>
                </a:lnTo>
                <a:lnTo>
                  <a:pt x="12487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35280" y="5373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Verdana"/>
                <a:ea typeface="华文新魏"/>
              </a:rPr>
              <a:t>环境描写</a:t>
            </a:r>
            <a:r>
              <a:rPr b="1" lang="en-US" sz="4400" spc="-1" strike="noStrike">
                <a:solidFill>
                  <a:srgbClr val="0033cc"/>
                </a:solidFill>
                <a:latin typeface="Verdana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59280" y="1773360"/>
            <a:ext cx="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2637000"/>
            <a:ext cx="2881440" cy="1728720"/>
          </a:xfrm>
          <a:prstGeom prst="flowChartPunchedTap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00000" y="29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有利于刻画人物性格，表现人物的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88000" y="5300640"/>
            <a:ext cx="3816360" cy="1081080"/>
          </a:xfrm>
          <a:custGeom>
            <a:avLst/>
            <a:gdLst>
              <a:gd name="textAreaLeft" fmla="*/ 0 w 3816360"/>
              <a:gd name="textAreaRight" fmla="*/ 3816720 w 381636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5589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渲染气氛，烘托人物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3" action="ppaction://hlinksldjump"/>
          </p:cNvPr>
          <p:cNvSpPr/>
          <p:nvPr/>
        </p:nvSpPr>
        <p:spPr>
          <a:xfrm>
            <a:off x="25092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10800"/>
                </a:moveTo>
                <a:lnTo>
                  <a:pt x="19331" y="3794"/>
                </a:lnTo>
                <a:lnTo>
                  <a:pt x="19331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826920" y="198900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6920" y="270828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3357720"/>
            <a:ext cx="15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00000" y="1197000"/>
            <a:ext cx="86364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Verdana"/>
              </a:rPr>
              <a:t>神态描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40360" y="260280"/>
            <a:ext cx="1295640" cy="703440"/>
          </a:xfrm>
          <a:prstGeom prst="rect">
            <a:avLst/>
          </a:prstGeom>
          <a:solidFill>
            <a:srgbClr val="fdc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我</a:t>
            </a:r>
            <a:r>
              <a:rPr b="1" lang="en-US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260280"/>
            <a:ext cx="1224000" cy="703440"/>
          </a:xfrm>
          <a:prstGeom prst="rect">
            <a:avLst/>
          </a:prstGeom>
          <a:solidFill>
            <a:srgbClr val="ecf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08720" y="54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方正姚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24360" y="1052640"/>
            <a:ext cx="2953080" cy="3764160"/>
          </a:xfrm>
          <a:prstGeom prst="rect">
            <a:avLst/>
          </a:prstGeom>
          <a:solidFill>
            <a:srgbClr val="fdc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心怦怦地跳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小声地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一动不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低着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声音有些发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哭着喊了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27280" y="1052640"/>
            <a:ext cx="2952720" cy="3764160"/>
          </a:xfrm>
          <a:prstGeom prst="rect">
            <a:avLst/>
          </a:prstGeom>
          <a:solidFill>
            <a:srgbClr val="eef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突然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目光紧紧地盯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十分严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71640" y="4869000"/>
            <a:ext cx="5472360" cy="0"/>
          </a:xfrm>
          <a:prstGeom prst="line">
            <a:avLst/>
          </a:prstGeom>
          <a:ln cap="rnd" w="7632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03280" y="5300640"/>
            <a:ext cx="5616720" cy="1297080"/>
          </a:xfrm>
          <a:prstGeom prst="wedgeEllipseCallout">
            <a:avLst>
              <a:gd name="adj1" fmla="val -44347"/>
              <a:gd name="adj2" fmla="val -104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9236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着力渲染对话的气氛，表明妈妈为一件工艺品就伤害了孩子的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781200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2124000" cy="1773360"/>
          </a:xfrm>
          <a:prstGeom prst="rect">
            <a:avLst/>
          </a:prstGeom>
          <a:solidFill>
            <a:srgbClr val="ecf094"/>
          </a:solidFill>
          <a:ln w="9360">
            <a:solidFill>
              <a:srgbClr val="ecf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500280"/>
            <a:ext cx="2124000" cy="3357720"/>
          </a:xfrm>
          <a:prstGeom prst="rect">
            <a:avLst/>
          </a:prstGeom>
          <a:solidFill>
            <a:srgbClr val="ecf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84360" y="0"/>
            <a:ext cx="6659640" cy="6858000"/>
          </a:xfrm>
          <a:prstGeom prst="rect">
            <a:avLst/>
          </a:prstGeom>
          <a:solidFill>
            <a:srgbClr val="eef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18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高 </a:t>
            </a:r>
            <a:r>
              <a:rPr b="1" i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71640" y="8366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42920" y="378936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9640" y="53006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0000" y="189000"/>
            <a:ext cx="6553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情境体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角色定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妈妈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着急、生硬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爸爸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平静、有力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奶奶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慈祥、无奈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”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委屈、无助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万芳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仗义、爽朗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评价角度：感情投入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吐字清晰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语音准确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配合默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35280" y="765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35280" y="1413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8000" y="5805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8000" y="4653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6:05:36Z</dcterms:modified>
  <cp:revision>100</cp:revision>
  <dc:subject/>
  <dc:title>PowerPoint Presentation</dc:title>
</cp:coreProperties>
</file>