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2E7-D01F-447C-B508-53BA1885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AA1-6D57-446D-AB0F-7FED6E7E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51D-4E95-4949-92B9-122E3DC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377-0E1B-4AC9-B151-E7699E8E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0F47-C348-4742-8DC8-497C1CFA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D665-01B6-413B-91C0-C6110AD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D1F-5EA4-48D8-8C9E-49A7AFB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B262-801E-4E04-B695-834CDE6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A81-1C6D-422B-9BE7-47F21DD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3270-1C5D-4293-BF84-72F1D220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00BB-87B8-455B-9EC5-E404B14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4A2-697A-4DAE-993A-78D9CD7D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9195-BFEE-4926-AE79-1179DD6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C3F-6A68-42F2-8309-EFEF434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2390-1B92-47AD-9EDD-1E73A328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8F6A-E8C9-4253-8B92-B18ED2B6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A56F-C72B-402F-B675-0C3180CE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524-209E-4594-9C7B-D901B5D8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4BF-4138-4E17-935E-B3F70544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6B5-98B6-4EE8-B253-DB6E9676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D24-142D-4EAB-B643-C29626D8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0BA-10BD-42C4-939C-EA879AB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B67-B955-4EE3-B674-4BF06EA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0C1-3CB0-4E76-AB62-6DC6C2A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558-AE07-44AD-AD38-A8403610C520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067C-0642-47EE-874B-156181015924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《散步》情景图1" descr=""/>
          <p:cNvPicPr/>
          <p:nvPr/>
        </p:nvPicPr>
        <p:blipFill>
          <a:blip r:embed="rId2"/>
          <a:stretch/>
        </p:blipFill>
        <p:spPr>
          <a:xfrm>
            <a:off x="1523880" y="4576680"/>
            <a:ext cx="3276720" cy="2281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05320" y="152388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散    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58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莫怀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21337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宋体"/>
              </a:rPr>
              <a:t>《散步》的语言平易朴实，然而内涵丰富，耐人寻味，如同橄榄一般，越嚼越觉得有滋味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她现在很听我的话，就像我小时候很听她的话一样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371600"/>
            <a:ext cx="4648320" cy="1981080"/>
          </a:xfrm>
          <a:prstGeom prst="cloudCallout">
            <a:avLst>
              <a:gd name="adj1" fmla="val -42962"/>
              <a:gd name="adj2" fmla="val -674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句话写母子关系，母亲明理，儿子孝顺，相映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276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小家伙突然大叫起来：‘前面也是妈妈和儿子，后面也是妈妈和儿子。’我们都笑了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4419720"/>
            <a:ext cx="6019920" cy="2286000"/>
          </a:xfrm>
          <a:prstGeom prst="cloudCallout">
            <a:avLst>
              <a:gd name="adj1" fmla="val -57648"/>
              <a:gd name="adj2" fmla="val -51805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两句话充满生活情趣，既表现了小家伙的天真、聪颖，又表现了家庭的幸福、温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68580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这南方初春的田野，大块小块的新绿随意地铺着，有的浓，有的淡；树上的嫩芽也密了；田里的冬水也咕咕地起着水泡。这一切都使人想着一样东西——生命。”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886200"/>
            <a:ext cx="6324840" cy="2438280"/>
          </a:xfrm>
          <a:prstGeom prst="cloudCallout">
            <a:avLst>
              <a:gd name="adj1" fmla="val -33435"/>
              <a:gd name="adj2" fmla="val -90171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段话通过初春景色的描绘，表现了春天蓬勃的生机，暗示熬过了严冬的母亲将会获得新的活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914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我的母亲虽然高大，然而很瘦，自然不算重；儿子虽然很胖，毕竟幼小，自然也轻。但我和妻子都是慢慢地，稳稳地，走得很仔细，好像我背上的同她背上的加起来，就是整个世界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267080"/>
            <a:ext cx="7391520" cy="1981440"/>
          </a:xfrm>
          <a:prstGeom prst="wedgeRoundRectCallout">
            <a:avLst>
              <a:gd name="adj1" fmla="val 6680"/>
              <a:gd name="adj2" fmla="val -108171"/>
              <a:gd name="adj3" fmla="val 16667"/>
            </a:avLst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作者站在人生的中点上，一边是长辈，一边是后代，也处在生命之链的关节上。这里既有作者强烈的责任感，又体现了作者挚爱生活，品尝人生甜美的无穷韵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838080"/>
            <a:ext cx="739152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课文中像这样“于平实中见灵气，在浅易中见哲理”的语句还有很多，例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要走大路，大路平顺；我的儿子要走小路，小路有意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母亲老了，她早已习惯听从她强壮的儿子；我的儿子还小，他还习惯听从他高大的父亲。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请同学们找出来并联系上下文，认真体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3:25:28Z</dcterms:created>
  <dc:creator>wutao</dc:creator>
  <dc:description/>
  <dc:language>en-US</dc:language>
  <cp:lastModifiedBy>zyb</cp:lastModifiedBy>
  <dcterms:modified xsi:type="dcterms:W3CDTF">2004-12-06T02:44:44Z</dcterms:modified>
  <cp:revision>100</cp:revision>
  <dc:subject/>
  <dc:title>PowerPoint 演示文稿</dc:title>
</cp:coreProperties>
</file>