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5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14.jpeg" ContentType="image/jpeg"/>
  <Override PartName="/ppt/media/image9.jpeg" ContentType="image/jpeg"/>
  <Override PartName="/ppt/media/image6.gif" ContentType="image/gif"/>
  <Override PartName="/ppt/media/image11.gif" ContentType="image/gif"/>
  <Override PartName="/ppt/media/image5.jpeg" ContentType="image/jpeg"/>
  <Override PartName="/ppt/media/image7.gif" ContentType="image/gif"/>
  <Override PartName="/ppt/media/image12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1AC-975E-4309-8299-D562E124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AD9-0DE8-4BE0-B784-501C537B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2AF-FCCA-4E11-9409-1669A6DF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92CD-76F3-43D7-93C2-12B33D06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6B59-F538-4BF4-ABE9-311F8E4A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922-0201-4950-827B-3FC3E01A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012-5196-4F41-B97B-5305FE71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3D3-D8A1-4650-A39D-6D75BC3A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ABC-BC51-4016-AC37-11A06C0C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7F45-EFEC-4891-BF05-52E7F20B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9636-DF2A-487E-8D24-D64ECAB5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DF2-2756-4104-BCDF-9041B08D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747A-ECE6-4EF4-BB84-6281B6C052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EMINDER.WAV" TargetMode="External"/><Relationship Id="rId2" Type="http://schemas.microsoft.com/office/2007/relationships/media" Target="file:///tmp/home/.config/libreoffice/4/user/gallery/REMINDER.WAV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380880" y="914040"/>
            <a:ext cx="198108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60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散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 rot="5400000">
            <a:off x="2400120" y="799920"/>
            <a:ext cx="167652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64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步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2590920" y="327672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莫怀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8001000" y="304920"/>
            <a:ext cx="8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叙事散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natur160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3049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28600"/>
            <a:ext cx="716256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亲情是一坛陈年老酒，甜美醇香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亲情是一幅传世名画，精美隽永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亲情是一首经典老歌，轻柔温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亲情是一方名贵丝帕，细腻光滑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父母和子女是亲情的最大拥有者，让我们拿起笔来，抒写我们的家，抒写我们的亲情吧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题目：《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爱》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L_102" descr=""/>
          <p:cNvPicPr/>
          <p:nvPr/>
        </p:nvPicPr>
        <p:blipFill>
          <a:blip r:embed="rId2"/>
          <a:stretch/>
        </p:blipFill>
        <p:spPr>
          <a:xfrm>
            <a:off x="6934320" y="0"/>
            <a:ext cx="1942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57_1散步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5400000">
            <a:off x="3428640" y="456840"/>
            <a:ext cx="198108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60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散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" name=""/>
          <p:cNvSpPr txBox="1"/>
          <p:nvPr/>
        </p:nvSpPr>
        <p:spPr>
          <a:xfrm rot="5400000">
            <a:off x="4762080" y="342720"/>
            <a:ext cx="1676520" cy="99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64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步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/>
          <p:nvPr/>
        </p:nvSpPr>
        <p:spPr>
          <a:xfrm>
            <a:off x="684756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叙事散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5638680" y="213372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莫怀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0" y="1401840"/>
            <a:ext cx="4572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花8" descr=""/>
          <p:cNvPicPr/>
          <p:nvPr/>
        </p:nvPicPr>
        <p:blipFill>
          <a:blip r:embed="rId1"/>
          <a:stretch/>
        </p:blipFill>
        <p:spPr>
          <a:xfrm>
            <a:off x="0" y="5791320"/>
            <a:ext cx="876312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蝶3" descr=""/>
          <p:cNvPicPr/>
          <p:nvPr/>
        </p:nvPicPr>
        <p:blipFill>
          <a:blip r:embed="rId2"/>
          <a:stretch/>
        </p:blipFill>
        <p:spPr>
          <a:xfrm>
            <a:off x="2971800" y="4800600"/>
            <a:ext cx="281952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30240"/>
            <a:ext cx="83818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目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情感朗读，感悟浓浓亲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品味语言，感受散文语言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培养尊老爱幼、珍爱亲情、珍  爱生命的情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cp00730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609480"/>
            <a:ext cx="7848720" cy="20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同学们用愉快、深沉的语调齐读全文，边读边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本文的中心事件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用文中的一个词说出在散步过程中   发生了什么事？解决了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GL_036" descr=""/>
          <p:cNvPicPr/>
          <p:nvPr/>
        </p:nvPicPr>
        <p:blipFill>
          <a:blip r:embed="rId2"/>
          <a:stretch/>
        </p:blipFill>
        <p:spPr>
          <a:xfrm>
            <a:off x="0" y="5791320"/>
            <a:ext cx="198108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295280" y="129528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评谈人物   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33920" y="380880"/>
            <a:ext cx="308592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品味语言 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324480" y="137160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感悟亲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61" name="卡通2" descr=""/>
          <p:cNvPicPr/>
          <p:nvPr/>
        </p:nvPicPr>
        <p:blipFill>
          <a:blip r:embed="rId1"/>
          <a:stretch/>
        </p:blipFill>
        <p:spPr>
          <a:xfrm>
            <a:off x="3886200" y="1752480"/>
            <a:ext cx="1676520" cy="2590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35240" y="4495680"/>
            <a:ext cx="3838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最喜欢文中的哪个人物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2-01-02" descr=""/>
          <p:cNvPicPr/>
          <p:nvPr/>
        </p:nvPicPr>
        <p:blipFill>
          <a:blip r:embed="rId1"/>
          <a:srcRect l="0" t="0" r="-1992" b="46413"/>
          <a:stretch/>
        </p:blipFill>
        <p:spPr>
          <a:xfrm>
            <a:off x="-838080" y="0"/>
            <a:ext cx="10515600" cy="7162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 rot="5400000">
            <a:off x="1218600" y="2438280"/>
            <a:ext cx="18288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3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聪明懂事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"/>
          <p:cNvSpPr txBox="1"/>
          <p:nvPr/>
        </p:nvSpPr>
        <p:spPr>
          <a:xfrm rot="5400000">
            <a:off x="2361600" y="533160"/>
            <a:ext cx="18288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3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贤妻良母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"/>
          <p:cNvSpPr txBox="1"/>
          <p:nvPr/>
        </p:nvSpPr>
        <p:spPr>
          <a:xfrm rot="5400000">
            <a:off x="7353000" y="723600"/>
            <a:ext cx="2133720" cy="144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2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体谅儿子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疼爱孙子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"/>
          <p:cNvSpPr txBox="1"/>
          <p:nvPr/>
        </p:nvSpPr>
        <p:spPr>
          <a:xfrm rot="5400000">
            <a:off x="4648320" y="45684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3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孝敬母亲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2120" y="0"/>
            <a:ext cx="1828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幸福和睦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9" name=""/>
          <p:cNvSpPr/>
          <p:nvPr/>
        </p:nvSpPr>
        <p:spPr>
          <a:xfrm>
            <a:off x="6477120" y="6216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尊老爱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86200" y="0"/>
            <a:ext cx="1905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0612007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0" y="2819520"/>
            <a:ext cx="457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17880" y="4287960"/>
            <a:ext cx="611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838080"/>
            <a:ext cx="4572000" cy="97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、“我”和妻子是如何背着母亲、儿子走过那条小路的？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、为什么“我背上的同她背上的加起来就是整个世界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905120" y="457200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背世界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45720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尊敬的家长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您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《散步》是一篇语言优美、寄意深远的散文。为使教学效果更佳，我真诚地邀请您加入到我们的教学中来。请您在饭后品茶的时候，读读这篇课文，并写下您真挚的见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您认为本文最动人的地方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哪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您有类似感人的经历吗？（有则 举一例，没有则罢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孩子的老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gif292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949320"/>
          </a:xfrm>
          <a:prstGeom prst="rect">
            <a:avLst/>
          </a:prstGeom>
          <a:ln w="0">
            <a:noFill/>
          </a:ln>
        </p:spPr>
      </p:pic>
      <p:pic>
        <p:nvPicPr>
          <p:cNvPr id="78" name="GL_103" descr=""/>
          <p:cNvPicPr/>
          <p:nvPr/>
        </p:nvPicPr>
        <p:blipFill>
          <a:blip r:embed="rId2"/>
          <a:stretch/>
        </p:blipFill>
        <p:spPr>
          <a:xfrm>
            <a:off x="7391520" y="4724280"/>
            <a:ext cx="2057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natur121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828800" y="3352680"/>
            <a:ext cx="6248520" cy="26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找亲情……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1" name="GL_002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0:18:55Z</dcterms:created>
  <dc:creator>wutao</dc:creator>
  <dc:description/>
  <dc:language>en-US</dc:language>
  <cp:lastModifiedBy>zyb</cp:lastModifiedBy>
  <dcterms:modified xsi:type="dcterms:W3CDTF">2004-12-06T02:45:07Z</dcterms:modified>
  <cp:revision>100</cp:revision>
  <dc:subject/>
  <dc:title>PowerPoint 演示文稿</dc:title>
</cp:coreProperties>
</file>