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79F-91CB-474E-BD76-AF5E7ADA50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18F-5D94-45C0-82B4-AB78AD6C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BC3-2EA3-4BCC-A4DC-EEC98822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CD0-03F5-4B5F-A684-9885AE6C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667-B813-49E8-B00B-89D76451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2C2-2DC5-4459-8854-40427BB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172-51AA-4782-8C4B-2DB0CB1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C9C-9420-4792-8FA7-188A7F0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659-2ECA-4550-8A20-04E2232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498-FD48-4F27-8C45-881D05A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669-A197-42DA-90C9-5EBE0122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113-11E6-4447-96AE-5A2D0FB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6B2-7CDB-4547-9C3B-3DDA2C4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4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cap="rnd" w="101520">
            <a:solidFill>
              <a:srgbClr val="00cc00"/>
            </a:solidFill>
            <a:custDash>
              <a:ds d="100000" sp="1000"/>
            </a:custDash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280-0D42-41C6-87E6-DDECDADCF7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" Target="slide3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" Target="slide3.xml"/><Relationship Id="rId4" Type="http://schemas.openxmlformats.org/officeDocument/2006/relationships/image" Target="../media/image10.gif"/><Relationship Id="rId5" Type="http://schemas.openxmlformats.org/officeDocument/2006/relationships/slide" Target="slide17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J_013" descr=""/>
          <p:cNvPicPr/>
          <p:nvPr/>
        </p:nvPicPr>
        <p:blipFill>
          <a:blip r:embed="rId1"/>
          <a:stretch/>
        </p:blipFill>
        <p:spPr>
          <a:xfrm>
            <a:off x="263520" y="210960"/>
            <a:ext cx="8610480" cy="647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190512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b112"/>
                </a:solidFill>
                <a:latin typeface="华文彩云"/>
                <a:ea typeface="华文彩云"/>
              </a:rPr>
              <a:t>散   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8720" y="4495680"/>
            <a:ext cx="39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9ffc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9ffc9"/>
                </a:solidFill>
                <a:latin typeface="Times New Roman"/>
                <a:ea typeface="黑体"/>
              </a:rPr>
              <a:t>语文研究性学习课外篇目解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4489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E02043_" descr=""/>
          <p:cNvPicPr/>
          <p:nvPr/>
        </p:nvPicPr>
        <p:blipFill>
          <a:blip r:embed="rId3"/>
          <a:stretch/>
        </p:blipFill>
        <p:spPr>
          <a:xfrm>
            <a:off x="0" y="2971800"/>
            <a:ext cx="1066680" cy="125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89520" y="1752480"/>
            <a:ext cx="48380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初春的田野，大块小块的新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随意地铺着有的浓，有的淡；树上的嫩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也密了；田里的冬水也咕咕地起着水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一切都使人想着一样东西——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82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5400" y="464832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84800" y="525780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03680" y="586728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33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对春天景物的生动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42" descr=""/>
          <p:cNvPicPr/>
          <p:nvPr/>
        </p:nvPicPr>
        <p:blipFill>
          <a:blip r:embed="rId5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36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42520" y="2286000"/>
            <a:ext cx="4441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伙突然叫起来：前面是妈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儿子，后面也是妈妈和儿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0640" y="4724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75440" y="525780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00440" y="586728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838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小家伙的话表现他的天真可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42" descr=""/>
          <p:cNvPicPr/>
          <p:nvPr/>
        </p:nvPicPr>
        <p:blipFill>
          <a:blip r:embed="rId5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45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20480" y="1447920"/>
            <a:ext cx="4844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母亲摸摸孙儿的小脑瓜，变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意：“还是走小路吧。”她的眼随小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望去：那里有金色的菜花，两行整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桑树，尽头一口水波粼粼的鱼塘。“我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过去的地方，你就背着我。”母亲对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6483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5400" y="518148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03680" y="579132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01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用生活细节表现深沉的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42" descr=""/>
          <p:cNvPicPr/>
          <p:nvPr/>
        </p:nvPicPr>
        <p:blipFill>
          <a:blip r:embed="rId6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54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31800" y="1752480"/>
            <a:ext cx="4844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和妻子都是慢慢地，稳稳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走得很仔细，好像我背上的同她背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加起来，就是整个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5720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5400" y="518148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84800" y="579132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609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结尾表现家庭美满与温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2" descr=""/>
          <p:cNvPicPr/>
          <p:nvPr/>
        </p:nvPicPr>
        <p:blipFill>
          <a:blip r:embed="rId6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63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452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延 伸 阅 读</a:t>
            </a:r>
            <a:r>
              <a:rPr b="1" lang="zh-CN" sz="2400" spc="-1" strike="noStrike">
                <a:solidFill>
                  <a:srgbClr val="006600"/>
                </a:solidFill>
                <a:latin typeface="华文中宋"/>
                <a:ea typeface="华文中宋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57080" y="1523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阅读《送小龟回家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133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从不同的角度，用不同的表述点示《送小龟回家》的表达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895480"/>
            <a:ext cx="632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关心孤立无助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从小就应该培养孩子的善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美丽的童心是可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父母要理解孩子的童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动物和人一样也需要温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文中有一种思家之情、团聚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34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70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8120" y="4460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延 伸 阅 读</a:t>
            </a:r>
            <a:r>
              <a:rPr b="1" lang="zh-CN" sz="2400" spc="-1" strike="noStrike">
                <a:solidFill>
                  <a:srgbClr val="006600"/>
                </a:solidFill>
                <a:latin typeface="汉仪粗黑简"/>
                <a:ea typeface="汉仪粗黑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371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请同学们找出并说明《送小龟回家》中的美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286000"/>
            <a:ext cx="60199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伞下的温情世界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微风、细雨交织的秋意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思家氛围的精心营构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晚风翅膀掠过的孤独涟漪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感动妻子的泪流满面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童话色彩的竭力铺排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34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75" name="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68120" y="19224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课  堂  总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990720"/>
            <a:ext cx="822960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《散步》一文选取生活的一角，通过几个细节，写出了三代人之间的深沉的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作者的话，泥土一样朴实，却浸透着深厚的感情，道出了生活的真谛。作者无意写情，而情感自然流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 《散步》语言简朴，如同未经打磨的石头，自然淳朴，但却逗人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学习这篇散文，应该用心去体会文中的感情，感受文中的真挚感情，并能结合己身写写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34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1067040" cy="866880"/>
          </a:xfrm>
          <a:prstGeom prst="rect">
            <a:avLst/>
          </a:prstGeom>
          <a:ln w="0">
            <a:noFill/>
          </a:ln>
        </p:spPr>
      </p:pic>
      <p:pic>
        <p:nvPicPr>
          <p:cNvPr id="179" name="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0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5562720"/>
            <a:ext cx="137160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汉鼎简新艺体"/>
                <a:ea typeface="汉鼎简新艺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2895480"/>
            <a:ext cx="3200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再  见</a:t>
            </a:r>
            <a:r>
              <a:rPr b="1" lang="zh-CN" sz="6000" spc="-1" strike="noStrike">
                <a:solidFill>
                  <a:srgbClr val="808080"/>
                </a:solidFill>
                <a:latin typeface="汉鼎简大黑"/>
                <a:ea typeface="汉鼎简大黑"/>
              </a:rPr>
              <a:t> 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2360" y="5815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09480"/>
            <a:ext cx="73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幸福的家庭是美好而温馨的，家庭生活的细节也往往渗透着深沉的爱。进入莫怀戚</a:t>
            </a:r>
            <a:r>
              <a:rPr b="1" lang="zh-CN" sz="4000" spc="-1" strike="noStrike">
                <a:solidFill>
                  <a:srgbClr val="ff9900"/>
                </a:solidFill>
                <a:latin typeface="方正大黑简体"/>
                <a:ea typeface="方正大黑简体"/>
              </a:rPr>
              <a:t>《</a:t>
            </a:r>
            <a:r>
              <a:rPr b="1" lang="zh-CN" sz="4000" spc="-1" strike="noStrike">
                <a:solidFill>
                  <a:srgbClr val="ff9900"/>
                </a:solidFill>
                <a:latin typeface="方正粗圆简体"/>
                <a:ea typeface="方正粗圆简体"/>
              </a:rPr>
              <a:t>散  步</a:t>
            </a:r>
            <a:r>
              <a:rPr b="1" lang="zh-CN" sz="4000" spc="-1" strike="noStrike">
                <a:solidFill>
                  <a:srgbClr val="ff9900"/>
                </a:solidFill>
                <a:latin typeface="方正大黑简体"/>
                <a:ea typeface="方正大黑简体"/>
              </a:rPr>
              <a:t>》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牧歌似的情景，你就会感受到这一点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qq" descr=""/>
          <p:cNvPicPr/>
          <p:nvPr/>
        </p:nvPicPr>
        <p:blipFill>
          <a:blip r:embed="rId2"/>
          <a:stretch/>
        </p:blipFill>
        <p:spPr>
          <a:xfrm>
            <a:off x="7203960" y="6078600"/>
            <a:ext cx="1676520" cy="6094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6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23720" y="76212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学 法 指 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3" action="ppaction://hlinksldjump"/>
              </a:rPr>
              <a:t>人 物 谱 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4" action="ppaction://hlinksldjump"/>
              </a:rPr>
              <a:t>内 容 简 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5" action="ppaction://hlinksldjump"/>
              </a:rPr>
              <a:t>情 感 脉 络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深 层 解 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6" action="ppaction://hlinksldjump"/>
              </a:rPr>
              <a:t>契 机 评 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7" action="ppaction://hlinksldjump"/>
              </a:rPr>
              <a:t>美 点 寻 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8" action="ppaction://hlinksldjump"/>
              </a:rPr>
              <a:t>主 题 阐 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课 外 拓 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9" action="ppaction://hlinksldjump"/>
              </a:rPr>
              <a:t>延伸阅读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10" action="ppaction://hlinksldjump"/>
              </a:rPr>
              <a:t>延伸阅读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11" action="ppaction://hlinksldjump"/>
              </a:rPr>
              <a:t>课 堂 总 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4" descr=""/>
          <p:cNvPicPr/>
          <p:nvPr/>
        </p:nvPicPr>
        <p:blipFill>
          <a:blip r:embed="rId12"/>
          <a:stretch/>
        </p:blipFill>
        <p:spPr>
          <a:xfrm>
            <a:off x="3048120" y="762120"/>
            <a:ext cx="6778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34" descr=""/>
          <p:cNvPicPr/>
          <p:nvPr/>
        </p:nvPicPr>
        <p:blipFill>
          <a:blip r:embed="rId13"/>
          <a:stretch/>
        </p:blipFill>
        <p:spPr>
          <a:xfrm>
            <a:off x="3056040" y="4221000"/>
            <a:ext cx="677880" cy="503280"/>
          </a:xfrm>
          <a:prstGeom prst="rect">
            <a:avLst/>
          </a:prstGeom>
          <a:ln w="0">
            <a:noFill/>
          </a:ln>
        </p:spPr>
      </p:pic>
      <p:pic>
        <p:nvPicPr>
          <p:cNvPr id="60" name="34" descr=""/>
          <p:cNvPicPr/>
          <p:nvPr/>
        </p:nvPicPr>
        <p:blipFill>
          <a:blip r:embed="rId14"/>
          <a:stretch/>
        </p:blipFill>
        <p:spPr>
          <a:xfrm>
            <a:off x="3048120" y="2438280"/>
            <a:ext cx="67788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9440" y="1219320"/>
            <a:ext cx="54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4320" y="1523880"/>
            <a:ext cx="1094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7c80"/>
                </a:solidFill>
                <a:latin typeface="黑体"/>
                <a:ea typeface="黑体"/>
              </a:rPr>
              <a:t>散   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3720" y="2514600"/>
            <a:ext cx="10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79" descr=""/>
          <p:cNvPicPr/>
          <p:nvPr/>
        </p:nvPicPr>
        <p:blipFill>
          <a:blip r:embed="rId15"/>
          <a:stretch/>
        </p:blipFill>
        <p:spPr>
          <a:xfrm>
            <a:off x="7162920" y="5029200"/>
            <a:ext cx="14731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26816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我的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256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3496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的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00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的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447920"/>
            <a:ext cx="212760" cy="1295280"/>
          </a:xfrm>
          <a:custGeom>
            <a:avLst/>
            <a:gdLst>
              <a:gd name="textAreaLeft" fmla="*/ 136080 w 212760"/>
              <a:gd name="textAreaRight" fmla="*/ 213120 w 2127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924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733920"/>
            <a:ext cx="212760" cy="1295280"/>
          </a:xfrm>
          <a:custGeom>
            <a:avLst/>
            <a:gdLst>
              <a:gd name="textAreaLeft" fmla="*/ 136080 w 212760"/>
              <a:gd name="textAreaRight" fmla="*/ 213120 w 2127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924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447920"/>
            <a:ext cx="304920" cy="3733560"/>
          </a:xfrm>
          <a:custGeom>
            <a:avLst/>
            <a:gdLst>
              <a:gd name="textAreaLeft" fmla="*/ 0 w 304920"/>
              <a:gd name="textAreaRight" fmla="*/ 110160 w 30492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7156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祖孙三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80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散 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(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莫怀戚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)  </a:t>
            </a:r>
            <a:r>
              <a:rPr b="1" lang="zh-CN" sz="44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223920" y="1447920"/>
            <a:ext cx="152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方正粗圆简体"/>
                <a:ea typeface="方正粗圆简体"/>
              </a:rPr>
              <a:t>人 物 谱 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4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838080" cy="681120"/>
          </a:xfrm>
          <a:prstGeom prst="rect">
            <a:avLst/>
          </a:prstGeom>
          <a:ln w="0">
            <a:noFill/>
          </a:ln>
        </p:spPr>
      </p:pic>
      <p:pic>
        <p:nvPicPr>
          <p:cNvPr id="78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2640" y="16002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我之角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母亲年老，需要照顾。儿子还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还有时间陪伴在一起。对上肩负着赡养义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对下承担培养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7560" y="36576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母之角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孙子还小，好奇心强烈，我们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长辈的总要照顾晚辈，孙子爱走小路，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就都走小路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黑体"/>
                <a:ea typeface="黑体"/>
              </a:rPr>
              <a:t>内 容 简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676520"/>
            <a:ext cx="457200" cy="3276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34" descr=""/>
          <p:cNvPicPr/>
          <p:nvPr/>
        </p:nvPicPr>
        <p:blipFill>
          <a:blip r:embed="rId2"/>
          <a:stretch/>
        </p:blipFill>
        <p:spPr>
          <a:xfrm>
            <a:off x="205740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84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93640" y="121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的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528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1084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的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8716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的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371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852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4840" y="4191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447920"/>
            <a:ext cx="380880" cy="37335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12408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祖孙三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深沉的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6" idx="3"/>
            <a:endCxn id="85" idx="3"/>
          </p:cNvCxnSpPr>
          <p:nvPr/>
        </p:nvCxnSpPr>
        <p:spPr>
          <a:xfrm flipV="1">
            <a:off x="3609720" y="1447560"/>
            <a:ext cx="842040" cy="915120"/>
          </a:xfrm>
          <a:prstGeom prst="bentConnector3">
            <a:avLst>
              <a:gd name="adj1" fmla="val 127159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33520" y="14684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对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关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endCxn id="86" idx="2"/>
          </p:cNvCxnSpPr>
          <p:nvPr/>
        </p:nvCxnSpPr>
        <p:spPr>
          <a:xfrm flipV="1" rot="16200000">
            <a:off x="3244680" y="2712240"/>
            <a:ext cx="1219680" cy="975600"/>
          </a:xfrm>
          <a:prstGeom prst="bentConnector3">
            <a:avLst>
              <a:gd name="adj1" fmla="val 49985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19200" y="2743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妻子对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尊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5" idx="3"/>
            <a:endCxn id="88" idx="3"/>
          </p:cNvCxnSpPr>
          <p:nvPr/>
        </p:nvCxnSpPr>
        <p:spPr>
          <a:xfrm flipH="1">
            <a:off x="4438080" y="1447920"/>
            <a:ext cx="13320" cy="3658320"/>
          </a:xfrm>
          <a:prstGeom prst="bentConnector3">
            <a:avLst>
              <a:gd name="adj1" fmla="val -1800000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128560" y="44956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母亲对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子的疼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4560" y="58435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方正大黑简体"/>
              </a:rPr>
              <a:t>亲情、真情、责任感、使命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395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情 感 脉 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34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04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qq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58080" y="1981080"/>
            <a:ext cx="789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契 机 评 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59080" y="733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文艺理论： 源于生活，高于生活。从平凡的小事中发掘不平凡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E02043_" descr=""/>
          <p:cNvPicPr/>
          <p:nvPr/>
        </p:nvPicPr>
        <p:blipFill>
          <a:blip r:embed="rId2"/>
          <a:stretch/>
        </p:blipFill>
        <p:spPr>
          <a:xfrm>
            <a:off x="0" y="762120"/>
            <a:ext cx="1066680" cy="1258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176328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切入角度：强化生命，淡化伦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8960" y="297180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主体：“我”和“我的妻子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客体：“儿子”和“母亲”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导演齐全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5720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成熟的生命、沉重的责任，需要义无反顾的背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E02043_" descr=""/>
          <p:cNvPicPr/>
          <p:nvPr/>
        </p:nvPicPr>
        <p:blipFill>
          <a:blip r:embed="rId3"/>
          <a:stretch/>
        </p:blipFill>
        <p:spPr>
          <a:xfrm>
            <a:off x="457200" y="5410080"/>
            <a:ext cx="106668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42" descr=""/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76720" y="304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主 题 阐 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447920"/>
            <a:ext cx="6781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亲情、真情、责任感、使命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沉重的责任，需要尽力背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幸福的家庭，是美好生命的摇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爱护、尊重、体贴：人生的一种责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文厚在意不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34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17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18960" y="50004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美  点  寻  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54120"/>
            <a:ext cx="4495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春天景物的生动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4920" y="2620800"/>
            <a:ext cx="3106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88600" y="3611520"/>
            <a:ext cx="3350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用生活的细节表现深沉的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6160" y="4678200"/>
            <a:ext cx="3350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结尾表现出家庭的幸福、温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34" descr=""/>
          <p:cNvPicPr/>
          <p:nvPr/>
        </p:nvPicPr>
        <p:blipFill>
          <a:blip r:embed="rId7"/>
          <a:stretch/>
        </p:blipFill>
        <p:spPr>
          <a:xfrm>
            <a:off x="1447920" y="378612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4" name="34" descr=""/>
          <p:cNvPicPr/>
          <p:nvPr/>
        </p:nvPicPr>
        <p:blipFill>
          <a:blip r:embed="rId8"/>
          <a:stretch/>
        </p:blipFill>
        <p:spPr>
          <a:xfrm>
            <a:off x="1066680" y="279576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25" name="34" descr=""/>
          <p:cNvPicPr/>
          <p:nvPr/>
        </p:nvPicPr>
        <p:blipFill>
          <a:blip r:embed="rId9"/>
          <a:stretch/>
        </p:blipFill>
        <p:spPr>
          <a:xfrm>
            <a:off x="685800" y="172872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6" name="34" descr=""/>
          <p:cNvPicPr/>
          <p:nvPr/>
        </p:nvPicPr>
        <p:blipFill>
          <a:blip r:embed="rId10"/>
          <a:stretch/>
        </p:blipFill>
        <p:spPr>
          <a:xfrm>
            <a:off x="1981080" y="480060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7" name="42" descr=""/>
          <p:cNvPicPr/>
          <p:nvPr/>
        </p:nvPicPr>
        <p:blipFill>
          <a:blip r:embed="rId11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1:29:51Z</dcterms:created>
  <dc:creator>wutao</dc:creator>
  <dc:description/>
  <dc:language>en-US</dc:language>
  <cp:lastModifiedBy>user</cp:lastModifiedBy>
  <dcterms:modified xsi:type="dcterms:W3CDTF">2004-01-10T09:54:40Z</dcterms:modified>
  <cp:revision>100</cp:revision>
  <dc:subject/>
  <dc:title>PowerPoint 演示文稿</dc:title>
</cp:coreProperties>
</file>