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0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49D7-5ED9-4AFD-A07F-4C81B3377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067C-795B-4882-8799-8B42D54F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E130-1588-4F45-9217-A4F6B535C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1E98-2209-4B6A-AEB2-51D86CB53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B32D-40E3-488C-8D67-5C28171DA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E9A9-17C0-42AB-9FA8-5125A262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0857-E457-4212-A8A9-33FD7493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7DAAF-28D3-4D14-8731-2D4CED18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41C8B-A3B9-4E24-8D86-0A105EC9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AD1D-0327-4801-9723-5E2AC48A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08CF-B8B2-4D92-B6A6-FB4805F0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CC2E-B762-49D4-9654-4CCE15BB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F11B-152D-4754-9485-6723365E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A492-55B3-4B8E-82E8-40678608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EA91-2F74-4944-8E46-440D699C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A3CF-3AA2-478A-9195-1A32E7C1B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627B-2C4E-4B8D-B212-15A8FCFAE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670DC-52D3-4402-ACE0-2ECCC0CB6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EAED8-3D80-4E6E-9B23-4D507448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D91A9-CBCD-48DD-828D-BEBDA0C4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3A5DF-BA55-42A0-A3E6-A722E75F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2E37B-947D-4FAF-8F3D-998DC427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8CF3-E074-4E41-9E8E-5BB0E6EB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4DE3E-CD33-4495-BDE2-EA8C2B96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1A8D1-E5EE-4019-9281-84E4C9EC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B27D2-3BE0-4FDC-B919-CBF6CE25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7E364-92EB-4876-A874-A50E8AA7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A99C0-253A-4CD1-9E0C-0B057EFD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E6430-E7B3-4170-AA05-DDB208413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4A553-F2E5-4C57-8D14-701E05E2D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44E0-899D-4BBE-846D-2D48CC28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FBB6-024E-4B0B-9413-ECC32A4D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D1B9-A13C-45DA-828C-310448B1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5D86-AAFD-42B5-BA06-7528DCC4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F15D-0A07-4138-84C5-0E03F9F0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AFD9-D25E-4DBB-A917-D6220BB2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C692-E2C6-47E2-9889-AC09B078D1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2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9156-3573-4560-ABA8-64D6E41E5914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89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75B9-3BB6-4BE9-9DD4-0C864FFABC2B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file:///&#21448;&#26159;&#19968;&#22825;&#38451;&#20809;&#20013;.doc" TargetMode="External"/><Relationship Id="rId3" Type="http://schemas.openxmlformats.org/officeDocument/2006/relationships/hyperlink" Target="file:///&#21448;&#26159;&#19968;&#22825;&#38451;&#20809;&#20013;.doc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&#29233;&#30340;&#35856;&#22863;&#26354;.MP3" TargetMode="External"/><Relationship Id="rId3" Type="http://schemas.openxmlformats.org/officeDocument/2006/relationships/hyperlink" Target="file:///&#29233;&#30340;&#35856;&#22863;&#26354;.MP3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-324000" y="3500280"/>
            <a:ext cx="309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华文行楷"/>
                <a:ea typeface="华文行楷"/>
              </a:rPr>
              <a:t>散   步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20680" y="4653000"/>
            <a:ext cx="911520" cy="28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莫怀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33520" y="457200"/>
            <a:ext cx="7848360" cy="33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800000"/>
                </a:solidFill>
                <a:latin typeface="Times New Roman"/>
                <a:ea typeface="华文彩云"/>
              </a:rPr>
              <a:t>展开想象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4800" spc="-1" strike="noStrike">
                <a:solidFill>
                  <a:srgbClr val="0066ff"/>
                </a:solidFill>
                <a:latin typeface="Times New Roman"/>
                <a:ea typeface="隶书"/>
              </a:rPr>
              <a:t>假如“我”毫不犹豫地依从儿子，母亲会怎么想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5029200"/>
            <a:ext cx="7543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356000" y="1052640"/>
            <a:ext cx="446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仿宋_GB2312"/>
                <a:ea typeface="仿宋_GB2312"/>
              </a:rPr>
              <a:t>拓展延伸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仿宋_GB2312"/>
                <a:ea typeface="仿宋_GB2312"/>
              </a:rPr>
              <a:t>     </a:t>
            </a:r>
            <a:r>
              <a:rPr b="1" lang="zh-CN" sz="3200" spc="-1" strike="noStrike">
                <a:solidFill>
                  <a:srgbClr val="0066ff"/>
                </a:solidFill>
                <a:latin typeface="仿宋_GB2312"/>
                <a:ea typeface="仿宋_GB2312"/>
              </a:rPr>
              <a:t>假设：晚饭后，全家人在一起看电视，爷爷奶奶喜欢看戏曲节目，爸爸妈妈喜欢看时事报道，而你喜欢看动画片，而遥控器掌握在你手中，你该怎么办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822240"/>
            <a:ext cx="435600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762120" y="762120"/>
            <a:ext cx="8076960" cy="31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66cc"/>
                </a:solidFill>
                <a:latin typeface="Times New Roman"/>
                <a:ea typeface="华文彩云"/>
              </a:rPr>
              <a:t>讨论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       </a:t>
            </a:r>
            <a:r>
              <a:rPr b="0" lang="zh-CN" sz="5400" spc="-1" strike="noStrike">
                <a:solidFill>
                  <a:srgbClr val="0033cc"/>
                </a:solidFill>
                <a:latin typeface="Times New Roman"/>
                <a:ea typeface="隶书"/>
              </a:rPr>
              <a:t>为什么说“我背上的同她背上的加起来，就是</a:t>
            </a:r>
            <a:r>
              <a:rPr b="0" lang="zh-CN" sz="5400" spc="-1" strike="noStrike" u="sng">
                <a:solidFill>
                  <a:srgbClr val="ff9900"/>
                </a:solidFill>
                <a:uFillTx/>
                <a:latin typeface="Times New Roman"/>
                <a:ea typeface="隶书"/>
              </a:rPr>
              <a:t>整个世界</a:t>
            </a:r>
            <a:r>
              <a:rPr b="0" lang="zh-CN" sz="5400" spc="-1" strike="noStrike">
                <a:solidFill>
                  <a:srgbClr val="0066ff"/>
                </a:solidFill>
                <a:latin typeface="Times New Roman"/>
                <a:ea typeface="隶书"/>
              </a:rPr>
              <a:t>”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文中“我”和妻子代表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                      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着 中年人，上有老，下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                     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小，既要赡养老人，又要抚养孩子，肩负着承前启后的责任，体现了“我”对生活的一种责任感、使命感。整个世界也就是由老年人、中年人、孩子组成。一个家庭是这样，一个民族乃至全世界又何尝不是这样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所以说背起的是整个世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920" y="404640"/>
            <a:ext cx="331308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453384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阅读下面一位同学的日记，体会作者抒发的感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796000" y="2565360"/>
            <a:ext cx="2665440" cy="3859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826920" y="3933720"/>
            <a:ext cx="273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又是一天阳光中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84360" y="907920"/>
            <a:ext cx="806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作业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作一篇读书笔记，分别摘抄表现爱祖国、爱父母、爱老师、爱生命的片段和描写春天景物的片段并选择一个进行写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关于作者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3799440"/>
            <a:ext cx="66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9d8ec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重庆作家，曾著有系列小说集</a:t>
            </a: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大律师现实录</a:t>
            </a: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。许多语文课本中署名莫怀成，这是因为最早选入教材时作者的名字被误写为莫怀成而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308720" y="4221000"/>
            <a:ext cx="1079640" cy="23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838080" y="1143000"/>
            <a:ext cx="7712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404640"/>
            <a:ext cx="8820000" cy="65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听录音，整体感受课文，然后填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散步的人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散步的季节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散步的地点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散步中发生的分歧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决定走小路的原因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爱的谐奏曲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MP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40360" y="126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11970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我，我的母亲，我的妻子和儿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24360" y="19162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初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51280" y="2637000"/>
            <a:ext cx="28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南方的田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59280" y="3716280"/>
            <a:ext cx="42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母亲要走大路，大路平顺；我的儿子要走小路，小路有意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59280" y="544500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母亲爱孙儿，也爱春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朗读课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圈出表现一家人 互敬互爱的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788000" y="2409840"/>
            <a:ext cx="410508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39640" y="981000"/>
            <a:ext cx="820908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表现一家人互敬互爱的句子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、她现在很听我的话，就像我小时候很听她的话一样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 </a:t>
            </a: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、我的母亲老了，她早已习惯听从她强壮的儿子；我的儿子还小，他还习惯听从他高大的父亲；妻子呢，在外面，她总是听我的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cc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24000" y="907920"/>
            <a:ext cx="8496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    </a:t>
            </a: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 </a:t>
            </a: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、 母亲和儿子发生分歧，我经过思考决定  后。我说“ ：走大路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      </a:t>
            </a: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、母亲摸摸孙儿的小脑瓜，变了主意：“还是走小路吧！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2420640"/>
            <a:ext cx="91440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段是对初春的描写。 写了新绿、嫩芽、冬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为什么这一切使人想着一样东西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—— 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生命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这些景物体现出春的气息。春回大地，万物复苏，这些景物使人感觉到生命的存在，生命的召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2665440" cy="18194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140360" y="1052640"/>
            <a:ext cx="424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64000" y="549360"/>
            <a:ext cx="55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散步前，文中还有一段对初春 的描写。找出来看看写了哪些景 物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786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692360" y="1484280"/>
            <a:ext cx="475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620640"/>
            <a:ext cx="813600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Times New Roman"/>
              </a:rPr>
              <a:t>读第六段想一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、散步过程中“分歧”是怎样解决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母亲变了主意</a:t>
            </a: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、为什么一霎时我感到了责任的重大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5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5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utao</dc:creator>
  <dc:description/>
  <dc:language>en-US</dc:language>
  <cp:lastModifiedBy>pc</cp:lastModifiedBy>
  <dcterms:modified xsi:type="dcterms:W3CDTF">2004-03-18T05:16:03Z</dcterms:modified>
  <cp:revision>100</cp:revision>
  <dc:subject/>
  <dc:title>PowerPoint Presentation</dc:title>
</cp:coreProperties>
</file>