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F29-B963-499E-AE7D-0B314DDD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CC3-4DED-4461-987A-DBB15D0C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4F4-3162-4FBF-A32D-AB5EA0B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15E-650D-467B-88F2-42F0958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253-7E99-4835-9AA1-550FE976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6F4-D152-43AB-875C-1713941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A58-5D18-455A-8E10-BF10455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98A-F4FC-4329-9213-CDED5459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E01-64A9-4A7C-8032-93A81C2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50A-AD41-4007-9E64-300665CD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5D4-D0B4-45A4-BF16-F15481DA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5F1-DBC2-4286-9F0D-8F03BA29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A1F-D3A6-4733-8DDB-17015C8DD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666880" y="1066680"/>
            <a:ext cx="5257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散步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练习与作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虑练习一、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散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莫怀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76320" y="-22561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35053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导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宁静美好的夏夜，对我们在海边生活的人来说，最好的选择莫过于一家人 欢乐融融的去海边散一下步，体验一下繁忙一天过后的天伦之乐！在散步中你们有过什么样的故事吗？把你们散步的故事讲给大家听一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D05545_" descr=""/>
          <p:cNvPicPr/>
          <p:nvPr/>
        </p:nvPicPr>
        <p:blipFill>
          <a:blip r:embed="rId1"/>
          <a:stretch/>
        </p:blipFill>
        <p:spPr>
          <a:xfrm>
            <a:off x="5562720" y="6248520"/>
            <a:ext cx="3581280" cy="75960"/>
          </a:xfrm>
          <a:prstGeom prst="rect">
            <a:avLst/>
          </a:prstGeom>
          <a:ln w="0">
            <a:noFill/>
          </a:ln>
        </p:spPr>
      </p:pic>
      <p:pic>
        <p:nvPicPr>
          <p:cNvPr id="91" name="BD04912_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重难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锻炼立即朗读的能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锻炼自己的理解能力，学会由浅入深，由表及里的理解寓意深刻而文辞简单的文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学会揣摩语言，品位本文对称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跳读文章找出答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一遍：“我”这个人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二遍：妻子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三遍：母亲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第四遍：儿子性情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不但要注意有形的，而且要注意无形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例如：“我”说“走大路”，委屈了儿子，没有写儿子的反应，也没有写妻子的反应，但我们可以想象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整体感受课文谈所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520" y="380880"/>
            <a:ext cx="5867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再读课文，谈谈自己的感受及所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细读课文，质疑，提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文章中有多处大词小用，小题大做的场景，找出并说明这样做的作用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962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孝→责任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962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歧”、“重大”、“决定”、“整个世界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出事物本身，借散步讲述一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作者大词小用、小题大做，有什么样的意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抓关键因素，从个别提升到一般的抽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为什么把背母亲、背儿子写的那么郑重其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示：考虑它的象征意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胆设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如果不带母亲出来，会怎么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如果服从了儿子的意见，又会怎么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语言学习及运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用圈点法画出精美的句子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体会语言的对称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运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信服的点点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一切都取决于———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—，各得其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——————，水波粼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成两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724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鱼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42:53Z</dcterms:created>
  <dc:creator>wutao</dc:creator>
  <dc:description/>
  <dc:language>en-US</dc:language>
  <cp:lastModifiedBy>zyb</cp:lastModifiedBy>
  <dcterms:modified xsi:type="dcterms:W3CDTF">2004-12-06T02:46:12Z</dcterms:modified>
  <cp:revision>100</cp:revision>
  <dc:subject/>
  <dc:title>散步</dc:title>
</cp:coreProperties>
</file>