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B93-464D-417A-B722-24E9A14B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38A-7AE0-4DDC-AC7D-068722D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EC8-E3D4-45F9-9FCD-9DE8BDD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62B-D5D4-482B-9233-F8B0F366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E8E4-DDFB-44D4-AA1F-162CFB77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196-B153-4D76-8A77-FA003EE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0793-6F12-413F-BF11-01FA52AE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108-F8CC-43AC-8055-890256F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574B-E71D-4F00-BBC1-2565587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C3C-7ED7-43B2-BA3E-6B60904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B7FB-7F12-4A54-8DC9-E2BAE65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5C4-9C8A-4506-AD2D-2D1D3AE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C1B-E0D1-4CF4-97C5-064F597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230B-2D13-47E6-AD45-9E8DFD4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6877-5C58-475F-B0C8-3DABF43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1E56-2AE8-434F-A706-81B2E0A6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14C-77FE-418A-B6CF-0BFBD37F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A9D-6739-4C94-B6D8-35A3CE60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9CF-1987-40F9-913A-24C5FE8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A0D-3B8C-420D-8D4C-4D442EE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F5A-E8EE-4BC3-BAA0-A11ECFD8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C80-C332-4DE5-A34B-08722A1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3FE-C78F-4FF9-980C-2B982F4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624-0E4B-4CA7-A525-E6A6CDF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C45-11A0-47B7-96BB-73F5CFD3C97D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9206-2751-4EA3-BE97-3B299A54FBF1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《散步》情景图1" descr=""/>
          <p:cNvPicPr/>
          <p:nvPr/>
        </p:nvPicPr>
        <p:blipFill>
          <a:blip r:embed="rId2"/>
          <a:stretch/>
        </p:blipFill>
        <p:spPr>
          <a:xfrm>
            <a:off x="1523880" y="4576680"/>
            <a:ext cx="3276720" cy="2281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05320" y="15238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散    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2133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宋体"/>
              </a:rPr>
              <a:t>《散步》的语言平易朴实，然而内涵丰富，耐人寻味，如同橄榄一般，越嚼越觉得有滋味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她现在很听我的话，就像我小时候很听她的话一样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371600"/>
            <a:ext cx="4648320" cy="1981080"/>
          </a:xfrm>
          <a:prstGeom prst="cloudCallout">
            <a:avLst>
              <a:gd name="adj1" fmla="val -42962"/>
              <a:gd name="adj2" fmla="val -674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句话写母子关系，母亲明理，儿子孝顺，相映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276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小家伙突然大叫起来：‘前面也是妈妈和儿子，后面也是妈妈和儿子。’我们都笑了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4419720"/>
            <a:ext cx="6019920" cy="2286000"/>
          </a:xfrm>
          <a:prstGeom prst="cloudCallout">
            <a:avLst>
              <a:gd name="adj1" fmla="val -57648"/>
              <a:gd name="adj2" fmla="val -5180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两句话充满生活情趣，既表现了小家伙的天真、聪颖，又表现了家庭的幸福、温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68580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这南方初春的田野，大块小块的新绿随意地铺着，有的浓，有的淡；树上的嫩芽也密了；田里的冬水也咕咕地起着水泡。这一切都使人想着一样东西——生命。”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886200"/>
            <a:ext cx="6324840" cy="2438280"/>
          </a:xfrm>
          <a:prstGeom prst="cloudCallout">
            <a:avLst>
              <a:gd name="adj1" fmla="val -33435"/>
              <a:gd name="adj2" fmla="val -90171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段话通过初春景色的描绘，表现了春天蓬勃的生机，暗示熬过了严冬的母亲将会获得新的活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我的母亲虽然高大，然而很瘦，自然不算重；儿子虽然很胖，毕竟幼小，自然也轻。但我和妻子都是慢慢地，稳稳地，走得很仔细，好像我背上的同她背上的加起来，就是整个世界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267080"/>
            <a:ext cx="7391520" cy="1981440"/>
          </a:xfrm>
          <a:prstGeom prst="wedgeRoundRectCallout">
            <a:avLst>
              <a:gd name="adj1" fmla="val 6680"/>
              <a:gd name="adj2" fmla="val -108171"/>
              <a:gd name="adj3" fmla="val 16667"/>
            </a:avLst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作者站在人生的中点上，一边是长辈，一边是后代，也处在生命之链的关节上。这里既有作者强烈的责任感，又体现了作者挚爱生活，品尝人生甜美的无穷韵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838080"/>
            <a:ext cx="739152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课文中像这样“于平实中见灵气，在浅易中见哲理”的语句还有很多，例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要走大路，大路平顺；我的儿子要走小路，小路有意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母亲老了，她早已习惯听从她强壮的儿子；我的儿子还小，他还习惯听从他高大的父亲。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请同学们找出来并联系上下文，认真体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3:25:28Z</dcterms:created>
  <dc:creator>wutao</dc:creator>
  <dc:description/>
  <dc:language>en-US</dc:language>
  <cp:lastModifiedBy>ymr</cp:lastModifiedBy>
  <dcterms:modified xsi:type="dcterms:W3CDTF">2006-09-06T01:37:32Z</dcterms:modified>
  <cp:revision>101</cp:revision>
  <dc:subject/>
  <dc:title>PowerPoint 演示文稿</dc:title>
</cp:coreProperties>
</file>