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5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9.jpeg" ContentType="image/jpeg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BC3-C1D4-45F6-ACC1-AD275752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47E-8133-4FDE-8D0D-B58F171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2A9-69A8-4DDE-9583-74570884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2EF-8C77-43D1-917F-F7DAE9B6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E1E-26A5-42E2-8D1B-1C980017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A81-AF19-40E9-9E02-CF0973B5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664-D56B-49A2-B577-7E3343F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C9B-4B67-4872-96D8-13FF8B49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D7C-2A04-485D-9781-6F398ED2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FE6-AABD-45CA-9DEF-1284754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09F-B707-4637-B1C4-9E5FC4C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B1E-76DC-46A1-8C7D-E3F99B4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FAF-26E3-4C4B-9780-1D7B54192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EMINDER.WAV" TargetMode="External"/><Relationship Id="rId2" Type="http://schemas.microsoft.com/office/2007/relationships/media" Target="file:///tmp/home/.config/libreoffice/4/user/gallery/REMINDER.WAV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380880" y="914040"/>
            <a:ext cx="19810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散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2400120" y="79992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步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2590920" y="32767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莫怀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304920"/>
            <a:ext cx="8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叙事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atur160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8600"/>
            <a:ext cx="71625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坛陈年老酒，甜美醇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幅传世名画，精美隽永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首经典老歌，轻柔温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方名贵丝帕，细腻光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父母和子女是亲情的最大拥有者，让我们拿起笔来，抒写我们的家，抒写我们的亲情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目：《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爱》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L_102" descr=""/>
          <p:cNvPicPr/>
          <p:nvPr/>
        </p:nvPicPr>
        <p:blipFill>
          <a:blip r:embed="rId2"/>
          <a:stretch/>
        </p:blipFill>
        <p:spPr>
          <a:xfrm>
            <a:off x="6934320" y="0"/>
            <a:ext cx="1942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7_1散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5400000">
            <a:off x="3428640" y="45684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散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4762080" y="342720"/>
            <a:ext cx="167652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步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84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叙事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638680" y="21337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莫怀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140184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花8" descr=""/>
          <p:cNvPicPr/>
          <p:nvPr/>
        </p:nvPicPr>
        <p:blipFill>
          <a:blip r:embed="rId1"/>
          <a:stretch/>
        </p:blipFill>
        <p:spPr>
          <a:xfrm>
            <a:off x="0" y="5791320"/>
            <a:ext cx="87631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蝶3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8195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240"/>
            <a:ext cx="8381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情感朗读，感悟浓浓亲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品味语言，感受散文语言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培养尊老爱幼、珍爱亲情、珍  爱生命的情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cp00730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609480"/>
            <a:ext cx="784872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用愉快、深沉的语调齐读全文，边读边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文的中心事件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文中的一个词说出在散步过程中   发生了什么事？解决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L_036" descr=""/>
          <p:cNvPicPr/>
          <p:nvPr/>
        </p:nvPicPr>
        <p:blipFill>
          <a:blip r:embed="rId2"/>
          <a:stretch/>
        </p:blipFill>
        <p:spPr>
          <a:xfrm>
            <a:off x="0" y="5791320"/>
            <a:ext cx="1981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5280" y="12952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评谈人物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380880"/>
            <a:ext cx="3085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品味语言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4480" y="137160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悟亲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1" name="卡通2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1676520" cy="259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5240" y="4495680"/>
            <a:ext cx="383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喜欢文中的哪个人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2-01-02" descr=""/>
          <p:cNvPicPr/>
          <p:nvPr/>
        </p:nvPicPr>
        <p:blipFill>
          <a:blip r:embed="rId1"/>
          <a:srcRect l="0" t="0" r="-1992" b="46413"/>
          <a:stretch/>
        </p:blipFill>
        <p:spPr>
          <a:xfrm>
            <a:off x="-838080" y="0"/>
            <a:ext cx="10515600" cy="716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5400000">
            <a:off x="1218600" y="243828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聪明懂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2361600" y="53316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贤妻良母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7353000" y="723600"/>
            <a:ext cx="213372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体谅儿子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疼爱孙子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4648320" y="4568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孝敬母亲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幸福和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6216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尊老爱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86200" y="0"/>
            <a:ext cx="190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0612007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281952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428796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838080"/>
            <a:ext cx="4572000" cy="9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、“我”和妻子是如何背着母亲、儿子走过那条小路的？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、为什么“我背上的同她背上的加起来就是整个世界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5120" y="45720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背世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45720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尊敬的家长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您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散步》是一篇语言优美、寄意深远的散文。为使教学效果更佳，我真诚地邀请您加入到我们的教学中来。请您在饭后品茶的时候，读读这篇课文，并写下您真挚的见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您认为本文最动人的地方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您有类似感人的经历吗？（有则 举一例，没有则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孩子的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if292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78" name="GL_103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natur12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828800" y="3352680"/>
            <a:ext cx="62485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找亲情……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1" name="GL_0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0:18:55Z</dcterms:created>
  <dc:creator>wutao</dc:creator>
  <dc:description/>
  <dc:language>en-US</dc:language>
  <cp:lastModifiedBy>zyb</cp:lastModifiedBy>
  <dcterms:modified xsi:type="dcterms:W3CDTF">2004-12-06T02:45:07Z</dcterms:modified>
  <cp:revision>100</cp:revision>
  <dc:subject/>
  <dc:title>PowerPoint 演示文稿</dc:title>
</cp:coreProperties>
</file>