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E229-977C-4E2C-A0AC-7F6CA7C5A7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BD0-74E5-4F2C-AEBE-640D4D37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980-9A78-4E2C-8A75-B2EFAC20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40D-8DAD-4C50-AE7E-8A8D46FB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235-0341-43BC-A27C-3DBAF5C4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ABC-D036-45E3-ACCB-DB9084CF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D67-6678-4999-9713-4EA84706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D08-22C2-42B8-A9B2-7EF3DB8F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FDA-011C-4963-92D6-65597EDD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1B4-C94D-4390-8B68-42DEC801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AC2-2B94-4292-B138-5B36323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966-CCAD-473F-BCC9-B5C76B46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7CB-977D-4874-BE12-D597221A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4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cap="rnd" w="101520">
            <a:solidFill>
              <a:srgbClr val="00cc00"/>
            </a:solidFill>
            <a:custDash>
              <a:ds d="100000" sp="1000"/>
            </a:custDash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A254-B71D-4724-A3C9-45AF57BBE8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slide" Target="slide3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slide" Target="slide3.xml"/><Relationship Id="rId4" Type="http://schemas.openxmlformats.org/officeDocument/2006/relationships/image" Target="../media/image10.gif"/><Relationship Id="rId5" Type="http://schemas.openxmlformats.org/officeDocument/2006/relationships/slide" Target="slide17.xm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J_013" descr=""/>
          <p:cNvPicPr/>
          <p:nvPr/>
        </p:nvPicPr>
        <p:blipFill>
          <a:blip r:embed="rId1"/>
          <a:stretch/>
        </p:blipFill>
        <p:spPr>
          <a:xfrm>
            <a:off x="263520" y="210960"/>
            <a:ext cx="8610480" cy="6477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43200" y="190512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ab112"/>
                </a:solidFill>
                <a:latin typeface="华文彩云"/>
                <a:ea typeface="华文彩云"/>
              </a:rPr>
              <a:t>散   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8720" y="4495680"/>
            <a:ext cx="397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9ffc9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c9ffc9"/>
                </a:solidFill>
                <a:latin typeface="Times New Roman"/>
                <a:ea typeface="黑体"/>
              </a:rPr>
              <a:t>语文研究性学习课外篇目解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4489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E02043_" descr=""/>
          <p:cNvPicPr/>
          <p:nvPr/>
        </p:nvPicPr>
        <p:blipFill>
          <a:blip r:embed="rId3"/>
          <a:stretch/>
        </p:blipFill>
        <p:spPr>
          <a:xfrm>
            <a:off x="0" y="2971800"/>
            <a:ext cx="1066680" cy="1258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89520" y="1752480"/>
            <a:ext cx="48380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初春的田野，大块小块的新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随意地铺着有的浓，有的淡；树上的嫩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也密了；田里的冬水也咕咕地起着水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一切都使人想着一样东西——生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08240" y="413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5400" y="4648320"/>
            <a:ext cx="23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小家伙的话表现他天真可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84800" y="5257800"/>
            <a:ext cx="25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用生活的细节表现深沉的感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03680" y="586728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结尾表现出家庭的幸福、温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5335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方正粗圆简体"/>
              </a:rPr>
              <a:t>对春天景物的生动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42" descr=""/>
          <p:cNvPicPr/>
          <p:nvPr/>
        </p:nvPicPr>
        <p:blipFill>
          <a:blip r:embed="rId5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328680" y="5908680"/>
            <a:ext cx="2361960" cy="685800"/>
            <a:chOff x="328680" y="5908680"/>
            <a:chExt cx="2361960" cy="685800"/>
          </a:xfrm>
        </p:grpSpPr>
        <p:sp>
          <p:nvSpPr>
            <p:cNvPr id="136" name=""/>
            <p:cNvSpPr/>
            <p:nvPr/>
          </p:nvSpPr>
          <p:spPr>
            <a:xfrm>
              <a:off x="328680" y="5908680"/>
              <a:ext cx="236196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9560" y="598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美点寻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42520" y="2286000"/>
            <a:ext cx="44416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小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家伙突然叫起来：前面是妈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儿子，后面也是妈妈和儿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0640" y="47242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对春景的生动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75440" y="5257800"/>
            <a:ext cx="25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用生活的细节表现深沉的感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00440" y="586728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结尾表现出家庭的幸福、温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838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方正粗圆简体"/>
              </a:rPr>
              <a:t>小家伙的话表现他的天真可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42" descr=""/>
          <p:cNvPicPr/>
          <p:nvPr/>
        </p:nvPicPr>
        <p:blipFill>
          <a:blip r:embed="rId5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328680" y="5908680"/>
            <a:ext cx="2361960" cy="685800"/>
            <a:chOff x="328680" y="5908680"/>
            <a:chExt cx="2361960" cy="685800"/>
          </a:xfrm>
        </p:grpSpPr>
        <p:sp>
          <p:nvSpPr>
            <p:cNvPr id="145" name=""/>
            <p:cNvSpPr/>
            <p:nvPr/>
          </p:nvSpPr>
          <p:spPr>
            <a:xfrm>
              <a:off x="328680" y="5908680"/>
              <a:ext cx="2361960" cy="6858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560" y="598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美点寻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20480" y="1447920"/>
            <a:ext cx="48441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是母亲摸摸孙儿的小脑瓜，变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意：“还是走小路吧。”她的眼随小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望去：那里有金色的菜花，两行整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桑树，尽头一口水波粼粼的鱼塘。“我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过去的地方，你就背着我。”母亲对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6483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对春景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生动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5400" y="5181480"/>
            <a:ext cx="23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小家伙的话表现他天真可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03680" y="579132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结尾表现出家庭的幸福、温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501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方正粗圆简体"/>
              </a:rPr>
              <a:t>用生活细节表现深沉的感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42" descr=""/>
          <p:cNvPicPr/>
          <p:nvPr/>
        </p:nvPicPr>
        <p:blipFill>
          <a:blip r:embed="rId6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28680" y="5908680"/>
            <a:ext cx="2361960" cy="685800"/>
            <a:chOff x="328680" y="5908680"/>
            <a:chExt cx="2361960" cy="685800"/>
          </a:xfrm>
        </p:grpSpPr>
        <p:sp>
          <p:nvSpPr>
            <p:cNvPr id="154" name=""/>
            <p:cNvSpPr/>
            <p:nvPr/>
          </p:nvSpPr>
          <p:spPr>
            <a:xfrm>
              <a:off x="328680" y="5908680"/>
              <a:ext cx="2361960" cy="6858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9560" y="598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美点寻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31800" y="1752480"/>
            <a:ext cx="4844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和妻子都是慢慢地，稳稳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走得很仔细，好像我背上的同她背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加起来，就是整个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45720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对春景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生动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5400" y="5181480"/>
            <a:ext cx="23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小家伙的话表现他天真可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84800" y="5791320"/>
            <a:ext cx="25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用生活的细节表现深沉的感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6094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黑体"/>
              </a:rPr>
              <a:t>结尾表现家庭美满与温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42" descr=""/>
          <p:cNvPicPr/>
          <p:nvPr/>
        </p:nvPicPr>
        <p:blipFill>
          <a:blip r:embed="rId6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28680" y="5908680"/>
            <a:ext cx="2361960" cy="685800"/>
            <a:chOff x="328680" y="5908680"/>
            <a:chExt cx="2361960" cy="685800"/>
          </a:xfrm>
        </p:grpSpPr>
        <p:sp>
          <p:nvSpPr>
            <p:cNvPr id="163" name=""/>
            <p:cNvSpPr/>
            <p:nvPr/>
          </p:nvSpPr>
          <p:spPr>
            <a:xfrm>
              <a:off x="328680" y="5908680"/>
              <a:ext cx="2361960" cy="6858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9560" y="5985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美点寻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8120" y="4525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汉仪粗黑简"/>
                <a:ea typeface="汉仪粗黑简"/>
              </a:rPr>
              <a:t>延 伸 阅 读</a:t>
            </a:r>
            <a:r>
              <a:rPr b="1" lang="zh-CN" sz="2400" spc="-1" strike="noStrike">
                <a:solidFill>
                  <a:srgbClr val="006600"/>
                </a:solidFill>
                <a:latin typeface="华文中宋"/>
                <a:ea typeface="华文中宋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57080" y="1523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阅读《送小龟回家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1337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从不同的角度，用不同的表述点示《送小龟回家》的表达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2895480"/>
            <a:ext cx="6324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关心孤立无助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从小就应该培养孩子的善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美丽的童心是可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父母要理解孩子的童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动物和人一样也需要温暖的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文中有一种思家之情、团聚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34" descr=""/>
          <p:cNvPicPr/>
          <p:nvPr/>
        </p:nvPicPr>
        <p:blipFill>
          <a:blip r:embed="rId2"/>
          <a:stretch/>
        </p:blipFill>
        <p:spPr>
          <a:xfrm>
            <a:off x="2133720" y="533520"/>
            <a:ext cx="685800" cy="556920"/>
          </a:xfrm>
          <a:prstGeom prst="rect">
            <a:avLst/>
          </a:prstGeom>
          <a:ln w="0">
            <a:noFill/>
          </a:ln>
        </p:spPr>
      </p:pic>
      <p:pic>
        <p:nvPicPr>
          <p:cNvPr id="170" name="42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8120" y="446040"/>
            <a:ext cx="365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汉仪粗黑简"/>
                <a:ea typeface="汉仪粗黑简"/>
              </a:rPr>
              <a:t>延 伸 阅 读</a:t>
            </a:r>
            <a:r>
              <a:rPr b="1" lang="zh-CN" sz="2400" spc="-1" strike="noStrike">
                <a:solidFill>
                  <a:srgbClr val="006600"/>
                </a:solidFill>
                <a:latin typeface="汉仪粗黑简"/>
                <a:ea typeface="汉仪粗黑简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371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黑体"/>
              </a:rPr>
              <a:t>请同学们找出并说明《送小龟回家》中的美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2286000"/>
            <a:ext cx="601992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伞下的温情世界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微风、细雨交织的秋意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思家氛围的精心营构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晚风翅膀掠过的孤独涟漪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感动妻子的泪流满面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美在童话色彩的竭力铺排</a:t>
            </a: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34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685800" cy="557280"/>
          </a:xfrm>
          <a:prstGeom prst="rect">
            <a:avLst/>
          </a:prstGeom>
          <a:ln w="0">
            <a:noFill/>
          </a:ln>
        </p:spPr>
      </p:pic>
      <p:pic>
        <p:nvPicPr>
          <p:cNvPr id="175" name="4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768120" y="192240"/>
            <a:ext cx="21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黑体"/>
                <a:ea typeface="黑体"/>
              </a:rPr>
              <a:t>课  堂  总 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990720"/>
            <a:ext cx="822960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、《散步》一文选取生活的一角，通过几个细节，写出了三代人之间的深沉的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、作者的话，泥土一样朴实，却浸透着深厚的感情，道出了生活的真谛。作者无意写情，而情感自然流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、 《散步》语言简朴，如同未经打磨的石头，自然淳朴，但却逗人喜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、学习这篇散文，应该用心去体会文中的感情，感受文中的真挚感情，并能结合己身写写家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34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1067040" cy="866880"/>
          </a:xfrm>
          <a:prstGeom prst="rect">
            <a:avLst/>
          </a:prstGeom>
          <a:ln w="0">
            <a:noFill/>
          </a:ln>
        </p:spPr>
      </p:pic>
      <p:pic>
        <p:nvPicPr>
          <p:cNvPr id="179" name="4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01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5562720"/>
            <a:ext cx="1371600" cy="119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汉鼎简新艺体"/>
                <a:ea typeface="汉鼎简新艺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2895480"/>
            <a:ext cx="32004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中宋"/>
                <a:ea typeface="华文中宋"/>
              </a:rPr>
              <a:t>再  见</a:t>
            </a:r>
            <a:r>
              <a:rPr b="1" lang="zh-CN" sz="6000" spc="-1" strike="noStrike">
                <a:solidFill>
                  <a:srgbClr val="808080"/>
                </a:solidFill>
                <a:latin typeface="汉鼎简大黑"/>
                <a:ea typeface="汉鼎简大黑"/>
              </a:rPr>
              <a:t> 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2360" y="5815080"/>
            <a:ext cx="10666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609480"/>
            <a:ext cx="73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幸福的家庭是美好而温馨的，家庭生活的细节也往往渗透着深沉的爱。进入莫怀戚</a:t>
            </a:r>
            <a:r>
              <a:rPr b="1" lang="zh-CN" sz="4000" spc="-1" strike="noStrike">
                <a:solidFill>
                  <a:srgbClr val="ff9900"/>
                </a:solidFill>
                <a:latin typeface="方正大黑简体"/>
                <a:ea typeface="方正大黑简体"/>
              </a:rPr>
              <a:t>《</a:t>
            </a:r>
            <a:r>
              <a:rPr b="1" lang="zh-CN" sz="4000" spc="-1" strike="noStrike">
                <a:solidFill>
                  <a:srgbClr val="ff9900"/>
                </a:solidFill>
                <a:latin typeface="方正粗圆简体"/>
                <a:ea typeface="方正粗圆简体"/>
              </a:rPr>
              <a:t>散  步</a:t>
            </a:r>
            <a:r>
              <a:rPr b="1" lang="zh-CN" sz="4000" spc="-1" strike="noStrike">
                <a:solidFill>
                  <a:srgbClr val="ff9900"/>
                </a:solidFill>
                <a:latin typeface="方正大黑简体"/>
                <a:ea typeface="方正大黑简体"/>
              </a:rPr>
              <a:t>》</a:t>
            </a: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牧歌似的情景，你就会感受到这一点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qq" descr=""/>
          <p:cNvPicPr/>
          <p:nvPr/>
        </p:nvPicPr>
        <p:blipFill>
          <a:blip r:embed="rId2"/>
          <a:stretch/>
        </p:blipFill>
        <p:spPr>
          <a:xfrm>
            <a:off x="7203960" y="6078600"/>
            <a:ext cx="1676520" cy="6094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36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123720" y="762120"/>
            <a:ext cx="3962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75000"/>
              </a:lnSpc>
              <a:spcBef>
                <a:spcPts val="901"/>
              </a:spcBef>
              <a:buClr>
                <a:srgbClr val="99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学 法 指 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3" action="ppaction://hlinksldjump"/>
              </a:rPr>
              <a:t>人 物 谱 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4" action="ppaction://hlinksldjump"/>
              </a:rPr>
              <a:t>内 容 简 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5" action="ppaction://hlinksldjump"/>
              </a:rPr>
              <a:t>情 感 脉 络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75000"/>
              </a:lnSpc>
              <a:spcBef>
                <a:spcPts val="901"/>
              </a:spcBef>
              <a:buClr>
                <a:srgbClr val="99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深 层 解 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6" action="ppaction://hlinksldjump"/>
              </a:rPr>
              <a:t>契 机 评 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7" action="ppaction://hlinksldjump"/>
              </a:rPr>
              <a:t>美 点 寻 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8" action="ppaction://hlinksldjump"/>
              </a:rPr>
              <a:t>主 题 阐 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75000"/>
              </a:lnSpc>
              <a:spcBef>
                <a:spcPts val="901"/>
              </a:spcBef>
              <a:buClr>
                <a:srgbClr val="99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课 外 拓 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9" action="ppaction://hlinksldjump"/>
              </a:rPr>
              <a:t>延伸阅读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10" action="ppaction://hlinksldjump"/>
              </a:rPr>
              <a:t>延伸阅读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hlinkClick r:id="rId11" action="ppaction://hlinksldjump"/>
              </a:rPr>
              <a:t>课 堂 总 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4" descr=""/>
          <p:cNvPicPr/>
          <p:nvPr/>
        </p:nvPicPr>
        <p:blipFill>
          <a:blip r:embed="rId12"/>
          <a:stretch/>
        </p:blipFill>
        <p:spPr>
          <a:xfrm>
            <a:off x="3048120" y="762120"/>
            <a:ext cx="677880" cy="503280"/>
          </a:xfrm>
          <a:prstGeom prst="rect">
            <a:avLst/>
          </a:prstGeom>
          <a:ln w="0">
            <a:noFill/>
          </a:ln>
        </p:spPr>
      </p:pic>
      <p:pic>
        <p:nvPicPr>
          <p:cNvPr id="59" name="34" descr=""/>
          <p:cNvPicPr/>
          <p:nvPr/>
        </p:nvPicPr>
        <p:blipFill>
          <a:blip r:embed="rId13"/>
          <a:stretch/>
        </p:blipFill>
        <p:spPr>
          <a:xfrm>
            <a:off x="3056040" y="4221000"/>
            <a:ext cx="677880" cy="503280"/>
          </a:xfrm>
          <a:prstGeom prst="rect">
            <a:avLst/>
          </a:prstGeom>
          <a:ln w="0">
            <a:noFill/>
          </a:ln>
        </p:spPr>
      </p:pic>
      <p:pic>
        <p:nvPicPr>
          <p:cNvPr id="60" name="34" descr=""/>
          <p:cNvPicPr/>
          <p:nvPr/>
        </p:nvPicPr>
        <p:blipFill>
          <a:blip r:embed="rId14"/>
          <a:stretch/>
        </p:blipFill>
        <p:spPr>
          <a:xfrm>
            <a:off x="3048120" y="2438280"/>
            <a:ext cx="677880" cy="50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79440" y="1219320"/>
            <a:ext cx="54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4320" y="1523880"/>
            <a:ext cx="10947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7c80"/>
                </a:solidFill>
                <a:latin typeface="黑体"/>
                <a:ea typeface="黑体"/>
              </a:rPr>
              <a:t>散   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63720" y="2514600"/>
            <a:ext cx="10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莫怀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79" descr=""/>
          <p:cNvPicPr/>
          <p:nvPr/>
        </p:nvPicPr>
        <p:blipFill>
          <a:blip r:embed="rId15"/>
          <a:stretch/>
        </p:blipFill>
        <p:spPr>
          <a:xfrm>
            <a:off x="7162920" y="5029200"/>
            <a:ext cx="147312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268160" y="1295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我的母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02560" y="23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3496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我的妻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48006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我的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1447920"/>
            <a:ext cx="212760" cy="1295280"/>
          </a:xfrm>
          <a:custGeom>
            <a:avLst/>
            <a:gdLst>
              <a:gd name="textAreaLeft" fmla="*/ 136080 w 212760"/>
              <a:gd name="textAreaRight" fmla="*/ 213120 w 2127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9240" y="18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黑体"/>
              </a:rPr>
              <a:t>妈妈和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733920"/>
            <a:ext cx="212760" cy="1295280"/>
          </a:xfrm>
          <a:custGeom>
            <a:avLst/>
            <a:gdLst>
              <a:gd name="textAreaLeft" fmla="*/ 136080 w 212760"/>
              <a:gd name="textAreaRight" fmla="*/ 213120 w 2127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9240" y="411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黑体"/>
              </a:rPr>
              <a:t>妈妈和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447920"/>
            <a:ext cx="304920" cy="3733560"/>
          </a:xfrm>
          <a:custGeom>
            <a:avLst/>
            <a:gdLst>
              <a:gd name="textAreaLeft" fmla="*/ 0 w 304920"/>
              <a:gd name="textAreaRight" fmla="*/ 110160 w 30492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71560" y="3124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黑体"/>
              </a:rPr>
              <a:t>祖孙三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3808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汉仪粗黑简"/>
                <a:ea typeface="汉仪粗黑简"/>
              </a:rPr>
              <a:t>散 </a:t>
            </a:r>
            <a:r>
              <a:rPr b="1" lang="zh-CN" sz="2400" spc="-1" strike="noStrike">
                <a:solidFill>
                  <a:srgbClr val="00cc99"/>
                </a:solidFill>
                <a:latin typeface="汉仪粗黑简"/>
                <a:ea typeface="汉仪粗黑简"/>
              </a:rPr>
              <a:t>(</a:t>
            </a:r>
            <a:r>
              <a:rPr b="1" lang="zh-CN" sz="2400" spc="-1" strike="noStrike">
                <a:solidFill>
                  <a:srgbClr val="00cc99"/>
                </a:solidFill>
                <a:latin typeface="汉仪粗黑简"/>
                <a:ea typeface="汉仪粗黑简"/>
              </a:rPr>
              <a:t>莫怀戚</a:t>
            </a:r>
            <a:r>
              <a:rPr b="1" lang="zh-CN" sz="2400" spc="-1" strike="noStrike">
                <a:solidFill>
                  <a:srgbClr val="00cc99"/>
                </a:solidFill>
                <a:latin typeface="汉仪粗黑简"/>
                <a:ea typeface="汉仪粗黑简"/>
              </a:rPr>
              <a:t>)  </a:t>
            </a:r>
            <a:r>
              <a:rPr b="1" lang="zh-CN" sz="4400" spc="-1" strike="noStrike">
                <a:solidFill>
                  <a:srgbClr val="008000"/>
                </a:solidFill>
                <a:latin typeface="汉仪粗黑简"/>
                <a:ea typeface="汉仪粗黑简"/>
              </a:rPr>
              <a:t>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223920" y="1447920"/>
            <a:ext cx="152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方正粗圆简体"/>
                <a:ea typeface="方正粗圆简体"/>
              </a:rPr>
              <a:t>人 物 谱 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34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838080" cy="681120"/>
          </a:xfrm>
          <a:prstGeom prst="rect">
            <a:avLst/>
          </a:prstGeom>
          <a:ln w="0">
            <a:noFill/>
          </a:ln>
        </p:spPr>
      </p:pic>
      <p:pic>
        <p:nvPicPr>
          <p:cNvPr id="78" name="42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2640" y="1600200"/>
            <a:ext cx="38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我之角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母亲年老，需要照顾。儿子还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还有时间陪伴在一起。对上肩负着赡养义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对下承担培养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7560" y="365760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母之角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孙子还小，好奇心强烈，我们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长辈的总要照顾晚辈，孙子爱走小路，我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就都走小路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黑体"/>
                <a:ea typeface="黑体"/>
              </a:rPr>
              <a:t>内 容 简 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676520"/>
            <a:ext cx="457200" cy="3276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34" descr=""/>
          <p:cNvPicPr/>
          <p:nvPr/>
        </p:nvPicPr>
        <p:blipFill>
          <a:blip r:embed="rId2"/>
          <a:stretch/>
        </p:blipFill>
        <p:spPr>
          <a:xfrm>
            <a:off x="2057400" y="533520"/>
            <a:ext cx="685800" cy="556920"/>
          </a:xfrm>
          <a:prstGeom prst="rect">
            <a:avLst/>
          </a:prstGeom>
          <a:ln w="0">
            <a:noFill/>
          </a:ln>
        </p:spPr>
      </p:pic>
      <p:pic>
        <p:nvPicPr>
          <p:cNvPr id="84" name="42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93640" y="1219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的母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528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1084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的妻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87160" y="487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的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1371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8520" y="1752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妈妈和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4840" y="4191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妈妈和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447920"/>
            <a:ext cx="380880" cy="3733560"/>
          </a:xfrm>
          <a:custGeom>
            <a:avLst/>
            <a:gdLst>
              <a:gd name="textAreaLeft" fmla="*/ 0 w 380880"/>
              <a:gd name="textAreaRight" fmla="*/ 137520 w 3808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124080"/>
            <a:ext cx="18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祖孙三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深沉的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6" idx="3"/>
            <a:endCxn id="85" idx="3"/>
          </p:cNvCxnSpPr>
          <p:nvPr/>
        </p:nvCxnSpPr>
        <p:spPr>
          <a:xfrm flipV="1">
            <a:off x="3609720" y="1447560"/>
            <a:ext cx="842040" cy="915120"/>
          </a:xfrm>
          <a:prstGeom prst="bentConnector3">
            <a:avLst>
              <a:gd name="adj1" fmla="val 127159"/>
            </a:avLst>
          </a:prstGeom>
          <a:ln w="9360">
            <a:solidFill>
              <a:srgbClr val="990099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033520" y="146844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对母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关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endCxn id="86" idx="2"/>
          </p:cNvCxnSpPr>
          <p:nvPr/>
        </p:nvCxnSpPr>
        <p:spPr>
          <a:xfrm flipV="1" rot="16200000">
            <a:off x="3244680" y="2712240"/>
            <a:ext cx="1219680" cy="975600"/>
          </a:xfrm>
          <a:prstGeom prst="bentConnector3">
            <a:avLst>
              <a:gd name="adj1" fmla="val 49985"/>
            </a:avLst>
          </a:prstGeom>
          <a:ln w="9360">
            <a:solidFill>
              <a:srgbClr val="990099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19200" y="27432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妻子对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尊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5" idx="3"/>
            <a:endCxn id="88" idx="3"/>
          </p:cNvCxnSpPr>
          <p:nvPr/>
        </p:nvCxnSpPr>
        <p:spPr>
          <a:xfrm flipH="1">
            <a:off x="4438080" y="1447920"/>
            <a:ext cx="13320" cy="3658320"/>
          </a:xfrm>
          <a:prstGeom prst="bentConnector3">
            <a:avLst>
              <a:gd name="adj1" fmla="val -1800000"/>
            </a:avLst>
          </a:prstGeom>
          <a:ln w="9360">
            <a:solidFill>
              <a:srgbClr val="990099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128560" y="44956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母亲对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子的疼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4560" y="58435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方正大黑简体"/>
              </a:rPr>
              <a:t>亲情、真情、责任感、使命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395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情 感 脉 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34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685800" cy="557280"/>
          </a:xfrm>
          <a:prstGeom prst="rect">
            <a:avLst/>
          </a:prstGeom>
          <a:ln w="0">
            <a:noFill/>
          </a:ln>
        </p:spPr>
      </p:pic>
      <p:pic>
        <p:nvPicPr>
          <p:cNvPr id="104" name="42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qq" descr=""/>
          <p:cNvPicPr/>
          <p:nvPr/>
        </p:nvPicPr>
        <p:blipFill>
          <a:blip r:embed="rId4"/>
          <a:stretch/>
        </p:blipFill>
        <p:spPr>
          <a:xfrm>
            <a:off x="7086600" y="304920"/>
            <a:ext cx="167652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58080" y="1981080"/>
            <a:ext cx="789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契 机 评 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59080" y="733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华文中宋"/>
                <a:ea typeface="华文中宋"/>
              </a:rPr>
              <a:t>文艺理论： 源于生活，高于生活。从平凡的小事中发掘不平凡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E02043_" descr=""/>
          <p:cNvPicPr/>
          <p:nvPr/>
        </p:nvPicPr>
        <p:blipFill>
          <a:blip r:embed="rId2"/>
          <a:stretch/>
        </p:blipFill>
        <p:spPr>
          <a:xfrm>
            <a:off x="0" y="762120"/>
            <a:ext cx="1066680" cy="1258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920" y="176328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中宋"/>
              </a:rPr>
              <a:t>切入角度：强化生命，淡化伦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88960" y="2971800"/>
            <a:ext cx="65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中宋"/>
              </a:rPr>
              <a:t>主体：“我”和“我的妻子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中宋"/>
              </a:rPr>
              <a:t>客体：“儿子”和“母亲”</a:t>
            </a:r>
            <a:r>
              <a:rPr b="1" lang="zh-CN" sz="3200" spc="-1" strike="noStrike">
                <a:solidFill>
                  <a:srgbClr val="00ffff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ffff"/>
                </a:solidFill>
                <a:latin typeface="华文中宋"/>
                <a:ea typeface="华文中宋"/>
              </a:rPr>
              <a:t>导演齐全</a:t>
            </a:r>
            <a:r>
              <a:rPr b="1" lang="zh-CN" sz="3200" spc="-1" strike="noStrike">
                <a:solidFill>
                  <a:srgbClr val="00ffff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5720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中宋"/>
              </a:rPr>
              <a:t>成熟的生命、沉重的责任，需要义无反顾的背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E02043_" descr=""/>
          <p:cNvPicPr/>
          <p:nvPr/>
        </p:nvPicPr>
        <p:blipFill>
          <a:blip r:embed="rId3"/>
          <a:stretch/>
        </p:blipFill>
        <p:spPr>
          <a:xfrm>
            <a:off x="457200" y="5410080"/>
            <a:ext cx="1066680" cy="1258920"/>
          </a:xfrm>
          <a:prstGeom prst="rect">
            <a:avLst/>
          </a:prstGeom>
          <a:ln w="0">
            <a:noFill/>
          </a:ln>
        </p:spPr>
      </p:pic>
      <p:pic>
        <p:nvPicPr>
          <p:cNvPr id="113" name="42" descr=""/>
          <p:cNvPicPr/>
          <p:nvPr/>
        </p:nvPicPr>
        <p:blipFill>
          <a:blip r:embed="rId4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76720" y="3049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主 题 阐 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1447920"/>
            <a:ext cx="6781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、亲情、真情、责任感、使命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、沉重的责任，需要尽力背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、幸福的家庭，是美好生命的摇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、爱护、尊重、体贴：人生的一种责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、文厚在意不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34" descr=""/>
          <p:cNvPicPr/>
          <p:nvPr/>
        </p:nvPicPr>
        <p:blipFill>
          <a:blip r:embed="rId2"/>
          <a:stretch/>
        </p:blipFill>
        <p:spPr>
          <a:xfrm>
            <a:off x="2362320" y="533520"/>
            <a:ext cx="685800" cy="556920"/>
          </a:xfrm>
          <a:prstGeom prst="rect">
            <a:avLst/>
          </a:prstGeom>
          <a:ln w="0">
            <a:noFill/>
          </a:ln>
        </p:spPr>
      </p:pic>
      <p:pic>
        <p:nvPicPr>
          <p:cNvPr id="117" name="42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18960" y="500040"/>
            <a:ext cx="239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美  点  寻  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554120"/>
            <a:ext cx="4495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对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春天景物的生动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24920" y="2620800"/>
            <a:ext cx="3106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小家伙的话表现他天真可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88600" y="3611520"/>
            <a:ext cx="3350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用生活的细节表现深沉的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46160" y="4678200"/>
            <a:ext cx="3350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结尾表现出家庭的幸福、温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34" descr=""/>
          <p:cNvPicPr/>
          <p:nvPr/>
        </p:nvPicPr>
        <p:blipFill>
          <a:blip r:embed="rId7"/>
          <a:stretch/>
        </p:blipFill>
        <p:spPr>
          <a:xfrm>
            <a:off x="1447920" y="3786120"/>
            <a:ext cx="685800" cy="557280"/>
          </a:xfrm>
          <a:prstGeom prst="rect">
            <a:avLst/>
          </a:prstGeom>
          <a:ln w="0">
            <a:noFill/>
          </a:ln>
        </p:spPr>
      </p:pic>
      <p:pic>
        <p:nvPicPr>
          <p:cNvPr id="124" name="34" descr=""/>
          <p:cNvPicPr/>
          <p:nvPr/>
        </p:nvPicPr>
        <p:blipFill>
          <a:blip r:embed="rId8"/>
          <a:stretch/>
        </p:blipFill>
        <p:spPr>
          <a:xfrm>
            <a:off x="1066680" y="2795760"/>
            <a:ext cx="685800" cy="556920"/>
          </a:xfrm>
          <a:prstGeom prst="rect">
            <a:avLst/>
          </a:prstGeom>
          <a:ln w="0">
            <a:noFill/>
          </a:ln>
        </p:spPr>
      </p:pic>
      <p:pic>
        <p:nvPicPr>
          <p:cNvPr id="125" name="34" descr=""/>
          <p:cNvPicPr/>
          <p:nvPr/>
        </p:nvPicPr>
        <p:blipFill>
          <a:blip r:embed="rId9"/>
          <a:stretch/>
        </p:blipFill>
        <p:spPr>
          <a:xfrm>
            <a:off x="685800" y="1728720"/>
            <a:ext cx="685800" cy="557280"/>
          </a:xfrm>
          <a:prstGeom prst="rect">
            <a:avLst/>
          </a:prstGeom>
          <a:ln w="0">
            <a:noFill/>
          </a:ln>
        </p:spPr>
      </p:pic>
      <p:pic>
        <p:nvPicPr>
          <p:cNvPr id="126" name="34" descr=""/>
          <p:cNvPicPr/>
          <p:nvPr/>
        </p:nvPicPr>
        <p:blipFill>
          <a:blip r:embed="rId10"/>
          <a:stretch/>
        </p:blipFill>
        <p:spPr>
          <a:xfrm>
            <a:off x="1981080" y="4800600"/>
            <a:ext cx="685800" cy="557280"/>
          </a:xfrm>
          <a:prstGeom prst="rect">
            <a:avLst/>
          </a:prstGeom>
          <a:ln w="0">
            <a:noFill/>
          </a:ln>
        </p:spPr>
      </p:pic>
      <p:pic>
        <p:nvPicPr>
          <p:cNvPr id="127" name="42" descr=""/>
          <p:cNvPicPr/>
          <p:nvPr/>
        </p:nvPicPr>
        <p:blipFill>
          <a:blip r:embed="rId11"/>
          <a:stretch/>
        </p:blipFill>
        <p:spPr>
          <a:xfrm>
            <a:off x="7543800" y="54864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1:29:51Z</dcterms:created>
  <dc:creator>wutao</dc:creator>
  <dc:description/>
  <dc:language>en-US</dc:language>
  <cp:lastModifiedBy>user</cp:lastModifiedBy>
  <dcterms:modified xsi:type="dcterms:W3CDTF">2004-01-10T09:54:40Z</dcterms:modified>
  <cp:revision>100</cp:revision>
  <dc:subject/>
  <dc:title>PowerPoint 演示文稿</dc:title>
</cp:coreProperties>
</file>