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7A82-A184-4EDF-827B-4AD7DB40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1E81-4B2A-42DA-AB48-68A1026D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6D3E-357F-40A7-9502-DDD213C3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F057-C7FA-46F8-B0D2-7D70E822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B5BD-4384-4C08-9043-EE0C78F9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BC40-62B3-40E6-B26F-2E598888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8C35-741A-48AE-A979-009A9094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71F1-D64A-488F-B93E-8F25B7BD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F71E-807F-4B8F-BD1B-1678561D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60BE-AAE5-4657-9D82-7D5FB290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C3AF-BDDC-4A8D-9C2D-E1B5F07E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9389-78AB-4AF4-A331-0368604A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C637-A6B3-43E1-80F0-1937C4DC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84D3-8F82-4506-BB3C-02C9B3A5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6912-7A85-4D14-8EC1-D4B2B3E8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7A54-B1D4-44ED-8064-9D2E0C28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8231-7BDC-452D-A5BC-677E6F7E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D5E55-AAEF-4B84-8BDC-CFA4F40C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8FBE7-E08B-4773-8718-49F4590C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C41ED-8F61-4CAD-BB5A-893C74AE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21FEA-3339-4DC9-851C-18EF833F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89DD7-C73F-479B-944A-FDAFE168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226-A613-4577-9E82-346221A1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39BD5-DBCF-45CC-A9A9-94022850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13F34-9C23-4A15-BCDF-71105E3B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67428-6958-4828-B806-470995F6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4B3A9-5F0B-41F0-9A97-00EA3875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B87CA-51E0-458D-920F-A173D8A4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97015-2C8D-4DC0-9E71-7A08F287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2A3B0-575D-4955-AB9F-AA25F92E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F1D4-74ED-42F6-85F3-2E98E885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DC5-9429-4CAE-BD19-01AD0DD6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6A73-31F6-48D3-9F39-EBA5B2A3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778-70FD-4364-B153-64D162F2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DA71-F526-44C8-AAAE-00713C08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C52-A8D9-4223-88FD-E8AAAB62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D97E-42E2-4AB3-A99B-883764859C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B4AE-52A4-4DE9-954F-EAD0E79D3AF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68BD-0E07-4145-A167-0F61BB8B07A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file:///&#21448;&#26159;&#19968;&#22825;&#38451;&#20809;&#20013;.doc" TargetMode="External"/><Relationship Id="rId3" Type="http://schemas.openxmlformats.org/officeDocument/2006/relationships/hyperlink" Target="file:///&#21448;&#26159;&#19968;&#22825;&#38451;&#20809;&#20013;.doc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&#29233;&#30340;&#35856;&#22863;&#26354;.MP3" TargetMode="External"/><Relationship Id="rId3" Type="http://schemas.openxmlformats.org/officeDocument/2006/relationships/hyperlink" Target="file:///&#29233;&#30340;&#35856;&#22863;&#26354;.MP3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324000" y="3500280"/>
            <a:ext cx="309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散   步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20680" y="4653000"/>
            <a:ext cx="91152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莫怀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457200"/>
            <a:ext cx="7848360" cy="33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800000"/>
                </a:solidFill>
                <a:latin typeface="Times New Roman"/>
                <a:ea typeface="华文彩云"/>
              </a:rPr>
              <a:t>展开想象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隶书"/>
              </a:rPr>
              <a:t>假如“我”毫不犹豫地依从儿子，母亲会怎么想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5029200"/>
            <a:ext cx="7543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356000" y="105264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拓展延伸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假设：晚饭后，全家人在一起看电视，爷爷奶奶喜欢看戏曲节目，爸爸妈妈喜欢看时事报道，而你喜欢看动画片，而遥控器掌握在你手中，你该怎么办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822240"/>
            <a:ext cx="435600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762120"/>
            <a:ext cx="8076960" cy="31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66cc"/>
                </a:solidFill>
                <a:latin typeface="Times New Roman"/>
                <a:ea typeface="华文彩云"/>
              </a:rPr>
              <a:t>讨论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 </a:t>
            </a:r>
            <a:r>
              <a:rPr b="0" lang="zh-CN" sz="5400" spc="-1" strike="noStrike">
                <a:solidFill>
                  <a:srgbClr val="0033cc"/>
                </a:solidFill>
                <a:latin typeface="Times New Roman"/>
                <a:ea typeface="隶书"/>
              </a:rPr>
              <a:t>为什么说“我背上的同她背上的加起来，就是</a:t>
            </a:r>
            <a:r>
              <a:rPr b="0" lang="zh-CN" sz="54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整个世界</a:t>
            </a:r>
            <a:r>
              <a:rPr b="0" lang="zh-CN" sz="5400" spc="-1" strike="noStrike">
                <a:solidFill>
                  <a:srgbClr val="0066ff"/>
                </a:solidFill>
                <a:latin typeface="Times New Roman"/>
                <a:ea typeface="隶书"/>
              </a:rPr>
              <a:t>”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文中“我”和妻子代表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  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着 中年人，上有老，下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小，既要赡养老人，又要抚养孩子，肩负着承前启后的责任，体现了“我”对生活的一种责任感、使命感。整个世界也就是由老年人、中年人、孩子组成。一个家庭是这样，一个民族乃至全世界又何尝不是这样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所以说背起的是整个世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33130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45338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阅读下面一位同学的日记，体会作者抒发的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796000" y="2565360"/>
            <a:ext cx="2665440" cy="3859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26920" y="3933720"/>
            <a:ext cx="27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又是一天阳光中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4360" y="90792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作一篇读书笔记，分别摘抄表现爱祖国、爱父母、爱老师、爱生命的片段和描写春天景物的片段并选择一个进行写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关于作者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379944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9d8e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重庆作家，曾著有系列小说集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大律师现实录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。许多语文课本中署名莫怀成，这是因为最早选入教材时作者的名字被误写为莫怀成而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308720" y="4221000"/>
            <a:ext cx="1079640" cy="23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38080" y="1143000"/>
            <a:ext cx="771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404640"/>
            <a:ext cx="8820000" cy="65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听录音，整体感受课文，然后填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散步的人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散步的季节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散步的地点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散步中发生的分歧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决定走小路的原因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爱的谐奏曲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MP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126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11970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我，我的母亲，我的妻子和儿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24360" y="1916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初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2637000"/>
            <a:ext cx="28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南方的田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59280" y="371628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母亲要走大路，大路平顺；我的儿子要走小路，小路有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544500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母亲爱孙儿，也爱春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朗读课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圈出表现一家人 互敬互爱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788000" y="2409840"/>
            <a:ext cx="41050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9640" y="981000"/>
            <a:ext cx="820908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表现一家人互敬互爱的句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、她现在很听我的话，就像我小时候很听她的话一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、我的母亲老了，她早已习惯听从她强壮的儿子；我的儿子还小，他还习惯听从他高大的父亲；妻子呢，在外面，她总是听我的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24000" y="907920"/>
            <a:ext cx="8496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、 母亲和儿子发生分歧，我经过思考决定  后。我说“ ：走大路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      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、母亲摸摸孙儿的小脑瓜，变了主意：“还是走小路吧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段是对初春的描写。 写了新绿、嫩芽、冬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为什么这一切使人想着一样东西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—— 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生命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这些景物体现出春的气息。春回大地，万物复苏，这些景物使人感觉到生命的存在，生命的召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2665440" cy="1819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140360" y="1052640"/>
            <a:ext cx="42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54936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散步前，文中还有一段对初春 的描写。找出来看看写了哪些景 物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786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92360" y="1484280"/>
            <a:ext cx="475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620640"/>
            <a:ext cx="81360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读第六段想一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、散步过程中“分歧”是怎样解决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母亲变了主意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、为什么一霎时我感到了责任的重大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pc</cp:lastModifiedBy>
  <dcterms:modified xsi:type="dcterms:W3CDTF">2004-03-18T05:16:03Z</dcterms:modified>
  <cp:revision>100</cp:revision>
  <dc:subject/>
  <dc:title>PowerPoint Presentation</dc:title>
</cp:coreProperties>
</file>