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25.gif" ContentType="image/gif"/>
  <Override PartName="/ppt/media/MCLIP17.WAV" ContentType="audio/x-wav"/>
  <Override PartName="/ppt/media/image28.jpeg" ContentType="image/jpeg"/>
  <Override PartName="/ppt/media/image7.jpeg" ContentType="image/jpeg"/>
  <Override PartName="/ppt/media/image15.gif" ContentType="image/gif"/>
  <Override PartName="/ppt/media/image11.wmf" ContentType="image/x-wmf"/>
  <Override PartName="/ppt/media/image17.jpeg" ContentType="image/jpeg"/>
  <Override PartName="/ppt/media/image3.png" ContentType="image/png"/>
  <Override PartName="/ppt/media/image10.gif" ContentType="image/gif"/>
  <Override PartName="/ppt/media/image29.gif" ContentType="image/gif"/>
  <Override PartName="/ppt/media/image12.jpeg" ContentType="image/jpeg"/>
  <Override PartName="/ppt/media/image4.png" ContentType="image/png"/>
  <Override PartName="/ppt/media/image24.gif" ContentType="image/gif"/>
  <Override PartName="/ppt/media/image2.png" ContentType="image/png"/>
  <Override PartName="/ppt/media/image1.jpeg" ContentType="image/jpeg"/>
  <Override PartName="/ppt/media/image13.jpeg" ContentType="image/jpeg"/>
  <Override PartName="/ppt/media/image20.gif" ContentType="image/gif"/>
  <Override PartName="/ppt/media/image14.jpeg" ContentType="image/jpeg"/>
  <Override PartName="/ppt/media/image9.gif" ContentType="image/gif"/>
  <Override PartName="/ppt/media/image16.jpeg" ContentType="image/jpeg"/>
  <Override PartName="/ppt/media/image18.jpeg" ContentType="image/jpeg"/>
  <Override PartName="/ppt/media/image21.png" ContentType="image/png"/>
  <Override PartName="/ppt/media/image26.gif" ContentType="image/gif"/>
  <Override PartName="/ppt/media/image22.wmf" ContentType="image/x-wmf"/>
  <Override PartName="/ppt/media/image19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8409-61BF-4A1E-91A7-82110E4C099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我们在羡慕之余却又悟出：生命原本这样，代代相因，生生不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《散步》的语言散发着清新淡雅的芬芳。阅读这种语言的感受像是背着花篮和作者一同散步，一边交谈，在不经意间往花篮里采摘几朵并不名贵却很雅致的花朵。读这篇文章的历程，是人的心灵在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亲情、人生、生命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这三点构成的轨迹上的一次愉快而高尚的旅行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《散步》是一篇玲珑剔透、秀美隽永、蕴藉丰富的精美散文，也是一曲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8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字凝成的真善美的颂歌。读这篇文章的历程，是人的心灵在亲情、人生、生命这三点构成的轨迹上的一次愉快而高尚的旅行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段可让学生以前后桌四人为一单位进行讨论，然后推出一人来发言。既然是课改，此形式不可少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3C7-545D-4BE6-9B09-626992F5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85D-E5FA-45FC-AC6B-24E78F47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DEF7-5615-4569-94AF-F5DE928E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961-6673-4E43-8CF8-536D6CE6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C9F-A111-4D1F-A33C-2D7F1DAB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BF3-B0D6-4DE2-B0BA-5747375E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2A9D-F67B-4433-8E84-31BAE10D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042-75A7-4B72-94ED-AFBDEC6A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D4E9-7C6B-41FE-95FE-5AED1D7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26B-7CD3-4AF4-B787-555D047A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43B-9A18-432F-8944-9FEA102C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80C-BFC5-4BC2-85D3-C3F6F331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367D-95AC-4DE1-A69B-EF43F6ECDE6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hyperlink" Target="file:///tmp/home/.config/libreoffice/4/user/gallery/MCLIP17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audio" Target="../media/MCLIP17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hyperlink" Target="file:///tmp/home/.config/libreoffice/4/user/gallery/MCLIP17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3.xml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tmp/home/.config/libreoffice/4/user/gallery/MCLIP17.WAV" TargetMode="External"/><Relationship Id="rId3" Type="http://schemas.openxmlformats.org/officeDocument/2006/relationships/audio" Target="../media/MCLIP17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.xml"/><Relationship Id="rId3" Type="http://schemas.openxmlformats.org/officeDocument/2006/relationships/image" Target="../media/image7.jpeg"/><Relationship Id="rId4" Type="http://schemas.openxmlformats.org/officeDocument/2006/relationships/slide" Target="slide5.xml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" Target="slide11.xml"/><Relationship Id="rId8" Type="http://schemas.openxmlformats.org/officeDocument/2006/relationships/image" Target="../media/image8.jpeg"/><Relationship Id="rId9" Type="http://schemas.openxmlformats.org/officeDocument/2006/relationships/slide" Target="slide12.xml"/><Relationship Id="rId10" Type="http://schemas.openxmlformats.org/officeDocument/2006/relationships/image" Target="../media/image8.jpeg"/><Relationship Id="rId11" Type="http://schemas.openxmlformats.org/officeDocument/2006/relationships/slide" Target="slide4.xml"/><Relationship Id="rId12" Type="http://schemas.openxmlformats.org/officeDocument/2006/relationships/image" Target="../media/image8.jpeg"/><Relationship Id="rId13" Type="http://schemas.openxmlformats.org/officeDocument/2006/relationships/slide" Target="slide13.xml"/><Relationship Id="rId14" Type="http://schemas.openxmlformats.org/officeDocument/2006/relationships/image" Target="../media/image8.jpeg"/><Relationship Id="rId15" Type="http://schemas.openxmlformats.org/officeDocument/2006/relationships/image" Target="../media/image7.jpeg"/><Relationship Id="rId16" Type="http://schemas.openxmlformats.org/officeDocument/2006/relationships/image" Target="../media/image9.gi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tmp/home/.config/libreoffice/4/user/gallery/MCLIP17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tmp/home/.config/libreoffice/4/user/gallery/MCLIP17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file:///tmp/home/.config/libreoffice/4/user/gallery/MCLIP17.WAV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hyperlink" Target="file:///tmp/home/.config/libreoffice/4/user/gallery/MCLIP17.WAV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9525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义务教育课程标准实验教科书（人教版）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5867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《语文》 七年级  上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157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2819520" y="274320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第  五  单  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/>
          </p:cNvPr>
          <p:cNvSpPr/>
          <p:nvPr/>
        </p:nvSpPr>
        <p:spPr>
          <a:xfrm>
            <a:off x="7848720" y="62485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1110"/>
                </a:moveTo>
                <a:lnTo>
                  <a:pt x="8224" y="11110"/>
                </a:lnTo>
                <a:lnTo>
                  <a:pt x="12645" y="6497"/>
                </a:lnTo>
                <a:lnTo>
                  <a:pt x="12645" y="20510"/>
                </a:lnTo>
                <a:lnTo>
                  <a:pt x="8224" y="15897"/>
                </a:lnTo>
                <a:lnTo>
                  <a:pt x="3794" y="15897"/>
                </a:lnTo>
                <a:close/>
              </a:path>
              <a:path fill="darken" w="21600" h="27006">
                <a:moveTo>
                  <a:pt x="14299" y="13503"/>
                </a:moveTo>
                <a:lnTo>
                  <a:pt x="17806" y="13503"/>
                </a:lnTo>
              </a:path>
              <a:path fill="darken" w="21600" h="27006">
                <a:moveTo>
                  <a:pt x="14299" y="11110"/>
                </a:moveTo>
                <a:lnTo>
                  <a:pt x="17806" y="8342"/>
                </a:lnTo>
              </a:path>
              <a:path fill="darken" w="21600" h="27006">
                <a:moveTo>
                  <a:pt x="14299" y="15897"/>
                </a:moveTo>
                <a:lnTo>
                  <a:pt x="17806" y="1866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 rot="520200">
            <a:off x="680760" y="52272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619280" y="450864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1908000" y="580536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1332000" y="5013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18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66880" y="4191120"/>
            <a:ext cx="3915000" cy="1276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e4a8"/>
                    </a:gs>
                    <a:gs pos="50000">
                      <a:srgbClr val="00694d"/>
                    </a:gs>
                    <a:gs pos="100000">
                      <a:srgbClr val="00e4a8"/>
                    </a:gs>
                  </a:gsLst>
                  <a:lin ang="5400000"/>
                </a:gradFill>
                <a:latin typeface="华文行楷"/>
              </a:rPr>
              <a:t>散     步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e4a8"/>
                  </a:gs>
                  <a:gs pos="50000">
                    <a:srgbClr val="00694d"/>
                  </a:gs>
                  <a:gs pos="100000">
                    <a:srgbClr val="00e4a8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65 0.07883 C 0.08038 0.07535 0.10694 0.03594 0.17448 0.03849 C 0.27708 0.0422 0.31753 0.07025 0.41215 0.0422 C 0.4717 0.02574 0.54166 -0.01577 0.59305 -0.01461 C 0.70937 -0.01345 0.73333 0.02945 0.73333 0.06886 C 0.73628 0.12428 0.58524 0.17111 0.40139 0.17644 C 0.21545 0.18039 0.06128 0.1208 0.07465 0.07883 Z">
                                      <p:cBhvr>
                                        <p:cTn id="8" dur="40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autoRev="1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99 0.09762 C -0.07796 0.09367 -0.05434 0.05217 0.00468 0.05495 C 0.09444 0.05889 0.12968 0.08834 0.2125 0.05889 C 0.26458 0.04151 0.32552 -0.00255 0.37066 -0.00116 C 0.47257 0.00024 0.4934 0.04545 0.4934 0.08695 C 0.49618 0.14561 0.36371 0.195 0.20295 0.20056 C 0.0401 0.2045 -0.09445 0.14167 -0.08299 0.09762 Z">
                                      <p:cBhvr>
                                        <p:cTn id="10" dur="30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autoRev="1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1044 C 0.00243 0.0065 0.03247 -0.03454 0.10851 -0.03199 C 0.22431 -0.02805 0.2698 0.00116 0.37657 -0.02805 C 0.44358 -0.04544 0.52257 -0.0888 0.58056 -0.08764 C 0.71146 -0.08625 0.73872 -0.04127 0.73872 -0.00023 C 0.74184 0.0582 0.57136 0.10712 0.36424 0.11269 C 0.15452 0.11686 -0.01909 0.05426 -0.00399 0.01044 Z">
                                      <p:cBhvr>
                                        <p:cTn id="12" dur="4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5975E-006 C 0.00677 -0.00255 0.03837 -0.02922 0.11789 -0.02759 C 0.23941 -0.02504 0.28733 -0.00603 0.39931 -0.02504 C 0.4698 -0.03617 0.55226 -0.06423 0.6132 -0.06353 C 0.75052 -0.0626 0.779 -0.03362 0.779 -0.00696 C 0.78264 0.03084 0.60382 0.0626 0.38646 0.06608 C 0.16632 0.06886 -0.01562 0.02828 -3.61111E-006 1.5975E-006 Z">
                                      <p:cBhvr>
                                        <p:cTn id="14" dur="40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3640" y="227664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她很听我的话，就像我小时候很听她的话一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我和母亲走在前面，我的妻子和儿子走在后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前面也是妈妈和儿子，后面也是妈妈和儿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949560" y="762120"/>
            <a:ext cx="5194440" cy="5486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620640"/>
            <a:ext cx="3810240" cy="838440"/>
          </a:xfrm>
          <a:custGeom>
            <a:avLst/>
            <a:gdLst>
              <a:gd name="textAreaLeft" fmla="*/ 952560 w 3810240"/>
              <a:gd name="textAreaRight" fmla="*/ 2857680 w 3810240"/>
              <a:gd name="textAreaTop" fmla="*/ 0 h 838440"/>
              <a:gd name="textAreaBottom" fmla="*/ 733680 h 8384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华文中宋"/>
              </a:rPr>
              <a:t>品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205740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这三个多么平常熟悉的字眼：无非就是“我的话”，“前面”“后面”，“妈妈”“儿子”，读来却能撩起几多思绪几多羡慕：慈母与孝子爱的深沉，和睦家庭的宁静温馨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91520" y="640080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6705720" y="640080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上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6104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3"/>
          </p:cNvPr>
          <p:cNvSpPr/>
          <p:nvPr/>
        </p:nvSpPr>
        <p:spPr>
          <a:xfrm>
            <a:off x="81532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77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7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495680" cy="19810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Tahoma"/>
                <a:ea typeface="华文行楷"/>
              </a:rPr>
              <a:t>谈谈感受、体验、理解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6868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《散步》的语言散发着清新淡雅的芬芳。阅读这种语言的感受像是背着花篮和作者一同散步，一边交谈，在不经意间往花篮里采摘几朵并不名贵却很雅致的花朵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8153280" y="624852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5029200"/>
            <a:ext cx="7010640" cy="581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请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—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词语来表达你心中的感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676520" y="1447920"/>
            <a:ext cx="708660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500"/>
                            </p:stCondLst>
                            <p:childTnLst>
                              <p:par>
                                <p:cTn id="4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934320" y="6858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38680" y="5635800"/>
            <a:ext cx="2057400" cy="12222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3760" y="990360"/>
            <a:ext cx="32763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作者通过对祖孙三代一家人在田野里散步这个生活侧面的生动描述，展示了一家人互敬互爱，和睦相处的深厚感情，体现了中华民族尊老爱幼的传统美德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447920" y="457200"/>
            <a:ext cx="556236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文章主旨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8153280" y="632448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每个人都有自己的家，想起它，就有温暖、舒适、轻松的幸福感觉；每个人都爱自己的家，离开家，就有无限的牵挂、思念和渴望……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153280" y="632448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16257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971800" y="228600"/>
            <a:ext cx="4876920" cy="1276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课后练笔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5059440"/>
            <a:ext cx="770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你以“家”为话题，自拟题目写一篇文章，要有真情实感，字数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字左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09320" y="243828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99"/>
                </a:solidFill>
                <a:latin typeface="华文行楷"/>
                <a:ea typeface="华文行楷"/>
              </a:rPr>
              <a:t>谢   谢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438280"/>
            <a:ext cx="4038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99"/>
                </a:solidFill>
                <a:latin typeface="华文行楷"/>
                <a:ea typeface="华文行楷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2438280"/>
            <a:ext cx="4038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99"/>
                </a:solidFill>
                <a:latin typeface="华文行楷"/>
                <a:ea typeface="华文行楷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19051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ahoma"/>
                <a:ea typeface="华文行楷"/>
              </a:rPr>
              <a:t>再  见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19051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ff00"/>
                </a:solidFill>
                <a:latin typeface="Tahoma"/>
                <a:ea typeface="华文行楷"/>
              </a:rPr>
              <a:t>再  见</a:t>
            </a:r>
            <a:r>
              <a:rPr b="0" lang="zh-CN" sz="9600" spc="-1" strike="noStrike">
                <a:solidFill>
                  <a:srgbClr val="000000"/>
                </a:solidFill>
                <a:latin typeface="Tahoma"/>
                <a:ea typeface="华文行楷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19051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ahoma"/>
                <a:ea typeface="华文行楷"/>
              </a:rPr>
              <a:t>再  见</a:t>
            </a:r>
            <a:r>
              <a:rPr b="0" lang="zh-CN" sz="9600" spc="-1" strike="noStrike">
                <a:solidFill>
                  <a:srgbClr val="000000"/>
                </a:solidFill>
                <a:latin typeface="Tahoma"/>
                <a:ea typeface="华文行楷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45820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2"/>
          </p:cNvPr>
          <p:cNvSpPr/>
          <p:nvPr/>
        </p:nvSpPr>
        <p:spPr>
          <a:xfrm>
            <a:off x="8077320" y="62485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1110"/>
                </a:moveTo>
                <a:lnTo>
                  <a:pt x="8224" y="11110"/>
                </a:lnTo>
                <a:lnTo>
                  <a:pt x="12645" y="6497"/>
                </a:lnTo>
                <a:lnTo>
                  <a:pt x="12645" y="20510"/>
                </a:lnTo>
                <a:lnTo>
                  <a:pt x="8224" y="15897"/>
                </a:lnTo>
                <a:lnTo>
                  <a:pt x="3794" y="15897"/>
                </a:lnTo>
                <a:close/>
              </a:path>
              <a:path fill="darken" w="21600" h="27006">
                <a:moveTo>
                  <a:pt x="14299" y="13503"/>
                </a:moveTo>
                <a:lnTo>
                  <a:pt x="17806" y="13503"/>
                </a:lnTo>
              </a:path>
              <a:path fill="darken" w="21600" h="27006">
                <a:moveTo>
                  <a:pt x="14299" y="11110"/>
                </a:moveTo>
                <a:lnTo>
                  <a:pt x="17806" y="8342"/>
                </a:lnTo>
              </a:path>
              <a:path fill="darken" w="21600" h="27006">
                <a:moveTo>
                  <a:pt x="14299" y="15897"/>
                </a:moveTo>
                <a:lnTo>
                  <a:pt x="17806" y="1866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endshow"/>
          </p:cNvPr>
          <p:cNvSpPr/>
          <p:nvPr/>
        </p:nvSpPr>
        <p:spPr>
          <a:xfrm>
            <a:off x="7308720" y="638172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结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  <p:sndAc>
      <p:stSnd>
        <p:snd r:embed="rId3" name="MCLIP17.WAV"/>
      </p:stSnd>
    </p:sndAc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evt="end">
                                        <p:tn val="512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0" dur="1" fill="hold">
                                    <p:stCondLst>
                                      <p:cond evt="end">
                                        <p:tn val="516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evt="end">
                                        <p:tn val="522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1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evt="end">
                                        <p:tn val="533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6520" y="304920"/>
            <a:ext cx="5790960" cy="2361960"/>
          </a:xfrm>
          <a:custGeom>
            <a:avLst/>
            <a:gdLst>
              <a:gd name="textAreaLeft" fmla="*/ 272160 w 5790960"/>
              <a:gd name="textAreaRight" fmla="*/ 6063480 w 5790960"/>
              <a:gd name="textAreaTop" fmla="*/ 975240 h 2361960"/>
              <a:gd name="textAreaBottom" fmla="*/ 1386720 h 2361960"/>
            </a:gdLst>
            <a:ahLst/>
            <a:rect l="textAreaLeft" t="textAreaTop" r="textAreaRight" b="textAreaBottom"/>
            <a:pathLst>
              <a:path w="21600" h="21600">
                <a:moveTo>
                  <a:pt x="1016" y="4459"/>
                </a:moveTo>
                <a:cubicBezTo>
                  <a:pt x="7708" y="-11337"/>
                  <a:pt x="14908" y="20255"/>
                  <a:pt x="21600" y="4459"/>
                </a:cubicBezTo>
                <a:lnTo>
                  <a:pt x="20584" y="17141"/>
                </a:lnTo>
                <a:cubicBezTo>
                  <a:pt x="13892" y="32937"/>
                  <a:pt x="6692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492360" y="2204640"/>
            <a:ext cx="52437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本单元以家庭、亲情为主题。五篇文章中，鲁迅先生的《风筝》表达兄弟之情，《羚羊木雕》写的是子女与父母的冲突，《诗两首》都抒发了子女对父母的爱，《咏雪》勾画了古人家庭教育文化生活的画面，《陈太丘与友期》是写子为父维护尊严，可见父子亲情。其中，是以《散步》意蕴最为丰富的一篇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361960" y="685440"/>
            <a:ext cx="433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ahoma"/>
              </a:rPr>
              <a:t>单元说明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3962520" cy="380988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8153280" y="624852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92720" y="476280"/>
            <a:ext cx="1439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99"/>
                </a:solidFill>
                <a:latin typeface="华文行楷"/>
                <a:ea typeface="华文行楷"/>
              </a:rPr>
              <a:t>散步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153280" y="624852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退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7467480" y="6248520"/>
            <a:ext cx="60984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692280"/>
            <a:ext cx="2233800" cy="5545080"/>
          </a:xfrm>
          <a:prstGeom prst="rightArrowCallout">
            <a:avLst>
              <a:gd name="adj1" fmla="val 46985"/>
              <a:gd name="adj2" fmla="val 33718"/>
              <a:gd name="adj3" fmla="val 19708"/>
              <a:gd name="adj4" fmla="val 69884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3960" y="1052640"/>
            <a:ext cx="23749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</a:rPr>
              <a:t>教 学 过 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63240" y="2637000"/>
            <a:ext cx="6678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莫怀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4140360" y="1773360"/>
            <a:ext cx="187308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故事情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2708280"/>
            <a:ext cx="1871640" cy="581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语言赏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7" action="ppaction://hlinksldjump"/>
          </p:cNvPr>
          <p:cNvSpPr/>
          <p:nvPr/>
        </p:nvSpPr>
        <p:spPr>
          <a:xfrm>
            <a:off x="4140360" y="3573360"/>
            <a:ext cx="1871640" cy="581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谈谈感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4140360" y="4508640"/>
            <a:ext cx="1871640" cy="5814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文章主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1" action="ppaction://hlinksldjump"/>
          </p:cNvPr>
          <p:cNvSpPr/>
          <p:nvPr/>
        </p:nvSpPr>
        <p:spPr>
          <a:xfrm>
            <a:off x="4140360" y="836640"/>
            <a:ext cx="1871640" cy="5814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教学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3" action="ppaction://hlinksldjump"/>
          </p:cNvPr>
          <p:cNvSpPr/>
          <p:nvPr/>
        </p:nvSpPr>
        <p:spPr>
          <a:xfrm>
            <a:off x="4140360" y="5516640"/>
            <a:ext cx="1871640" cy="5814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课后练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07920"/>
            <a:ext cx="287280" cy="511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133200 h 5112000"/>
              <a:gd name="textAreaBottom" fmla="*/ 4978800 h 511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6"/>
          <a:stretch/>
        </p:blipFill>
        <p:spPr>
          <a:xfrm>
            <a:off x="324000" y="33336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5867280"/>
            <a:ext cx="1218960" cy="703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4440" t="15764" r="12787" b="5289"/>
          <a:stretch/>
        </p:blipFill>
        <p:spPr>
          <a:xfrm>
            <a:off x="4572000" y="1295280"/>
            <a:ext cx="4267080" cy="457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" y="152280"/>
            <a:ext cx="5486400" cy="6705720"/>
          </a:xfrm>
          <a:prstGeom prst="irregularSeal2">
            <a:avLst/>
          </a:prstGeom>
          <a:gradFill rotWithShape="0">
            <a:gsLst>
              <a:gs pos="0">
                <a:srgbClr val="ffcf01"/>
              </a:gs>
              <a:gs pos="50000">
                <a:srgbClr val="ffffff"/>
              </a:gs>
              <a:gs pos="100000">
                <a:srgbClr val="ffcf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18960" y="1294920"/>
            <a:ext cx="327636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熟悉课文内容了解故事情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学用圈点法圈出精美的句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整体赏析品人性诗意语言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596000" y="1341000"/>
            <a:ext cx="1066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ahoma"/>
                <a:ea typeface="华文行楷"/>
              </a:rPr>
              <a:t>学目标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45720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ahoma"/>
                <a:ea typeface="华文行楷"/>
              </a:rPr>
              <a:t>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8153280" y="632448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43040" y="22824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华文行楷"/>
              </a:rPr>
              <a:t>复述《散步》     故事情节要点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5486400"/>
            <a:ext cx="1447920" cy="304920"/>
          </a:xfrm>
          <a:prstGeom prst="rightArrow">
            <a:avLst>
              <a:gd name="adj1" fmla="val 50000"/>
              <a:gd name="adj2" fmla="val 1187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6920" y="2636640"/>
            <a:ext cx="144756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劝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3924360"/>
            <a:ext cx="11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散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5257800"/>
            <a:ext cx="11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分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5334120"/>
            <a:ext cx="10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委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3962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依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2565360"/>
            <a:ext cx="10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背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56000" y="3213000"/>
            <a:ext cx="381240" cy="762120"/>
          </a:xfrm>
          <a:prstGeom prst="downArrow">
            <a:avLst>
              <a:gd name="adj1" fmla="val 38583"/>
              <a:gd name="adj2" fmla="val 4997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4495680"/>
            <a:ext cx="380880" cy="685800"/>
          </a:xfrm>
          <a:prstGeom prst="downArrow">
            <a:avLst>
              <a:gd name="adj1" fmla="val 38333"/>
              <a:gd name="adj2" fmla="val 498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4581360"/>
            <a:ext cx="380880" cy="762120"/>
          </a:xfrm>
          <a:prstGeom prst="upArrow">
            <a:avLst>
              <a:gd name="adj1" fmla="val 50000"/>
              <a:gd name="adj2" fmla="val 549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32720" y="3213000"/>
            <a:ext cx="338040" cy="762120"/>
          </a:xfrm>
          <a:prstGeom prst="upArrow">
            <a:avLst>
              <a:gd name="adj1" fmla="val 50000"/>
              <a:gd name="adj2" fmla="val 5636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8153280" y="624852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1773360"/>
            <a:ext cx="4321080" cy="0"/>
          </a:xfrm>
          <a:prstGeom prst="line">
            <a:avLst/>
          </a:prstGeom>
          <a:ln w="76320">
            <a:solidFill>
              <a:srgbClr val="53a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51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14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9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500"/>
                            </p:stCondLst>
                            <p:childTnLst>
                              <p:par>
                                <p:cTn id="16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500"/>
                            </p:stCondLst>
                            <p:childTnLst>
                              <p:par>
                                <p:cTn id="173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0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95280" y="304920"/>
            <a:ext cx="7162920" cy="1447560"/>
          </a:xfrm>
          <a:custGeom>
            <a:avLst/>
            <a:gdLst>
              <a:gd name="textAreaLeft" fmla="*/ 1790640 w 7162920"/>
              <a:gd name="textAreaRight" fmla="*/ 5372280 w 7162920"/>
              <a:gd name="textAreaTop" fmla="*/ 361800 h 1447560"/>
              <a:gd name="textAreaBottom" fmla="*/ 14047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华文行楷"/>
              </a:rPr>
              <a:t>语言赏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916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第二段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母亲本不愿出来的。她老了，身体不好，走远一点就觉得很累。我说，正因为如此，才应该多走走。母亲信服地点点头，便去拿外套。她现在很听我的话，就像我小时候很听她的话一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7767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比况得多妙！从内容上说，有回环的关系，把母子关系一下子追溯到几十年前，把母子二人温顺的性格都表现出来了。一个“慈母”，一个“孝子”，一个真诚的理解，一个绝对的信任，这种良性的因果循环正反映了古朴的伦理道德之美。儿子敬爱母亲，母亲尊重儿子，家庭出现了融洽、祥和的气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640080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645000"/>
            <a:ext cx="18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华文行楷"/>
              </a:rPr>
              <a:t>品析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7086600" y="640080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下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/>
          </p:cNvPr>
          <p:cNvSpPr/>
          <p:nvPr/>
        </p:nvSpPr>
        <p:spPr>
          <a:xfrm>
            <a:off x="845820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8390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0" t="0" r="0" b="7228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第四段：这南方初春的田野，大块小块的新绿随意地铺着，有的浓，有的淡；树上的嫩芽也密了；田里的冬水也咕咕地起着水泡。这一切都使人想着一样东西——  生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25146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4292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e4a8"/>
                </a:solidFill>
                <a:latin typeface="Tahoma"/>
                <a:ea typeface="华文中宋"/>
              </a:rPr>
              <a:t>这是对南方初春田野的描写：冬去春来，“大块小块的新绿”有浓有淡，“树上的嫩芽也密了”，“田里的冬水也咕咕起了水泡”。其中分明是春的气息的透露，它显示了不可遏制的生机，对生命的高歌，对生命力的礼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240" y="3716280"/>
            <a:ext cx="729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品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下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6553080" y="632448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上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61722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1110"/>
                </a:moveTo>
                <a:lnTo>
                  <a:pt x="8224" y="11110"/>
                </a:lnTo>
                <a:lnTo>
                  <a:pt x="12645" y="6497"/>
                </a:lnTo>
                <a:lnTo>
                  <a:pt x="12645" y="20510"/>
                </a:lnTo>
                <a:lnTo>
                  <a:pt x="8224" y="15897"/>
                </a:lnTo>
                <a:lnTo>
                  <a:pt x="3794" y="15897"/>
                </a:lnTo>
                <a:close/>
              </a:path>
              <a:path fill="darken" w="21600" h="27006">
                <a:moveTo>
                  <a:pt x="14299" y="13503"/>
                </a:moveTo>
                <a:lnTo>
                  <a:pt x="17806" y="13503"/>
                </a:lnTo>
              </a:path>
              <a:path fill="darken" w="21600" h="27006">
                <a:moveTo>
                  <a:pt x="14299" y="11110"/>
                </a:moveTo>
                <a:lnTo>
                  <a:pt x="17806" y="8342"/>
                </a:lnTo>
              </a:path>
              <a:path fill="darken" w="21600" h="27006">
                <a:moveTo>
                  <a:pt x="14299" y="15897"/>
                </a:moveTo>
                <a:lnTo>
                  <a:pt x="17806" y="1866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38880" y="45720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0" t="6945" r="0" b="0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2819520"/>
            <a:ext cx="7010280" cy="4038480"/>
          </a:xfrm>
          <a:custGeom>
            <a:avLst/>
            <a:gdLst>
              <a:gd name="textAreaLeft" fmla="*/ 1600200 w 7010280"/>
              <a:gd name="textAreaRight" fmla="*/ 5410080 w 7010280"/>
              <a:gd name="textAreaTop" fmla="*/ 921960 h 4038480"/>
              <a:gd name="textAreaBottom" fmla="*/ 311652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rcRect l="27083" t="11115" r="8105" b="0"/>
          <a:stretch/>
        </p:blipFill>
        <p:spPr>
          <a:xfrm>
            <a:off x="6705720" y="380988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47960" y="1904760"/>
            <a:ext cx="4267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第七段：她的眼随小路望去：那里有金色的菜花，两行整齐的桑树，尽头一口水波粼粼的鱼塘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96252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              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  <a:ea typeface="华文中宋"/>
              </a:rPr>
              <a:t>金色的菜花，整齐的桑树，水波粼粼的鱼塘——春天在召唤，生命在呼唤。是啊，尽管“今年的春天来得太迟”，“一些老人挺不住”，“但春天总算来了”，母亲也总算“又熬过了一个严冬”，这字里行间流露的正是一种对生活的酷爱，对生命的珍爱。春天来了，一切都要从头开始。是该抖抖精神，抖去冬日的慵懒；也得活动活动筋骨，用充沛的活力投入新的生活，迎接美好的明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304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第三段：今年的春天来得太迟，太迟了，有一些老人挺不住。但是春天总算来了。我的母亲又熬过了一个严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29973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品析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7391520" y="640080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下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6629400" y="640080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上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104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4"/>
          </p:cNvPr>
          <p:cNvSpPr/>
          <p:nvPr/>
        </p:nvSpPr>
        <p:spPr>
          <a:xfrm>
            <a:off x="81532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541440"/>
            <a:ext cx="6877080" cy="6316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276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476360" y="981000"/>
            <a:ext cx="390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第八段：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我的母亲虽然高大，然而很瘦，自然不算重；儿子虽然很胖，毕竟幼小，自然也轻。但我和妻子都是慢慢地，稳稳地，走得很仔细，好像我背上的同她背上的加起来，就是整个世界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6443640" y="1405080"/>
            <a:ext cx="27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以轻衬重，突出了“尊老爱幼”的重大意义，还写出了中年人已意识到自己责任重大，正在继承和发扬“尊老爱幼”的优良传统，谱写社会主义精神文明的新篇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16720" y="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华文彩云"/>
              </a:rPr>
              <a:t>品      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05000" cy="227664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543800" y="640080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下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6858000" y="640080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上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57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6104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5"/>
          </p:cNvPr>
          <p:cNvSpPr/>
          <p:nvPr/>
        </p:nvSpPr>
        <p:spPr>
          <a:xfrm>
            <a:off x="822960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58:05Z</dcterms:created>
  <dc:creator>wutao</dc:creator>
  <dc:description/>
  <dc:language>en-US</dc:language>
  <cp:lastModifiedBy>a</cp:lastModifiedBy>
  <dcterms:modified xsi:type="dcterms:W3CDTF">2004-12-16T06:09:29Z</dcterms:modified>
  <cp:revision>100</cp:revision>
  <dc:subject/>
  <dc:title>PowerPoint 演示文稿</dc:title>
</cp:coreProperties>
</file>