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4864-0AF2-4413-AEFA-F8521E3C2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65D3-C73C-4E8C-99B1-5AA9A5BC7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2830-9634-482C-A01C-23166D6AD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9F38-89FB-40D5-936C-8716B88B9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BA963-DF53-4C02-B9EF-01BAA6AD7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D19FF-1D1D-4197-A8C1-09F4C5DEB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7CACB-17B6-40E6-BF56-F89595D86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23CF9-2CBE-4521-8E4D-652B6A541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97BC3-D4C4-4581-8D19-1A4846084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90E0D-9EDF-4DE1-A955-7186B386B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4813F-E133-4B4C-8B07-D402A4DE1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AC09-7D4B-4270-9266-5ECD00EAA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94385-4584-4E1E-A84C-D90940533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2F767-DF9D-4121-B530-42034A417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52752-62DC-4D2A-B1F0-DD8397C21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D9B7B-F0F4-4598-A545-24C361017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72259-85F6-49DB-B8AF-C463D772B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27DD-CF5F-4F05-AD85-53992EA5F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161A-29D4-4F84-9A8D-9A44FA572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737D-4AD5-4583-86B0-60E1E3AA3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599D-F997-4697-A365-56BC75DD6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104B-2F9C-491E-A187-54BC95966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C525-CCC6-4BB7-83FC-CBA1DD203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C077-FDC7-4652-A7A0-FDD05F3C3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1" name="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flipV="1" rot="10800000">
              <a:off x="-16920" y="-12600"/>
              <a:ext cx="9204120" cy="457200"/>
            </a:xfrm>
            <a:custGeom>
              <a:avLst/>
              <a:gdLst>
                <a:gd name="textAreaLeft" fmla="*/ 1003320 w 9204120"/>
                <a:gd name="textAreaRight" fmla="*/ 8200800 w 9204120"/>
                <a:gd name="textAreaTop" fmla="*/ 49680 h 457200"/>
                <a:gd name="textAreaBottom" fmla="*/ 4075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11" y="21600"/>
                  </a:lnTo>
                  <a:lnTo>
                    <a:pt x="10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>
              <a:off x="-37800" y="6466680"/>
              <a:ext cx="9239400" cy="460440"/>
            </a:xfrm>
            <a:custGeom>
              <a:avLst/>
              <a:gdLst>
                <a:gd name="textAreaLeft" fmla="*/ 1009800 w 9239400"/>
                <a:gd name="textAreaRight" fmla="*/ 8229600 w 9239400"/>
                <a:gd name="textAreaTop" fmla="*/ 50040 h 460440"/>
                <a:gd name="textAreaBottom" fmla="*/ 410400 h 4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00" y="21600"/>
                  </a:lnTo>
                  <a:lnTo>
                    <a:pt x="11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0FC12-448D-494B-970B-E585ED4ACB8F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48" name="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 flipV="1" rot="10800000">
              <a:off x="-16920" y="-12600"/>
              <a:ext cx="9204120" cy="457200"/>
            </a:xfrm>
            <a:custGeom>
              <a:avLst/>
              <a:gdLst>
                <a:gd name="textAreaLeft" fmla="*/ 1003320 w 9204120"/>
                <a:gd name="textAreaRight" fmla="*/ 8200800 w 9204120"/>
                <a:gd name="textAreaTop" fmla="*/ 49680 h 457200"/>
                <a:gd name="textAreaBottom" fmla="*/ 4075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11" y="21600"/>
                  </a:lnTo>
                  <a:lnTo>
                    <a:pt x="10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-37800" y="6466680"/>
              <a:ext cx="9239400" cy="460440"/>
            </a:xfrm>
            <a:custGeom>
              <a:avLst/>
              <a:gdLst>
                <a:gd name="textAreaLeft" fmla="*/ 1009800 w 9239400"/>
                <a:gd name="textAreaRight" fmla="*/ 8229600 w 9239400"/>
                <a:gd name="textAreaTop" fmla="*/ 50040 h 460440"/>
                <a:gd name="textAreaBottom" fmla="*/ 410400 h 4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00" y="21600"/>
                  </a:lnTo>
                  <a:lnTo>
                    <a:pt x="11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698400" y="6154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136680" y="6154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565680" y="61545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53FFA-7F5B-46A0-9E5D-C0D2D044F69A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09480" y="3324240"/>
            <a:ext cx="8001000" cy="374760"/>
            <a:chOff x="609480" y="3324240"/>
            <a:chExt cx="8001000" cy="374760"/>
          </a:xfrm>
        </p:grpSpPr>
        <p:sp>
          <p:nvSpPr>
            <p:cNvPr id="58" name=""/>
            <p:cNvSpPr/>
            <p:nvPr/>
          </p:nvSpPr>
          <p:spPr>
            <a:xfrm>
              <a:off x="609480" y="3470400"/>
              <a:ext cx="800100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15960" y="3324240"/>
              <a:ext cx="7843680" cy="277920"/>
            </a:xfrm>
            <a:prstGeom prst="rect">
              <a:avLst/>
            </a:pr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13500000"/>
            </a:gradFill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2440" y="339408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22440" y="347040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22440" y="354636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22440" y="337968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22440" y="345600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22440" y="353232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hgs-01" descr=""/>
          <p:cNvPicPr/>
          <p:nvPr/>
        </p:nvPicPr>
        <p:blipFill>
          <a:blip r:embed="rId1"/>
          <a:stretch/>
        </p:blipFill>
        <p:spPr>
          <a:xfrm>
            <a:off x="1447920" y="2438280"/>
            <a:ext cx="6019560" cy="19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10(1)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162920" cy="45910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762120" y="52578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、到了第二天早上，两个骗子对皇帝说：“陛下，我们刚完成您游行的新衣服。”说完，便十分优雅地把衣服捧给皇帝。 当然，其实他们手上什么也没有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11" descr=""/>
          <p:cNvPicPr/>
          <p:nvPr/>
        </p:nvPicPr>
        <p:blipFill>
          <a:blip r:embed="rId1"/>
          <a:stretch/>
        </p:blipFill>
        <p:spPr>
          <a:xfrm>
            <a:off x="1066680" y="380880"/>
            <a:ext cx="6699240" cy="44802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62120" y="492444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、“好了，陛下，就让我们在这面大镜子前为您穿上这套新衣吧！”</a:t>
            </a:r>
            <a:br>
              <a:rPr sz="2400"/>
            </a:b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        于是，皇帝脱光了衣服，只剩下内衣。两个骗子装模做样地一件一件为他上新衣服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12" descr=""/>
          <p:cNvPicPr/>
          <p:nvPr/>
        </p:nvPicPr>
        <p:blipFill>
          <a:blip r:embed="rId1"/>
          <a:stretch/>
        </p:blipFill>
        <p:spPr>
          <a:xfrm>
            <a:off x="996840" y="380880"/>
            <a:ext cx="6927840" cy="44006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838080" y="492444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11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、 皇帝做了新衣服的消息很快便在老百姓中传开了。“嗨，听说皇帝的新衣服特别漂亮，叫人难以相信这是真的。”  “不错，而且更奇特的是傻瓜或者不诚实的人都看不见这衣服。”   游行终于开始了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13" descr=""/>
          <p:cNvPicPr/>
          <p:nvPr/>
        </p:nvPicPr>
        <p:blipFill>
          <a:blip r:embed="rId1"/>
          <a:stretch/>
        </p:blipFill>
        <p:spPr>
          <a:xfrm>
            <a:off x="1219320" y="449280"/>
            <a:ext cx="6629400" cy="46562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85800" y="52894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、 就在这个时候，有个小孩突然叫了起来：“皇帝什么也没穿！”   小孩的父亲赶紧捂住他的嘴，说：“我的儿子是聪明诚实的。”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14(1)" descr=""/>
          <p:cNvPicPr/>
          <p:nvPr/>
        </p:nvPicPr>
        <p:blipFill>
          <a:blip r:embed="rId1"/>
          <a:stretch/>
        </p:blipFill>
        <p:spPr>
          <a:xfrm>
            <a:off x="1295280" y="609480"/>
            <a:ext cx="6553440" cy="41911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762120" y="52578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13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、皇帝感到十分难堪，他这才觉得老百姓说的话才是对的。“这么说，我只穿着内衣在游行？哎呀！我是多么丢人啊！我该怎么办呢？”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hddxz-01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010280" cy="43671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04920" y="563868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１、很久很久以前，在某个国家，有一个皇帝很喜欢新衣服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hddxz-02" descr=""/>
          <p:cNvPicPr/>
          <p:nvPr/>
        </p:nvPicPr>
        <p:blipFill>
          <a:blip r:embed="rId1"/>
          <a:stretch/>
        </p:blipFill>
        <p:spPr>
          <a:xfrm>
            <a:off x="990720" y="519120"/>
            <a:ext cx="6858000" cy="42051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33520" y="528948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２、于是，这两个骗子便在皇帝的一间大屋子里搭起织机，假装的很起劲的织起布来。</a:t>
            </a:r>
            <a:br>
              <a:rPr sz="2400"/>
            </a:b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　嘎嘎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......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嘎嘎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.....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04(1)" descr=""/>
          <p:cNvPicPr/>
          <p:nvPr/>
        </p:nvPicPr>
        <p:blipFill>
          <a:blip r:embed="rId1"/>
          <a:stretch/>
        </p:blipFill>
        <p:spPr>
          <a:xfrm>
            <a:off x="1371600" y="380880"/>
            <a:ext cx="6364440" cy="4100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62120" y="492444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、过了一段时间，皇帝忍不住想去看看这种神奇的布料。他想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:“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现在布料应该快织完了吧！我是不是该去瞧一眼呢？”但是，他马上想起来了，任何不诚实或愚蠢的人是看不到这种布料的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05(2)" descr=""/>
          <p:cNvPicPr/>
          <p:nvPr/>
        </p:nvPicPr>
        <p:blipFill>
          <a:blip r:embed="rId1"/>
          <a:stretch/>
        </p:blipFill>
        <p:spPr>
          <a:xfrm>
            <a:off x="1817640" y="380880"/>
            <a:ext cx="5802480" cy="38196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09480" y="42670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、于是，丞相走进了两个骗子织布的那个大屋子。“噢！上帝呀！快让我瞧一眼这布料吧！”宰相在心里祈祷着。宰相拼命睁大眼睛，好看清楚些。但是，织布机上空空荡荡，没有任何东西。“噢！我的天哪！我怎么什么东西也看不见呀？”骗子们在问他。“啊，哈……你觉得这布怎么样啊？”骗子在问他。“啊！难道这不是世界上最美的布料？”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05" descr=""/>
          <p:cNvPicPr/>
          <p:nvPr/>
        </p:nvPicPr>
        <p:blipFill>
          <a:blip r:embed="rId1"/>
          <a:stretch/>
        </p:blipFill>
        <p:spPr>
          <a:xfrm>
            <a:off x="914400" y="520560"/>
            <a:ext cx="6934320" cy="44118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838080" y="56386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、于是，他回来对皇帝说：“嗯……那可真是块漂亮精致的布料。哦，很快就要完工了。” 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05" descr=""/>
          <p:cNvPicPr/>
          <p:nvPr/>
        </p:nvPicPr>
        <p:blipFill>
          <a:blip r:embed="rId1"/>
          <a:stretch/>
        </p:blipFill>
        <p:spPr>
          <a:xfrm>
            <a:off x="990720" y="457200"/>
            <a:ext cx="7010280" cy="44593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914400" y="52894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、过了不久，皇帝心想，“不知那块布料织完了没有，我简直等不及了。嗯，我得另外派一个人去看看。”于是，他又派了一个大臣去，同样的事情又发生了。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08(1)" descr=""/>
          <p:cNvPicPr/>
          <p:nvPr/>
        </p:nvPicPr>
        <p:blipFill>
          <a:blip r:embed="rId1"/>
          <a:stretch/>
        </p:blipFill>
        <p:spPr>
          <a:xfrm>
            <a:off x="990720" y="336600"/>
            <a:ext cx="6933960" cy="43117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62120" y="49528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、最后，皇帝决定要亲自去看看那块布料。于是，在许多大臣的簇拥下，皇帝来到骗子织布的地方。两个骗子假装干得比以前更卖力。 “啊，哈……陛下，您看这布料漂亮吗？”骗子们问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09(1)" descr=""/>
          <p:cNvPicPr/>
          <p:nvPr/>
        </p:nvPicPr>
        <p:blipFill>
          <a:blip r:embed="rId1"/>
          <a:stretch/>
        </p:blipFill>
        <p:spPr>
          <a:xfrm>
            <a:off x="838080" y="549360"/>
            <a:ext cx="7239240" cy="44035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85800" y="54864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、在游行的前夜，两个骗子忙了个通宵。他们摆出一副要按时赶好皇帝新衣的样子，整夜赶工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9T01:56:44Z</dcterms:created>
  <dc:creator>wutao</dc:creator>
  <dc:description/>
  <dc:language>en-US</dc:language>
  <cp:lastModifiedBy>yk</cp:lastModifiedBy>
  <dcterms:modified xsi:type="dcterms:W3CDTF">2004-03-24T02:56:39Z</dcterms:modified>
  <cp:revision>100</cp:revision>
  <dc:subject/>
  <dc:title>PowerPoint 演示文稿</dc:title>
</cp:coreProperties>
</file>