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9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A5CB-21AC-4CA0-9302-F53AB6882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D3F8-D30C-4B5E-B3C0-1A093093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CFAC-8F07-46F8-BE7A-5D7C55F73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6EB3-F1D0-4D2E-875E-368B42FF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2296-3A50-4065-A833-029317414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F1CF-9A25-4D1E-88C9-EE516A86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2A4D-7A2E-470B-ACE2-0A3DA927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1DF5-ABCE-4986-AD3C-AE83A295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5390-048E-4361-A54B-7A4F1855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96C7-7AC1-413B-94B0-84BF9379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116A-5EA1-45CC-B1E3-AE6BE707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58DB-8946-4307-86B0-66501917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E750-1187-45BE-829C-B46C159A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9EE7-B7D6-4B8A-9D4F-27B53D67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A050-0CB8-4725-9FD4-CEC4761E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8194-BC5F-4F89-BAF1-FEF36DB72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480B-6AD9-4CE3-AC9A-E09ACBB7E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8CBE-9EF9-47DF-BE16-682B52AE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8AE8-B4B2-40D4-B271-4B59994E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8A3D-622F-42C6-B588-1DF63254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7094-63DF-444C-BFA4-856F3B56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302B-0DEE-4082-BCE8-559A4D57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4464-F6D2-4B38-BB8E-54B736B1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F95B-85AD-4A13-9920-23995450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F290-C9A0-4247-9DBF-70FD1FDB133E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2E48-EFE7-43A6-B055-66B03E3CD725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14600" y="419112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安徒生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05" descr="05.gif (35162 bytes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thgs-01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3151080" cy="101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06" descr="06.gif (122176 bytes)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  <p:pic>
        <p:nvPicPr>
          <p:cNvPr id="141" name="thgs-01" descr=""/>
          <p:cNvPicPr/>
          <p:nvPr/>
        </p:nvPicPr>
        <p:blipFill>
          <a:blip r:embed="rId2"/>
          <a:stretch/>
        </p:blipFill>
        <p:spPr>
          <a:xfrm>
            <a:off x="6019920" y="228600"/>
            <a:ext cx="2922480" cy="9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08" descr="08.gif (37158 bytes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thgs-01" descr=""/>
          <p:cNvPicPr/>
          <p:nvPr/>
        </p:nvPicPr>
        <p:blipFill>
          <a:blip r:embed="rId2"/>
          <a:stretch/>
        </p:blipFill>
        <p:spPr>
          <a:xfrm>
            <a:off x="2971800" y="228600"/>
            <a:ext cx="3151080" cy="10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thgs-01" descr=""/>
          <p:cNvPicPr/>
          <p:nvPr/>
        </p:nvPicPr>
        <p:blipFill>
          <a:blip r:embed="rId1"/>
          <a:stretch/>
        </p:blipFill>
        <p:spPr>
          <a:xfrm>
            <a:off x="2995560" y="228600"/>
            <a:ext cx="3151080" cy="1014480"/>
          </a:xfrm>
          <a:prstGeom prst="rect">
            <a:avLst/>
          </a:prstGeom>
          <a:ln w="0">
            <a:noFill/>
          </a:ln>
        </p:spPr>
      </p:pic>
      <p:pic>
        <p:nvPicPr>
          <p:cNvPr id="145" name="09" descr="09.gif (41271 bytes)"/>
          <p:cNvPicPr/>
          <p:nvPr/>
        </p:nvPicPr>
        <p:blipFill>
          <a:blip r:embed="rId2">
            <a:lum contrast="30000"/>
          </a:blip>
          <a:srcRect l="-32141" t="-32154" r="0" b="0"/>
          <a:stretch/>
        </p:blipFill>
        <p:spPr>
          <a:xfrm>
            <a:off x="-2971800" y="-2209680"/>
            <a:ext cx="12115800" cy="9067680"/>
          </a:xfrm>
          <a:prstGeom prst="rect">
            <a:avLst/>
          </a:prstGeom>
          <a:ln w="0">
            <a:noFill/>
          </a:ln>
        </p:spPr>
      </p:pic>
      <p:pic>
        <p:nvPicPr>
          <p:cNvPr id="146" name="thgs-01" descr=""/>
          <p:cNvPicPr/>
          <p:nvPr/>
        </p:nvPicPr>
        <p:blipFill>
          <a:blip r:embed="rId3"/>
          <a:stretch/>
        </p:blipFill>
        <p:spPr>
          <a:xfrm>
            <a:off x="5638680" y="380880"/>
            <a:ext cx="3151440" cy="10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10" descr="10.gif (37939 bytes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thgs-01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3151440" cy="10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aa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thgs-01" descr=""/>
          <p:cNvPicPr/>
          <p:nvPr/>
        </p:nvPicPr>
        <p:blipFill>
          <a:blip r:embed="rId1"/>
          <a:stretch/>
        </p:blipFill>
        <p:spPr>
          <a:xfrm>
            <a:off x="2995560" y="228600"/>
            <a:ext cx="3151080" cy="1014480"/>
          </a:xfrm>
          <a:prstGeom prst="rect">
            <a:avLst/>
          </a:prstGeom>
          <a:ln w="0">
            <a:noFill/>
          </a:ln>
        </p:spPr>
      </p:pic>
      <p:pic>
        <p:nvPicPr>
          <p:cNvPr id="150" name="1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thgs-01" descr=""/>
          <p:cNvPicPr/>
          <p:nvPr/>
        </p:nvPicPr>
        <p:blipFill>
          <a:blip r:embed="rId3"/>
          <a:stretch/>
        </p:blipFill>
        <p:spPr>
          <a:xfrm>
            <a:off x="5638680" y="228600"/>
            <a:ext cx="3151440" cy="10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aa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  <p:pic>
        <p:nvPicPr>
          <p:cNvPr id="153" name="thgs-01" descr=""/>
          <p:cNvPicPr/>
          <p:nvPr/>
        </p:nvPicPr>
        <p:blipFill>
          <a:blip r:embed="rId2"/>
          <a:stretch/>
        </p:blipFill>
        <p:spPr>
          <a:xfrm>
            <a:off x="3048120" y="228600"/>
            <a:ext cx="3151080" cy="10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aa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13" descr="13.gif (42243 bytes)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pic>
        <p:nvPicPr>
          <p:cNvPr id="155" name="thgs-01" descr=""/>
          <p:cNvPicPr/>
          <p:nvPr/>
        </p:nvPicPr>
        <p:blipFill>
          <a:blip r:embed="rId2"/>
          <a:stretch/>
        </p:blipFill>
        <p:spPr>
          <a:xfrm>
            <a:off x="5105520" y="380880"/>
            <a:ext cx="3151080" cy="10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aa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14" descr="14.gif (39228 bytes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thgs-01" descr=""/>
          <p:cNvPicPr/>
          <p:nvPr/>
        </p:nvPicPr>
        <p:blipFill>
          <a:blip r:embed="rId2"/>
          <a:stretch/>
        </p:blipFill>
        <p:spPr>
          <a:xfrm>
            <a:off x="5257800" y="304920"/>
            <a:ext cx="3151080" cy="101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09480" y="30492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阅读课文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,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思考下列问题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1240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展新装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00600" y="44956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看新装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2590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爱新装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35812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做新装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685800"/>
            <a:ext cx="36576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ff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</a:rPr>
              <a:t>、</a:t>
            </a:r>
            <a:r>
              <a:rPr b="0" lang="zh-CN" sz="4400" spc="-1" strike="noStrike">
                <a:solidFill>
                  <a:srgbClr val="3366ff"/>
                </a:solidFill>
                <a:latin typeface="Times New Roman"/>
              </a:rPr>
              <a:t>故事情节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3200400"/>
            <a:ext cx="914400" cy="60948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4267080"/>
            <a:ext cx="1219320" cy="60984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6248520" y="3885840"/>
            <a:ext cx="685800" cy="7621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aa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219320"/>
            <a:ext cx="495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隶书"/>
              </a:rPr>
              <a:t>     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隶书"/>
              </a:rPr>
              <a:t>童话是儿童文学的一种，简单地说就是用儿童的语言写给儿童看的故事。它通过丰富的</a:t>
            </a:r>
            <a:r>
              <a:rPr b="0" lang="zh-CN" sz="3200" spc="-1" strike="noStrike" u="sng">
                <a:solidFill>
                  <a:srgbClr val="333333"/>
                </a:solidFill>
                <a:uFillTx/>
                <a:latin typeface="Times New Roman"/>
                <a:ea typeface="隶书"/>
              </a:rPr>
              <a:t>想象、幻想和夸张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隶书"/>
              </a:rPr>
              <a:t>来塑造形象，反映生活，对儿童进行思想教育。            语言通俗易懂，情节曲折离奇，往往采用拟人的手法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a2" descr=""/>
          <p:cNvPicPr/>
          <p:nvPr/>
        </p:nvPicPr>
        <p:blipFill>
          <a:blip r:embed="rId1"/>
          <a:stretch/>
        </p:blipFill>
        <p:spPr>
          <a:xfrm>
            <a:off x="5654520" y="1905120"/>
            <a:ext cx="3489480" cy="4495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5800" y="457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5f271"/>
                </a:solidFill>
                <a:uFillTx/>
                <a:latin typeface="宋体"/>
              </a:rPr>
              <a:t>体裁介绍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380880"/>
            <a:ext cx="8915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c2b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4c2b"/>
                </a:solidFill>
                <a:latin typeface="Times New Roman"/>
              </a:rPr>
              <a:t>、请问新装的魅力究竟何在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c2b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4c2b"/>
                </a:solidFill>
                <a:latin typeface="Times New Roman"/>
              </a:rPr>
              <a:t>请同学们从文中找出相应的语句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17524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“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任何不称职的或者愚蠢得不可救药的人，都看不见这件衣服。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335268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327672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971800"/>
            <a:ext cx="944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4c2b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4c2b"/>
                </a:solidFill>
                <a:latin typeface="Times New Roman"/>
              </a:rPr>
              <a:t>、这一魅力让王国的人们受到了怎样的影响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-457200" y="3562200"/>
            <a:ext cx="9601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〈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〉皇帝虽昏庸荒政但他想辨别出官员是否称职、是聪明还是愚蠢，以求保住皇位；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〈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〉大臣们只想证明自己是称职又聪明的，以保住官位；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〈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〉老百姓则想测验邻居的傻与笨，证明自己的聪明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9144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3794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e3794f"/>
                </a:solidFill>
                <a:latin typeface="宋体"/>
              </a:rPr>
              <a:t>、这篇课文的情节围绕一个“骗”字展开，请同学们说说文中各种人物是怎样围绕这个“骗”字进行活动的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3505320"/>
            <a:ext cx="1295640" cy="1295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38480" y="3657600"/>
            <a:ext cx="10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imes New Roman"/>
              </a:rPr>
              <a:t>骗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981080" y="2286000"/>
            <a:ext cx="5181840" cy="3720960"/>
            <a:chOff x="1981080" y="2286000"/>
            <a:chExt cx="5181840" cy="3720960"/>
          </a:xfrm>
        </p:grpSpPr>
        <p:sp>
          <p:nvSpPr>
            <p:cNvPr id="179" name=""/>
            <p:cNvSpPr/>
            <p:nvPr/>
          </p:nvSpPr>
          <p:spPr>
            <a:xfrm>
              <a:off x="1981080" y="38098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33"/>
                  </a:solidFill>
                  <a:latin typeface="Times New Roman"/>
                </a:rPr>
                <a:t>皇帝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62520" y="22860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9c974"/>
                  </a:solidFill>
                  <a:latin typeface="Times New Roman"/>
                </a:rPr>
                <a:t>大臣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43600" y="38098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百姓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62520" y="54864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小孩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895480" y="2742840"/>
            <a:ext cx="3124440" cy="2819520"/>
            <a:chOff x="2895480" y="2742840"/>
            <a:chExt cx="3124440" cy="2819520"/>
          </a:xfrm>
        </p:grpSpPr>
        <p:sp>
          <p:nvSpPr>
            <p:cNvPr id="184" name=""/>
            <p:cNvSpPr/>
            <p:nvPr/>
          </p:nvSpPr>
          <p:spPr>
            <a:xfrm flipH="1">
              <a:off x="2895480" y="4114800"/>
              <a:ext cx="9144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5105520" y="4114800"/>
              <a:ext cx="9144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4419720" y="2742840"/>
              <a:ext cx="0" cy="762120"/>
            </a:xfrm>
            <a:prstGeom prst="line">
              <a:avLst/>
            </a:prstGeom>
            <a:ln w="9360">
              <a:solidFill>
                <a:srgbClr val="69c97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419720" y="4800240"/>
              <a:ext cx="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4495680" y="2895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c974"/>
                </a:solidFill>
                <a:latin typeface="Times New Roman"/>
              </a:rPr>
              <a:t>助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412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49528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揭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3657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受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4419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昏庸、愚蠢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2286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c974"/>
                </a:solidFill>
                <a:latin typeface="Times New Roman"/>
              </a:rPr>
              <a:t>虚伪、自私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62720" y="4343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怕被嘲笑、怕被杀头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天真烂漫、无私无畏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d8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09480" y="9907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本篇童话突出的两个写作手法是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_____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_____;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文中是如何运用的，并说说它们的作用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-457200" y="4692600"/>
            <a:ext cx="92203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6666ff"/>
                </a:solidFill>
                <a:latin typeface="宋体"/>
                <a:ea typeface="宋体"/>
              </a:rPr>
              <a:t>无情地鞭挞了至高无上的皇帝和道貌岸然的大臣，  辛辣地嘲笑了他们的愚蠢虚伪卑鄙自私，曲折地反映了现实生活，反映了封建王朝的腐朽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-685800" y="2666880"/>
            <a:ext cx="98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6600ff"/>
                </a:solidFill>
                <a:latin typeface="宋体"/>
                <a:ea typeface="宋体"/>
              </a:rPr>
              <a:t>本文写出骗子用根本不存在的布料、衣服向皇帝行骗，写出皇帝和大臣们都甘愿受骗、并且骗人，最后写出皇帝赤裸全身在大街上游行，构成了丰富想象、大胆夸张的写作特点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3808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思考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72200" y="8380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想象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91520" y="838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夸张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20574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夸张与想象的手法</a:t>
            </a:r>
            <a:r>
              <a:rPr b="1" lang="zh-CN" sz="2400" spc="-1" strike="noStrike">
                <a:solidFill>
                  <a:srgbClr val="ff00ff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45720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作用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 flipH="1" flipV="1">
            <a:off x="2193840" y="22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1066680"/>
            <a:ext cx="74674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想象力训练：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lang="zh-CN" sz="4400" spc="-1" strike="noStrike">
                <a:solidFill>
                  <a:srgbClr val="9933ff"/>
                </a:solidFill>
                <a:latin typeface="Times New Roman"/>
                <a:ea typeface="隶书"/>
              </a:rPr>
              <a:t>请你给安徒生的《皇帝的新装》写个续篇！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-457200" y="304920"/>
            <a:ext cx="92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课后训练：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ff"/>
                </a:solidFill>
                <a:latin typeface="华文彩云"/>
                <a:ea typeface="华文彩云"/>
              </a:rPr>
              <a:t>运用夸张，口头描述皇帝穿着新衣游行时装模作样的丑态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07" name="a3" descr=""/>
          <p:cNvPicPr/>
          <p:nvPr/>
        </p:nvPicPr>
        <p:blipFill>
          <a:blip r:embed="rId1"/>
          <a:stretch/>
        </p:blipFill>
        <p:spPr>
          <a:xfrm>
            <a:off x="1447920" y="2151000"/>
            <a:ext cx="6476760" cy="39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aa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23880" y="8380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228600" y="838080"/>
            <a:ext cx="9372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5f271"/>
                </a:solidFill>
                <a:uFillTx/>
                <a:latin typeface="宋体"/>
                <a:ea typeface="方正姚体"/>
              </a:rPr>
              <a:t>教学目标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隶书"/>
                <a:ea typeface="隶书"/>
              </a:rPr>
              <a:t>1.</a:t>
            </a:r>
            <a:r>
              <a:rPr b="0" lang="zh-CN" sz="3600" spc="-1" strike="noStrike">
                <a:solidFill>
                  <a:srgbClr val="333333"/>
                </a:solidFill>
                <a:latin typeface="隶书"/>
                <a:ea typeface="隶书"/>
              </a:rPr>
              <a:t>理解童话的想象和夸张的艺术特点；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隶书"/>
                <a:ea typeface="隶书"/>
              </a:rPr>
              <a:t>2.</a:t>
            </a:r>
            <a:r>
              <a:rPr b="0" lang="zh-CN" sz="3600" spc="-1" strike="noStrike">
                <a:solidFill>
                  <a:srgbClr val="333333"/>
                </a:solidFill>
                <a:latin typeface="隶书"/>
                <a:ea typeface="隶书"/>
              </a:rPr>
              <a:t>能抓住人物的性格特征；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隶书"/>
                <a:ea typeface="隶书"/>
              </a:rPr>
              <a:t>3.</a:t>
            </a:r>
            <a:r>
              <a:rPr b="0" lang="zh-CN" sz="3600" spc="-1" strike="noStrike">
                <a:solidFill>
                  <a:srgbClr val="333333"/>
                </a:solidFill>
                <a:latin typeface="隶书"/>
                <a:ea typeface="隶书"/>
              </a:rPr>
              <a:t>能从在中认识到封建统治者的愚蠢和虚           伪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fa82"/>
            </a:gs>
            <a:gs pos="100000">
              <a:srgbClr val="f8faf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a1" descr=""/>
          <p:cNvPicPr/>
          <p:nvPr/>
        </p:nvPicPr>
        <p:blipFill>
          <a:blip r:embed="rId1"/>
          <a:stretch/>
        </p:blipFill>
        <p:spPr>
          <a:xfrm>
            <a:off x="0" y="1219320"/>
            <a:ext cx="4343400" cy="50529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495680" y="1066680"/>
            <a:ext cx="43434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1805~1875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全名是：汉斯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克利斯坦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安徒生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,19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世纪丹麦文学巨匠，世界著名的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童话作家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。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他的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160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余篇童话在近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150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年中被翻译成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140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多种文字，从丹麦传向世界。安徒生生于鞋匠家庭，童年生活穷苦，早期写有诗歌、剧本和长篇小说等，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1835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年开始写童话，著名的童话有《丑小鸭》、《海的女儿》、《卖火柴的小女孩》、《夜莺》、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《皇帝的新装》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等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38088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</a:rPr>
              <a:t>作者简介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9144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安徒生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12952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炫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(         )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耀   陛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(     )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下    御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(     )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聘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(        )   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骇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(         )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人听闻    头衔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(          ) 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滑稽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(      )  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钦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(       )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差大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臣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47242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379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19320" y="57150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379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3920" y="762120"/>
            <a:ext cx="99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正音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0"/>
            <a:ext cx="220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检查预习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9625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一字多音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2096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词语解释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743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宋体"/>
              </a:rPr>
              <a:t>钦差大臣：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8560" y="4572000"/>
            <a:ext cx="154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794f"/>
                </a:solidFill>
                <a:latin typeface="Times New Roman"/>
              </a:rPr>
              <a:t>更衣（        ）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794f"/>
                </a:solidFill>
                <a:latin typeface="Times New Roman"/>
              </a:rPr>
              <a:t>更多（        ）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5715000"/>
            <a:ext cx="2438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794f"/>
                </a:solidFill>
                <a:latin typeface="Times New Roman"/>
              </a:rPr>
              <a:t>自称（         ）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794f"/>
                </a:solidFill>
                <a:latin typeface="Times New Roman"/>
              </a:rPr>
              <a:t>相称（      ）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62120" y="1295280"/>
            <a:ext cx="6476760" cy="840960"/>
            <a:chOff x="762120" y="1295280"/>
            <a:chExt cx="6476760" cy="840960"/>
          </a:xfrm>
        </p:grpSpPr>
        <p:sp>
          <p:nvSpPr>
            <p:cNvPr id="103" name=""/>
            <p:cNvSpPr/>
            <p:nvPr/>
          </p:nvSpPr>
          <p:spPr>
            <a:xfrm>
              <a:off x="762120" y="12952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xuàn</a:t>
              </a:r>
              <a:r>
                <a:rPr b="0" lang="zh-CN" sz="2400" spc="-1" strike="noStrike">
                  <a:solidFill>
                    <a:srgbClr val="333333"/>
                  </a:solidFill>
                  <a:latin typeface="宋体"/>
                </a:rPr>
                <a:t> 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86000" y="1295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ｂ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ì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733920" y="12952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ｙ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ù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48320" y="1295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ì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ｎ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95880" y="12952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ｈ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à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ｉ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66680" y="167652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xián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66880" y="16765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ｊ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ī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62520" y="16765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qīn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371600" y="2743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由皇帝派遣，代表皇帝出外办理重大事件的官员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32004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指官衔、学衔等称号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581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宋体"/>
              </a:rPr>
              <a:t>骇人听闻：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200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宋体"/>
              </a:rPr>
              <a:t>头    衔：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35812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使人听了非常吃惊</a:t>
            </a:r>
            <a:r>
              <a:rPr b="1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多指社会上发生的坏事</a:t>
            </a:r>
            <a:r>
              <a:rPr b="1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。骇</a:t>
            </a:r>
            <a:r>
              <a:rPr b="1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:</a:t>
            </a:r>
            <a:r>
              <a:rPr b="1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震惊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5720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379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19720" y="57150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379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4495680"/>
            <a:ext cx="3048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794f"/>
                </a:solidFill>
                <a:latin typeface="Times New Roman"/>
              </a:rPr>
              <a:t>附和（      ）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794f"/>
                </a:solidFill>
                <a:latin typeface="Times New Roman"/>
              </a:rPr>
              <a:t>我和你（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e3794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5638680"/>
            <a:ext cx="2257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794f"/>
                </a:solidFill>
                <a:latin typeface="Times New Roman"/>
              </a:rPr>
              <a:t>系鞋带（     ）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794f"/>
                </a:solidFill>
                <a:latin typeface="Times New Roman"/>
              </a:rPr>
              <a:t>联系（     ）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9680" y="4572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ɡēn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9680" y="5105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gèn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33720" y="5715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chēn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6248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chè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91320" y="49528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hé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4520" y="44956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h è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9920" y="5638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jì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6172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xì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371600" y="17524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-457200" y="3048120"/>
            <a:ext cx="5121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600200"/>
            <a:ext cx="8610480" cy="26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ff"/>
                </a:solidFill>
                <a:latin typeface="幼圆"/>
                <a:ea typeface="幼圆"/>
              </a:rPr>
              <a:t>看图片，观表演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注意情节和关键语句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hddxz-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thgs-01" descr=""/>
          <p:cNvPicPr/>
          <p:nvPr/>
        </p:nvPicPr>
        <p:blipFill>
          <a:blip r:embed="rId2"/>
          <a:stretch/>
        </p:blipFill>
        <p:spPr>
          <a:xfrm>
            <a:off x="6019920" y="304920"/>
            <a:ext cx="2895480" cy="93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hddxz-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hddxz-02" descr=""/>
          <p:cNvPicPr/>
          <p:nvPr/>
        </p:nvPicPr>
        <p:blipFill>
          <a:blip r:embed="rId2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thgs-01" descr=""/>
          <p:cNvPicPr/>
          <p:nvPr/>
        </p:nvPicPr>
        <p:blipFill>
          <a:blip r:embed="rId3"/>
          <a:stretch/>
        </p:blipFill>
        <p:spPr>
          <a:xfrm>
            <a:off x="6019920" y="304920"/>
            <a:ext cx="2895480" cy="93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thgs-01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3151440" cy="1014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3T09:27:02Z</dcterms:created>
  <dc:creator>wutao</dc:creator>
  <dc:description/>
  <dc:language>en-US</dc:language>
  <cp:lastModifiedBy>a</cp:lastModifiedBy>
  <dcterms:modified xsi:type="dcterms:W3CDTF">2003-12-03T13:27:37Z</dcterms:modified>
  <cp:revision>100</cp:revision>
  <dc:subject>版权所有，不得复制</dc:subject>
  <dc:title>皇帝的新装</dc:title>
</cp:coreProperties>
</file>