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8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1.jpeg" ContentType="image/jpeg"/>
  <Override PartName="/ppt/media/drumroll.wav" ContentType="audio/x-wav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4D7-4A6E-45BA-B5A9-BC8217F9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B58-9688-4B7F-B652-F13371B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8ED-A7F7-4592-8424-CEFBF5A6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13C-3D74-41BB-87FF-C6B0D67F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072-68AA-4DEA-B537-7025E02E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264B-7A30-4D27-9173-69665AF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F84D-8534-4D86-8F59-F6B430B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48D1-01CA-4806-B03B-92A37962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BF70-F830-46E6-93AD-B42F0508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A868-421A-44F6-B2A8-6AC0E6C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FA78-AED4-4131-BD80-FDECFE8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3AD-1D6E-4CAB-8370-53BD477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AA0A-99E3-400C-BBC7-F4796AC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ACF7-49A8-4839-B69B-0140D45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10F2-0B64-49B6-98BF-1D528EE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D64C-697D-4B16-AF19-D96AEE7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3B5E-97E5-42EE-84E7-BB8A13FE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275-0CBC-4D06-A9D0-1BCF97F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63A-6655-4CE4-9D5E-C183E11A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B1E-1964-45FD-86B6-180291A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200-8100-4615-8A45-18A30EE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A89-ECD0-4604-A033-930C3BB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C40-0127-452D-B54D-F945A6A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D71-6D61-4718-986F-BF53B0B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87A-0000-41B2-97C9-A052548E13B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70B1-9736-4345-95E7-B8D0CA694C7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295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皇帝的新装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895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安徒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762120" y="3048120"/>
            <a:ext cx="380880" cy="304560"/>
          </a:xfrm>
          <a:prstGeom prst="flowChartConnector">
            <a:avLst/>
          </a:prstGeom>
          <a:solidFill>
            <a:srgbClr val="0000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内容结构关键词：</a:t>
            </a:r>
            <a:br>
              <a:rPr sz="36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治装费用：不惜  所有  花掉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心思兴趣：既不…也不…  炫耀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换衣次数：每分钟  都  更衣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骗子投其所好：最美的布料  奇怪的特性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最理想  马上  付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老大臣看织布  什么也看不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另一官员看织布   决不让人知道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亲自看织布：美极  满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骗子装模作样：取  剪  裁缝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脱下  扭  转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臣：称赞  华丽贵重  托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孩天真说：他什么衣服也没有穿呀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：发抖、摆出更神气的样子。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040" y="1787400"/>
            <a:ext cx="455040" cy="2288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67560" y="44280"/>
            <a:ext cx="24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本剧表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也当一回演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1560" y="4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7650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骗子为什么用织新衣而不用别的手段来骗皇帝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皇帝想看新衣又不敢去看，心理描写一波三折，非常精彩。这些心理活动说明了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、大臣、官员和皇帝都去看布料，场面相同，但写法却各不相同，它们不同在哪里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四、这场骗局为什么由一个孩子说出真相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、请试着用一个字来概括本文的主要内容，用一个词概括文中各色人等的性格特点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ba76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43200" y="25909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骗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895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骗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小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官员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752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百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762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皇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371600"/>
            <a:ext cx="0" cy="12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133720"/>
            <a:ext cx="68580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6920" y="2209680"/>
            <a:ext cx="91440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57200" y="4114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狡猾无比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114800"/>
            <a:ext cx="5791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私、虚伪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愚蠢、自欺欺人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191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无私无畏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4920" y="1197000"/>
            <a:ext cx="7956720" cy="29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br>
              <a:rPr sz="5400"/>
            </a:b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皇帝——骄奢淫逸，愚蠢虚荣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大臣——阿谀奉承，虚伪自私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小孩——天真无邪，纯洁无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381560" y="4292640"/>
            <a:ext cx="4762440" cy="25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867280" y="12600"/>
            <a:ext cx="3241800" cy="2192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4920" y="-2700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-36360" y="4292640"/>
            <a:ext cx="44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132000" y="-2700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15400" y="731880"/>
            <a:ext cx="53132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中   心</a:t>
            </a:r>
            <a:br>
              <a:rPr sz="48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通过描写一个昏庸无能而又穷奢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极欲的皇帝受骗上当的故事，揭露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讽刺了封建王朝和至高无上的皇帝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一群道貌岸然的大臣的愚蠢、卑鄙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虚伪和自欺欺人的丑行，告诉人们应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保持童心说真话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31080" y="73080"/>
            <a:ext cx="1521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各抒己见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83800" y="13748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觉得这篇童话好不好？为什么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文在写法上有什么特点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121932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7905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强调的重点是“除非是为了去炫耀一下他的衣服”，说明皇帝什么也不喜欢，什么都不关心，只在乎他的新衣服。这句夸张把皇帝爱穿新衣的癖好强调到了极点。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00" y="2703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皇帝自己其实心虚，也很害怕自己看不见，被人知道自己是一个不称职的皇帝，而且对自己是否聪明也不自信，所以他想起这句话，心理感到“不大自然”。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894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突出了皇帝极端恐惧的心理。他什么也看不见，嘴上却极力赞美，心里想的和嘴里说的完全相反，表现了皇帝的虚伪和骄傲。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6400" y="60976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目的是为了掩饰自己内心的恐慌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于童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童话是儿童文学的一种。这种作品通过丰富的想象、幻想和夸张来塑造形象，反映生活，对儿童进行思想教育。语言通俗、生动，故事情节往往离奇曲折，引人入胜。童话往往采用拟人的方法，举凡鸟兽虫鱼，花草树木，整个大自然以及家具、玩具都可赋予生命，注入思想感情，使它们人格化。童话又分两种，一种与寓言相近，每篇说明一个道理，这一类比较浅显；另一种与小说相近，并不直接说明一个道理，而是揭示生活中的美和丑，真和假，善和恶，这一类比较深些。这篇《皇帝的新装》和安徒生的其他许多童话属于后者。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61040" y="620640"/>
            <a:ext cx="56185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写联想、想像类作文的方法和技巧总结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首先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要敢想，不要有思想顾虑，想错不要紧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总结经验教训，练得多了，自然就有方法了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要打破习惯性思维，敢于纵向、横向联系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广泛联系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能够迁移思维，即把自己阅读过的神话、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说、寓言、故事、神妖和鬼怪等故事迁移到自己的想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作文中赋予它们新的品质，新的性格，新的形象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四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想像的内容表达的主题要鲜明，并且与现实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联系起来，让人知道你在讽刺什么，反对什么，肯定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么，赞扬什么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95680" cy="617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464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5920"/>
            <a:ext cx="86407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维体操</a:t>
            </a:r>
            <a:br>
              <a:rPr sz="36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完成下面的对联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①教一群学生，拂两袖清风；                   ，想四化大业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②驰笔常苦夏日短，                            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仿照下面两个比喻句的句式，分别以“快乐”和“悲伤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开头，写两个句式相同的比喻句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成功是你梦寐以求的那朵红玫瑰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挫折正是那遍及周围的针刺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不超过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个字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6000" y="11970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站三尺讲台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81800" y="161460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展卷不厌冬夜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1400" y="3933720"/>
            <a:ext cx="49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快乐像太阳周围的五彩光环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悲伤正是那五彩光环中的黑子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意思对即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41912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徒生，丹麦著名童话作家。生于鞋匠家庭。童年生活穷苦。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35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开始写童话，共写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8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篇。著名的有《丑小鸭》《皇帝的新装》《卖火柴的小女孩》《海的女儿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153280" y="594360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10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作背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篇童话写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初，西欧资本主义得到迅速发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处于北欧的丹麦却还是个君主立宪国家。拿破仑战争最激烈的时候，丹麦统治阶级利用英法矛盾，以中立地位大搞海上粮食贸易，引起英国不满，英国要求丹麦交出从事贸易的舰队和商船，成为英国的附庸国。丹麦拒绝了这一要求，英军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80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炮击哥本哈根，摧毁了丹麦的舰队，丹麦便由中立倒向拿破仑一边，成为交战国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后，拿破仑战败，丹麦也因成为战败国而失去广大土地，耗尽了钱财，银行倒闭，农村萧条，刚刚兴起的小型工业也全部破产，丹麦最终成了英国的附属国。丹麦人民身受本国封建阶级和英国资产阶级的双重剥削，过着饥寒交迫的贫困生活，而封建阶级则穷奢极欲，挥霍无度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3800" y="4797360"/>
            <a:ext cx="579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面对这样的社会现实，安徒生根据西班牙民间故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改编了《皇帝的新装》，把揭露的锋芒直指封建阶级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头子，无情地嘲讽了贵族、宫廷的丑恶行径，深刻的解剖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了当时社会的病状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360" y="6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听读课文，注意生字生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9037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258920"/>
            <a:ext cx="86868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炫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耀  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称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职            滑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稽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          头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骇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听闻  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钦差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臣               随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附和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85800"/>
            <a:ext cx="7772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xu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n             chèn                       jī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867280"/>
            <a:ext cx="533160" cy="457200"/>
          </a:xfrm>
          <a:custGeom>
            <a:avLst/>
            <a:gdLst>
              <a:gd name="textAreaLeft" fmla="*/ 93240 w 533160"/>
              <a:gd name="textAreaRight" fmla="*/ 386640 w 5331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743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bì                     xián        hà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596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qīn  chāi                                  fù  h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25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称职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chèn zhí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思想水平和工作能力都能胜任所担任的职务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滑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稽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huá j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ī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言语、动作）引人发笑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骇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(hài)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人听闻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使人听了非常吃惊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随声附和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(hè)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别人说什么，自己跟着说什么，没有主见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不可救药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病重到不可救治，比喻人或事坏到无法挽救的地步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735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旁白：如作者给孩子讲故事，语气亲切、自然、         语调平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皇帝：微胖、富态，语调傲慢，神情自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179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骗子：油头滑脑，油腔滑调，阿谀逢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6114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老大臣：年迈苍老，语调迟缓，故作镇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187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诚实的官员：毕恭毕敬，狡猾，故作姿态，语调低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378936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骑士们：庸庸碌碌，阿谀逢迎，随声附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340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典礼官：讨好皇帝，语调温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91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百姓们：不敢说真话，心里却明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549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小孩子： 无所顾忌，   天真单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1557360"/>
            <a:ext cx="64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角色朗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课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3720" y="5775480"/>
            <a:ext cx="22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请思考文章的线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什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020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皇帝的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爱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做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3200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看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343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穿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800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展新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152280 w 457200"/>
              <a:gd name="textAreaRight" fmla="*/ 391680 w 45720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8640" y="660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文章线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01:39:14Z</dcterms:created>
  <dc:creator>wutao</dc:creator>
  <dc:description/>
  <dc:language>en-US</dc:language>
  <cp:lastModifiedBy>645y</cp:lastModifiedBy>
  <dcterms:modified xsi:type="dcterms:W3CDTF">2003-11-10T00:07:51Z</dcterms:modified>
  <cp:revision>100</cp:revision>
  <dc:subject/>
  <dc:title>PowerPoint 演示文稿</dc:title>
</cp:coreProperties>
</file>