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type.wav" ContentType="audio/x-wav"/>
  <Override PartName="/ppt/media/image6.jpeg" ContentType="image/jpeg"/>
  <Override PartName="/ppt/media/chimes.wav" ContentType="audio/x-wav"/>
  <Override PartName="/ppt/media/image16.png" ContentType="image/png"/>
  <Override PartName="/ppt/media/image5.jpeg" ContentType="image/jpeg"/>
  <Override PartName="/ppt/media/cashreg.wav" ContentType="audio/x-wav"/>
  <Override PartName="/ppt/media/image13.png" ContentType="image/png"/>
  <Override PartName="/ppt/media/image4.jpeg" ContentType="image/jpeg"/>
  <Override PartName="/ppt/media/image21.jpeg" ContentType="image/jpeg"/>
  <Override PartName="/ppt/media/image20.gif" ContentType="image/gif"/>
  <Override PartName="/ppt/media/image18.jpeg" ContentType="image/jpeg"/>
  <Override PartName="/ppt/media/image12.png" ContentType="image/png"/>
  <Override PartName="/ppt/media/image17.wmf" ContentType="image/x-wmf"/>
  <Override PartName="/ppt/media/explode.wav" ContentType="audio/x-wav"/>
  <Override PartName="/ppt/media/image14.png" ContentType="image/png"/>
  <Override PartName="/ppt/media/image11.png" ContentType="image/png"/>
  <Override PartName="/ppt/media/image1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drumroll.wav" ContentType="audio/x-wav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5908-6D17-4943-97A2-C092B6FB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DD11-E0B1-4B4C-AC90-84A9638E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ECE4-67A5-4127-ABEE-35FC066E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5F0D-88AD-4972-AE8A-6F870E05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58EA-38F0-491D-BBF2-46572195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C90D-9842-4FB9-98F8-DF00B85F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7BAC-03E4-4E6F-B193-37D0A84B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C6BF-2298-48D7-BE8C-BDDF1591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F01F-2E93-43EB-BE81-ECE05C04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7B62-97DD-4C78-BC31-43CB64BB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9CBF-52D3-454F-8FA6-8F422904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19A8-E7EC-4002-B8AC-EB79A5ED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0468-A9A3-4248-A641-21366D8C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A4F5-503A-49B6-8F56-5C99ACF8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54A2-036C-4B9E-8EA4-A7054DA9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CBA8-3A6F-42A1-982E-8BE38FDD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A5E6-47F4-4F3B-940C-E17421D4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2809-0653-4135-A6DE-108467F2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EBE8-BF09-461B-81B3-7255F069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3791-8684-46A7-949A-88674D05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B0AE-40A8-4BCE-B780-C94C5B97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F87B-EB6C-4DFD-9274-2DD769E3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DDD2-71D5-4614-B6B9-733BA393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5F8D-E7A1-4ACC-AC04-F8C08B53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BED6-6D33-4266-94F8-8CA4809CE56D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7F70-E31D-4E3C-9355-A083C8FB2B40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-533520" y="-15840"/>
            <a:ext cx="9906120" cy="786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19320" y="2773440"/>
            <a:ext cx="746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1752480"/>
            <a:ext cx="78105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华文行楷"/>
              </a:rPr>
              <a:t>1</a:t>
            </a: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华文行楷"/>
              </a:rPr>
              <a:t>、在根本不存在的“新装”面前，皇帝、老大臣、“另外一位诚实的官员”，甚至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老百姓</a:t>
            </a: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华文行楷"/>
              </a:rPr>
              <a:t>都不敢说真话。想一想他们不敢说真话的原因是什么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华文行楷"/>
              </a:rPr>
              <a:t>2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华文行楷"/>
              </a:rPr>
              <a:t>、小孩子为什么敢说真话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436680"/>
            <a:ext cx="568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c5900"/>
                </a:solidFill>
                <a:latin typeface="Arial"/>
                <a:ea typeface="华文行楷"/>
              </a:rPr>
              <a:t>思考与讨论：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50920" y="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原因是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21337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84464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老大臣、“另外一位诚实的</a:t>
            </a:r>
            <a:br>
              <a:rPr sz="4000"/>
            </a:b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官员”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71640" y="620640"/>
            <a:ext cx="26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黑体"/>
              </a:rPr>
              <a:t>皇帝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0"/>
            <a:ext cx="4400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有皇冠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——怕别人说自己愚蠢、不称职，也怕丢了王位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2124000" cy="1439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0" y="620640"/>
            <a:ext cx="2124000" cy="1368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27640" y="2421000"/>
            <a:ext cx="504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有官职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——怕被别人说愚蠢、不称职，怕丢掉官职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0" y="3645000"/>
            <a:ext cx="4067280" cy="1584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700360" y="4221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63927"/>
                </a:solidFill>
                <a:latin typeface="Arial"/>
              </a:rPr>
              <a:t>老百姓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84720" y="4292640"/>
            <a:ext cx="48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有私心杂念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——怕别　　　　人嘲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0" y="5300640"/>
            <a:ext cx="2195640" cy="1557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627280" y="580536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63927"/>
                </a:solidFill>
                <a:latin typeface="Arial"/>
              </a:rPr>
              <a:t>小孩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0720" y="5805360"/>
            <a:ext cx="45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天真烂漫、无私无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962520" y="2514600"/>
            <a:ext cx="1676160" cy="1752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259092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骗</a:t>
            </a:r>
            <a:endParaRPr b="0" lang="en-US" sz="9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404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小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32360" y="98100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（天真诚实无私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0360" y="1700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揭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11253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皇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1628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（虚荣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90920" y="184464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00800" y="429264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大臣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3933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4724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（自私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2209680"/>
            <a:ext cx="79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508720" y="2421000"/>
            <a:ext cx="358560" cy="3096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580000" y="3789360"/>
            <a:ext cx="504720" cy="287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2565360"/>
            <a:ext cx="504720" cy="2890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573408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百姓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4000" y="518148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（畏权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4724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788000" y="4365720"/>
            <a:ext cx="0" cy="4572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788000" y="4365720"/>
            <a:ext cx="0" cy="4572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276720" y="3933360"/>
            <a:ext cx="574560" cy="3589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4941720"/>
            <a:ext cx="22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骗子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458136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（狡猾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08080" y="4116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476360" y="404640"/>
            <a:ext cx="6120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请根据童话内容给课文加一个副标题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一个</a:t>
            </a:r>
            <a:r>
              <a:rPr b="1" lang="zh-CN" sz="4000" spc="-1" strike="noStrike" u="sng">
                <a:solidFill>
                  <a:srgbClr val="dc59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的皇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横线上填一个词语来概括皇帝的特点，最好能结合课文做些解释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629400" y="685800"/>
            <a:ext cx="1120680" cy="949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58920" y="494172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楷体_GB2312"/>
              </a:rPr>
              <a:t>皇帝：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楷体_GB2312"/>
              </a:rPr>
              <a:t>昏庸、愚蠢、虚　　　伪、狡猾、自欺欺人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、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0920" y="0"/>
            <a:ext cx="88930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布置作业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　</a:t>
            </a:r>
            <a:r>
              <a:rPr b="1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、读一读，写一写　　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　</a:t>
            </a:r>
            <a:r>
              <a:rPr b="1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、为本文写一个续篇，想象和夸</a:t>
            </a:r>
            <a:br>
              <a:rPr sz="3600"/>
            </a:br>
            <a:r>
              <a:rPr b="1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张的色彩越浓越好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971640" y="2997360"/>
            <a:ext cx="662940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4360" y="35002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隶书"/>
                <a:ea typeface="隶书"/>
              </a:rPr>
              <a:t>安徒生</a:t>
            </a:r>
            <a:r>
              <a:rPr b="0" lang="zh-CN" sz="3600" spc="-1" strike="noStrike">
                <a:solidFill>
                  <a:srgbClr val="3366ff"/>
                </a:solidFill>
                <a:latin typeface="隶书"/>
                <a:ea typeface="隶书"/>
              </a:rPr>
              <a:t>（</a:t>
            </a:r>
            <a:r>
              <a:rPr b="1" lang="zh-CN" sz="3600" spc="-1" strike="noStrike">
                <a:solidFill>
                  <a:srgbClr val="3366ff"/>
                </a:solidFill>
                <a:latin typeface="隶书"/>
                <a:ea typeface="隶书"/>
              </a:rPr>
              <a:t>1805—1875</a:t>
            </a:r>
            <a:r>
              <a:rPr b="0" lang="zh-CN" sz="3600" spc="-1" strike="noStrike">
                <a:solidFill>
                  <a:srgbClr val="3366ff"/>
                </a:solidFill>
                <a:latin typeface="隶书"/>
                <a:ea typeface="隶书"/>
              </a:rPr>
              <a:t>）</a:t>
            </a:r>
            <a:r>
              <a:rPr b="1" lang="zh-CN" sz="3600" spc="-1" strike="noStrike">
                <a:solidFill>
                  <a:srgbClr val="3366ff"/>
                </a:solidFill>
                <a:latin typeface="隶书"/>
                <a:ea typeface="隶书"/>
              </a:rPr>
              <a:t>，是</a:t>
            </a:r>
            <a:r>
              <a:rPr b="1" lang="zh-CN" sz="3600" spc="-1" strike="noStrike">
                <a:solidFill>
                  <a:srgbClr val="3366ff"/>
                </a:solidFill>
                <a:latin typeface="隶书"/>
                <a:ea typeface="隶书"/>
              </a:rPr>
              <a:t>19</a:t>
            </a:r>
            <a:r>
              <a:rPr b="1" lang="zh-CN" sz="3600" spc="-1" strike="noStrike">
                <a:solidFill>
                  <a:srgbClr val="3366ff"/>
                </a:solidFill>
                <a:latin typeface="隶书"/>
                <a:ea typeface="隶书"/>
              </a:rPr>
              <a:t>世纪</a:t>
            </a:r>
            <a:r>
              <a:rPr b="1" lang="zh-CN" sz="3600" spc="-1" strike="noStrike">
                <a:solidFill>
                  <a:srgbClr val="dc5900"/>
                </a:solidFill>
                <a:latin typeface="隶书"/>
                <a:ea typeface="隶书"/>
              </a:rPr>
              <a:t>丹　　　　　麦</a:t>
            </a:r>
            <a:r>
              <a:rPr b="1" lang="zh-CN" sz="3600" spc="-1" strike="noStrike">
                <a:solidFill>
                  <a:srgbClr val="3366ff"/>
                </a:solidFill>
                <a:latin typeface="隶书"/>
                <a:ea typeface="隶书"/>
              </a:rPr>
              <a:t>著名的</a:t>
            </a:r>
            <a:r>
              <a:rPr b="1" lang="zh-CN" sz="3600" spc="-1" strike="noStrike">
                <a:solidFill>
                  <a:srgbClr val="dc5900"/>
                </a:solidFill>
                <a:latin typeface="隶书"/>
                <a:ea typeface="隶书"/>
              </a:rPr>
              <a:t>童话</a:t>
            </a:r>
            <a:r>
              <a:rPr b="1" lang="zh-CN" sz="3600" spc="-1" strike="noStrike">
                <a:solidFill>
                  <a:srgbClr val="3366ff"/>
                </a:solidFill>
                <a:latin typeface="隶书"/>
                <a:ea typeface="隶书"/>
              </a:rPr>
              <a:t>作家。一生共写了</a:t>
            </a:r>
            <a:r>
              <a:rPr b="1" lang="zh-CN" sz="3600" spc="-1" strike="noStrike">
                <a:solidFill>
                  <a:srgbClr val="3366ff"/>
                </a:solidFill>
                <a:latin typeface="隶书"/>
                <a:ea typeface="隶书"/>
              </a:rPr>
              <a:t>168</a:t>
            </a:r>
            <a:r>
              <a:rPr b="1" lang="zh-CN" sz="3600" spc="-1" strike="noStrike">
                <a:solidFill>
                  <a:srgbClr val="3366ff"/>
                </a:solidFill>
                <a:latin typeface="隶书"/>
                <a:ea typeface="隶书"/>
              </a:rPr>
              <a:t>篇优美童话。有</a:t>
            </a:r>
            <a:r>
              <a:rPr b="1" lang="zh-CN" sz="3600" spc="-1" strike="noStrike">
                <a:solidFill>
                  <a:srgbClr val="dc5900"/>
                </a:solidFill>
                <a:latin typeface="隶书"/>
                <a:ea typeface="隶书"/>
              </a:rPr>
              <a:t>《卖火柴的小女孩》，《海的女儿》，《丑小鸭》</a:t>
            </a:r>
            <a:r>
              <a:rPr b="1" lang="zh-CN" sz="3600" spc="-1" strike="noStrike">
                <a:solidFill>
                  <a:srgbClr val="3366ff"/>
                </a:solidFill>
                <a:latin typeface="隶书"/>
                <a:ea typeface="隶书"/>
              </a:rPr>
              <a:t>等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916360" y="549360"/>
            <a:ext cx="2952720" cy="292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19320" y="144792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7a77"/>
                </a:solidFill>
                <a:latin typeface="Times New Roman"/>
                <a:ea typeface="方正舒体"/>
              </a:rPr>
              <a:t>皇帝的新装</a:t>
            </a:r>
            <a:endParaRPr b="0" lang="en-US" sz="9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35053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方正舒体"/>
              </a:rPr>
              <a:t>安徒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66680" y="15238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6760" y="41911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华文中宋"/>
                <a:ea typeface="华文中宋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3733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华文中宋"/>
                <a:ea typeface="华文中宋"/>
              </a:rPr>
              <a:t>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1773360"/>
            <a:ext cx="7925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本文体裁</a:t>
            </a:r>
            <a:r>
              <a:rPr b="1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2492280"/>
            <a:ext cx="8153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童话是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儿童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文学的一种。这种作品通过丰富的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想象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 、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幻想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大胆的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夸张 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来塑造形象，反映生活，对儿童进行思想教育。语言通俗、生动，故事情节往离奇曲折 ，引人入胜。童话又往往采用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拟人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 的方法，举凡鸟兽虫鱼，花草树木，整个大自然以及家具、玩具都可赋予生命，注入思想感情，使它们人格化。</a:t>
            </a:r>
            <a:r>
              <a:rPr b="0" lang="zh-CN" sz="3200" spc="-1" strike="noStrike">
                <a:solidFill>
                  <a:srgbClr val="3366ff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70680" y="17589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Arial"/>
              </a:rPr>
              <a:t>童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838080"/>
          </a:xfrm>
          <a:prstGeom prst="rect">
            <a:avLst/>
          </a:prstGeom>
          <a:solidFill>
            <a:srgbClr val="dfc0e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写作背景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18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世纪末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19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世纪初，丹麦人民生活在水深火热之中，封建统治阶级则穷奢（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shē)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极欲，挥霍无度。面对这样的现实，安徒生根据西班牙的民间故事改编，创作了本文，揭露了贵族阶层的阿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(ē)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谀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(yú)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奉承和虚伪透顶，深刻地解剖了当时的社会的病状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41560" y="1316160"/>
            <a:ext cx="253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1460520"/>
            <a:ext cx="7925040" cy="31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华文中宋"/>
                <a:ea typeface="华文中宋"/>
              </a:rPr>
              <a:t>看图片复述故事，要求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3366ff"/>
                </a:solidFill>
                <a:latin typeface="华文中宋"/>
                <a:ea typeface="华文中宋"/>
              </a:rPr>
              <a:t>、按爱新装～做新装～看新装～穿新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华文中宋"/>
                <a:ea typeface="华文中宋"/>
              </a:rPr>
              <a:t>    </a:t>
            </a:r>
            <a:r>
              <a:rPr b="1" lang="zh-CN" sz="3600" spc="-1" strike="noStrike">
                <a:solidFill>
                  <a:srgbClr val="3366ff"/>
                </a:solidFill>
                <a:latin typeface="华文中宋"/>
                <a:ea typeface="华文中宋"/>
              </a:rPr>
              <a:t>装～展新装的顺序复述，主要情节不能遗漏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3366ff"/>
                </a:solidFill>
                <a:latin typeface="华文中宋"/>
                <a:ea typeface="华文中宋"/>
              </a:rPr>
              <a:t>、态度自然，口齿清楚，力求生动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2665440" cy="2665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楷体_GB2312"/>
              </a:rPr>
              <a:t>爱新装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76720" y="692280"/>
            <a:ext cx="2665440" cy="2665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300720" y="765000"/>
            <a:ext cx="2592360" cy="2592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11280" y="4005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4932360" y="4149720"/>
            <a:ext cx="3168720" cy="2394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687840" y="33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19640" y="-2052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楷体_GB2312"/>
              </a:rPr>
              <a:t>做新装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65440" y="-20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楷体_GB2312"/>
              </a:rPr>
              <a:t>看新装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335772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楷体_GB2312"/>
              </a:rPr>
              <a:t>穿新装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01800" y="3363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楷体_GB2312"/>
              </a:rPr>
              <a:t>展新装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2924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被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行楷"/>
              </a:rPr>
              <a:t>圈套套住的有哪些人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24000" y="3860640"/>
            <a:ext cx="1944000" cy="2495880"/>
            <a:chOff x="324000" y="3860640"/>
            <a:chExt cx="1944000" cy="249588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324000" y="3860640"/>
              <a:ext cx="1944000" cy="19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24000" y="5835960"/>
              <a:ext cx="19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皇帝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7164360" y="3789360"/>
            <a:ext cx="1726920" cy="2638800"/>
            <a:chOff x="7164360" y="3789360"/>
            <a:chExt cx="1726920" cy="2638800"/>
          </a:xfrm>
        </p:grpSpPr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7164360" y="3789360"/>
              <a:ext cx="1726920" cy="20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619760" y="59076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老百姓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627280" y="3789360"/>
            <a:ext cx="1944360" cy="2698920"/>
            <a:chOff x="2627280" y="3789360"/>
            <a:chExt cx="1944360" cy="2698920"/>
          </a:xfrm>
        </p:grpSpPr>
        <p:pic>
          <p:nvPicPr>
            <p:cNvPr id="116" name="" descr=""/>
            <p:cNvPicPr/>
            <p:nvPr/>
          </p:nvPicPr>
          <p:blipFill>
            <a:blip r:embed="rId4"/>
            <a:stretch/>
          </p:blipFill>
          <p:spPr>
            <a:xfrm>
              <a:off x="2627280" y="3789360"/>
              <a:ext cx="1944360" cy="208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190680" y="5967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老大臣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859280" y="3773520"/>
            <a:ext cx="1942920" cy="2660040"/>
            <a:chOff x="4859280" y="3773520"/>
            <a:chExt cx="1942920" cy="2660040"/>
          </a:xfrm>
        </p:grpSpPr>
        <p:pic>
          <p:nvPicPr>
            <p:cNvPr id="119" name="" descr=""/>
            <p:cNvPicPr/>
            <p:nvPr/>
          </p:nvPicPr>
          <p:blipFill>
            <a:blip r:embed="rId5"/>
            <a:stretch/>
          </p:blipFill>
          <p:spPr>
            <a:xfrm>
              <a:off x="4859280" y="3773520"/>
              <a:ext cx="1942920" cy="20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974120" y="5913000"/>
              <a:ext cx="171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诚实的官员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96712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90792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40464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c5900"/>
                </a:solidFill>
                <a:latin typeface="Arial"/>
                <a:ea typeface="华文行楷"/>
              </a:rPr>
              <a:t>圈套：</a:t>
            </a:r>
            <a:r>
              <a:rPr b="1" i="1" lang="zh-CN" sz="4000" spc="-1" strike="noStrike">
                <a:solidFill>
                  <a:srgbClr val="3366ff"/>
                </a:solidFill>
                <a:latin typeface="Arial"/>
                <a:ea typeface="楷体_GB2312"/>
              </a:rPr>
              <a:t>“任何不称职的或愚蠢得不可救药的人，都看不见这衣服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62520" y="2514600"/>
            <a:ext cx="1676160" cy="1752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92360" y="259092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骗</a:t>
            </a:r>
            <a:endParaRPr b="0" lang="en-US" sz="9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84720" y="1125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小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0360" y="1700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揭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1413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皇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184464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77080" y="429264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大臣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3933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2209680"/>
            <a:ext cx="79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508720" y="2421000"/>
            <a:ext cx="358560" cy="3096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580000" y="3789360"/>
            <a:ext cx="504720" cy="287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2565360"/>
            <a:ext cx="504720" cy="2890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558972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百姓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4724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88000" y="4365720"/>
            <a:ext cx="0" cy="4572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788000" y="4365720"/>
            <a:ext cx="0" cy="4572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276720" y="3933360"/>
            <a:ext cx="574560" cy="3589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76360" y="4508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骗子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08080" y="4116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1:23:14Z</dcterms:created>
  <dc:creator>wutao</dc:creator>
  <dc:description/>
  <dc:language>en-US</dc:language>
  <cp:lastModifiedBy>a</cp:lastModifiedBy>
  <dcterms:modified xsi:type="dcterms:W3CDTF">2003-12-14T15:00:31Z</dcterms:modified>
  <cp:revision>100</cp:revision>
  <dc:subject/>
  <dc:title>幻灯片 1</dc:title>
</cp:coreProperties>
</file>