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drumroll.wav" ContentType="audio/x-wav"/>
  <Override PartName="/ppt/media/image26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20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28.png" ContentType="image/png"/>
  <Override PartName="/ppt/media/image29.png" ContentType="image/png"/>
  <Override PartName="/ppt/media/image31.png" ContentType="image/png"/>
  <Override PartName="/ppt/media/image33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5.jpeg" ContentType="image/jpeg"/>
  <Override PartName="/ppt/media/explode.wav" ContentType="audio/x-wav"/>
  <Override PartName="/ppt/media/image3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38.png" ContentType="image/png"/>
  <Override PartName="/ppt/media/image8.png" ContentType="image/png"/>
  <Override PartName="/ppt/media/image39.jpeg" ContentType="image/jpeg"/>
  <Override PartName="/ppt/media/image6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D1B-B3BD-446A-8AD2-6B3C9FC8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1FE-021C-41CA-83E3-624970B0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7F3-76C7-432E-9446-E0629637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B52-A10F-4D5E-B0A0-F8E777DC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EF1-6EB6-4930-B4F7-74B800C1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FB5-DF89-406B-AD69-044F3A37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6EB-2173-4FA5-A452-427E7E1A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991-2725-40C6-9B3D-E1DB59AD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1F4-98F3-4799-A63F-88CF9336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698-D849-4806-AAB7-B7A1970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384-6A42-4DE7-87A2-58B74A08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542-B792-4323-B69E-866FE3B7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081F-380B-44D5-9566-5BDC29BC19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1585440" y="2961360"/>
            <a:ext cx="50418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彩云"/>
              </a:rPr>
              <a:t>皇帝的新装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5157720"/>
            <a:ext cx="1371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迷你简中倩"/>
              </a:rPr>
              <a:t>安徒生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迷你简中倩"/>
              <a:ea typeface="迷你简中倩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68360" y="-9360"/>
            <a:ext cx="47628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285840"/>
            <a:ext cx="871380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250920" y="0"/>
            <a:ext cx="4400280" cy="2038320"/>
            <a:chOff x="250920" y="0"/>
            <a:chExt cx="4400280" cy="203832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440028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934920" y="907920"/>
              <a:ext cx="331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Times New Roman"/>
                  <a:ea typeface="方正行楷简体"/>
                </a:rPr>
                <a:t>议一议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012000" y="549360"/>
            <a:ext cx="10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新魏"/>
              </a:rPr>
              <a:t>情节线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40464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794f"/>
                </a:solidFill>
                <a:latin typeface="宋体"/>
              </a:rPr>
              <a:t>这篇课文的情节围绕一个“骗”字展开，请同学们说说文中各种人物是怎样围绕这个“骗”字进行活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505320"/>
            <a:ext cx="1295640" cy="1295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657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794f"/>
                </a:solidFill>
                <a:latin typeface="Times New Roman"/>
              </a:rPr>
              <a:t>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81080" y="2286000"/>
            <a:ext cx="5181840" cy="3720960"/>
            <a:chOff x="1981080" y="2286000"/>
            <a:chExt cx="5181840" cy="3720960"/>
          </a:xfrm>
        </p:grpSpPr>
        <p:sp>
          <p:nvSpPr>
            <p:cNvPr id="94" name=""/>
            <p:cNvSpPr/>
            <p:nvPr/>
          </p:nvSpPr>
          <p:spPr>
            <a:xfrm>
              <a:off x="1981080" y="3809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520" y="2286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9c974"/>
                  </a:solidFill>
                  <a:latin typeface="Times New Roman"/>
                </a:rPr>
                <a:t>大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3600" y="3809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百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5486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小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895480" y="2742840"/>
            <a:ext cx="3124440" cy="2819520"/>
            <a:chOff x="2895480" y="2742840"/>
            <a:chExt cx="3124440" cy="2819520"/>
          </a:xfrm>
        </p:grpSpPr>
        <p:sp>
          <p:nvSpPr>
            <p:cNvPr id="99" name=""/>
            <p:cNvSpPr/>
            <p:nvPr/>
          </p:nvSpPr>
          <p:spPr>
            <a:xfrm flipH="1">
              <a:off x="2895480" y="4114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105520" y="4114800"/>
              <a:ext cx="9144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419720" y="2742840"/>
              <a:ext cx="0" cy="762120"/>
            </a:xfrm>
            <a:prstGeom prst="line">
              <a:avLst/>
            </a:prstGeom>
            <a:ln w="9360">
              <a:solidFill>
                <a:srgbClr val="69c97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419720" y="4800240"/>
              <a:ext cx="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4956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c974"/>
                </a:solidFill>
                <a:latin typeface="Times New Roman"/>
              </a:rPr>
              <a:t>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4872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195640" y="3573360"/>
          <a:ext cx="23763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3573360"/>
                    <a:ext cx="2376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932360" y="404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分角色朗读。要求：读出各自不同的感情，其余同学准备评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1436400">
            <a:off x="826560" y="4508280"/>
            <a:ext cx="208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读一读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4872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2195640" y="3573360"/>
          <a:ext cx="23763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3573360"/>
                    <a:ext cx="2376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932360" y="404640"/>
            <a:ext cx="36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用“皇帝是一个……的皇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因为他……”这样的句式说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1436400">
            <a:off x="826560" y="4508280"/>
            <a:ext cx="208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议一议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343400" cy="55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56000" y="189000"/>
            <a:ext cx="43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徒生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5~18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全名：汉斯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利斯坦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徒生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纪丹麦文学巨匠，世界著名的童话作家。他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余篇童话在近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中被翻译成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种文字，从丹麦传向世界。安徒生生于鞋匠家庭，童年生活穷苦，早期写有诗歌、剧本和长篇小说等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3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开始写童话，著名的童话有《丑小鸭》、《海的女儿》、《卖火柴的小女孩》、《夜莺》、《皇帝的新装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08720" y="3141720"/>
            <a:ext cx="3456000" cy="3454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16360" cy="2838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3640" y="18900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1436400">
            <a:off x="6587640" y="259920"/>
            <a:ext cx="208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拓展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0920" y="3213000"/>
            <a:ext cx="5329080" cy="3318480"/>
            <a:chOff x="250920" y="3213000"/>
            <a:chExt cx="5329080" cy="3318480"/>
          </a:xfrm>
        </p:grpSpPr>
        <p:sp>
          <p:nvSpPr>
            <p:cNvPr id="122" name=""/>
            <p:cNvSpPr/>
            <p:nvPr/>
          </p:nvSpPr>
          <p:spPr>
            <a:xfrm>
              <a:off x="250920" y="3213000"/>
              <a:ext cx="50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两个大臣是故意要欺骗皇帝的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4000" y="4365720"/>
              <a:ext cx="52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老百姓又为什么要说谎话？（老百姓说谎话的原因可能有多少种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5950080"/>
              <a:ext cx="46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小孩为什么敢说真话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2326680"/>
            <a:ext cx="51134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方正卡通简体"/>
                <a:ea typeface="方正卡通简体"/>
              </a:rPr>
              <a:t>    </a:t>
            </a:r>
            <a:r>
              <a:rPr b="1" lang="zh-CN" sz="4400" spc="-1" strike="noStrike">
                <a:solidFill>
                  <a:srgbClr val="663300"/>
                </a:solidFill>
                <a:latin typeface="方正卡通简体"/>
                <a:ea typeface="方正卡通简体"/>
              </a:rPr>
              <a:t>童话</a:t>
            </a:r>
            <a:r>
              <a:rPr b="0" lang="zh-CN" sz="3600" spc="-1" strike="noStrike">
                <a:solidFill>
                  <a:srgbClr val="663300"/>
                </a:solidFill>
                <a:latin typeface="方正卡通简体"/>
                <a:ea typeface="方正卡通简体"/>
              </a:rPr>
              <a:t>往往通过丰富的想像、幻想和夸张来塑造形象，反映生活，进行思想教育。语言通俗、生动，故事情节往往离奇曲折，引人入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方正卡通简体"/>
                <a:ea typeface="方正卡通简体"/>
              </a:rPr>
              <a:t>    </a:t>
            </a:r>
            <a:r>
              <a:rPr b="0" lang="zh-CN" sz="3600" spc="-1" strike="noStrike">
                <a:solidFill>
                  <a:srgbClr val="663300"/>
                </a:solidFill>
                <a:latin typeface="方正卡通简体"/>
                <a:ea typeface="方正卡通简体"/>
              </a:rPr>
              <a:t>那么安徒生到底想通过这个故事，告诉我们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553440" cy="2895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1159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纪末代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纪初，丹麦人民生活在水深火热之中，封建统治阶级则穷奢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hē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极欲，挥霍无度。面对这样的现实，安徒生根据西班牙的民间故事改编，创作了本文，揭露了贵族阶层的阿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ē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谀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yú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奉承和虚伪透顶，深刻地解剖了当时的社会的病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4920" y="57340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新魏"/>
                <a:ea typeface="华文新魏"/>
              </a:rPr>
              <a:t>那么，我们生活中“皇帝的新装”知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189000"/>
            <a:ext cx="806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是一篇童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充分体现了作者天才的想象能力。请边读课文边作想象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看自己的哪些想象也很好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会安徒生的想象有多丰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文中是如何运用夸张与想象的手法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它们的作用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6048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9280" y="189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１、很久很久以前，在某个国家，有一个皇帝很喜欢新衣服。一天，来了两个骗子自称能织世上最漂亮的布，而且用这种布织成的衣服愚蠢的人或不诚实的人是看不见的 ，皇帝便给了许多钱给这两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骗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让他们马上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50920" y="4046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２、于是，这两个骗子便在皇帝的一间大屋子里搭起织机，假装的很起劲的织起布来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　嘎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.....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嘎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......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333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过了一段时间，皇帝忍不住想去看看这种神奇的布料。他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: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现在布料应该快织完了吧！我是不是该去瞧一眼呢？”但是，他马上想起来了，任何不诚实或愚蠢的人是看不到这种布料的，便派宰相去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05.gif (35162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79280" y="-2971800"/>
            <a:ext cx="8762760" cy="5943240"/>
            <a:chOff x="179280" y="-2971800"/>
            <a:chExt cx="8762760" cy="5943240"/>
          </a:xfrm>
        </p:grpSpPr>
        <p:sp>
          <p:nvSpPr>
            <p:cNvPr id="139" name=""/>
            <p:cNvSpPr/>
            <p:nvPr/>
          </p:nvSpPr>
          <p:spPr>
            <a:xfrm>
              <a:off x="179280" y="-2971800"/>
              <a:ext cx="876276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80" y="101520"/>
              <a:ext cx="8762760" cy="28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、于是，宰相走进了两个骗子织布的那个大屋子。“噢！上帝呀！快让我瞧一眼这布料吧！”宰相在心里祈祷着。宰相拼命睁大眼睛，好看清楚些。但是，织布机上空空荡荡，没有任何东西。“噢！我的天哪！我怎么什么东西也看不见呀？”宰相想。“啊，哈……你觉得这布怎么样啊？”骗子们问他。“啊！难道这不是世界上最美的布料？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06.gif (122176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4360" y="33336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于是，他回来对皇帝说：“嗯……那可真是块漂亮精致的布料。哦，很快就要完工了。”虽然他什么也没看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08.gif (37158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1042920" y="-3195720"/>
            <a:ext cx="7619760" cy="5562360"/>
            <a:chOff x="1042920" y="-3195720"/>
            <a:chExt cx="7619760" cy="5562360"/>
          </a:xfrm>
        </p:grpSpPr>
        <p:sp>
          <p:nvSpPr>
            <p:cNvPr id="145" name=""/>
            <p:cNvSpPr/>
            <p:nvPr/>
          </p:nvSpPr>
          <p:spPr>
            <a:xfrm>
              <a:off x="1042920" y="-3195720"/>
              <a:ext cx="7619760" cy="39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8000" spc="-1" strike="noStrike">
                  <a:solidFill>
                    <a:srgbClr val="000000"/>
                  </a:solidFill>
                  <a:latin typeface="Times New Roman"/>
                </a:rPr>
                <a:t> 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                    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42920" y="725040"/>
              <a:ext cx="7619760" cy="16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、过了不久，皇帝心想，“不知那块布料织完了没有，我简直等不及了。嗯，我得另外派一个人去看看。”于是，他又派了一个大臣去，同样的事情又发生了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960720" cy="525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40160" y="6076800"/>
            <a:ext cx="32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安徒生的画像（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1837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720" y="6021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《皇帝的新装》的手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09.gif (41271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765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在游行的前夜，两个骗子忙了个通宵。他们摆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副要按时赶好皇帝新衣的样子，整夜赶工。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95560" y="228600"/>
            <a:ext cx="3151080" cy="101448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2343240" y="2000160"/>
            <a:ext cx="4457520" cy="2857680"/>
            <a:chOff x="2343240" y="2000160"/>
            <a:chExt cx="4457520" cy="2857680"/>
          </a:xfrm>
        </p:grpSpPr>
        <p:sp>
          <p:nvSpPr>
            <p:cNvPr id="153" name=""/>
            <p:cNvSpPr txBox="1"/>
            <p:nvPr/>
          </p:nvSpPr>
          <p:spPr>
            <a:xfrm>
              <a:off x="2343240" y="2000160"/>
              <a:ext cx="4457520" cy="285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971640" y="3933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到了第二天早上，两个骗子对皇帝说：“陛下，我们刚完成您游行的新衣服。”说完，便十分优雅地把衣服捧给皇帝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        当然，其实他们手上什么也没有。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10.gif (37939 bytes)"/>
          <p:cNvPicPr/>
          <p:nvPr/>
        </p:nvPicPr>
        <p:blipFill>
          <a:blip r:embed="rId2"/>
          <a:stretch/>
        </p:blipFill>
        <p:spPr>
          <a:xfrm>
            <a:off x="1116000" y="0"/>
            <a:ext cx="647712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00000" y="33336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“好了，陛下，就让我们在这面大镜子前为您穿上这套新衣吧！”于是，皇帝脱光了衣服，只剩下内衣。两个骗子装模做样地一件一件为他上新衣服。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4360" y="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 皇帝穿着新衣服游行的消息很快便在老百姓中传开了。“嗨，听说皇帝的新衣服特别漂亮，叫人难以相信这是真的。”  “不错，而且更奇特的是愚蠢的人或者不诚实的人都看不见这衣服。” 游行终于开始了。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13.gif (42243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2920" y="692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 就在这个时候，有个小孩突然叫了起来：“可是他什么也没穿！”小孩的父亲赶紧捂住他的嘴，但是这小孩子的话在百姓中迅速传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14.gif (39228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547640" y="62064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皇帝感到十分难堪，他这才觉得老百姓说的话似乎是对的。但他心里却想：“我必须把这游行大典举行完毕。”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因此他摆出一负更骄傲的神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407664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新魏"/>
              </a:rPr>
              <a:t>无情地鞭挞了至高无上的皇帝和道貌岸然的大臣，辛辣地嘲笑了他们的愚蠢虚伪卑鄙自私，曲折地反映了当时弥漫于整个社会的媚俗之风，反映了封建王朝的腐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981000"/>
            <a:ext cx="77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写出骗子用根本不存在的布料、衣服向皇帝行骗，写出皇帝和大臣们都甘愿受骗、并且骗人，最后写出皇帝赤裸全身在大街上游行，构成了丰富想象、大胆夸张的写作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260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夸张与想象的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350028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900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用夸张的手法，描述一下皇帝穿着新衣游行时装模作样的丑态。或者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想象一下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皇帝在游行结束后会怎么样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课后续写结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 rot="1436400">
            <a:off x="826560" y="4508280"/>
            <a:ext cx="208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品一品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765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你自己喜欢的内容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告诉大家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发现了哪些写得特别精彩或特别含蓄意味深长的词或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4321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 rot="1436400">
            <a:off x="6587640" y="259920"/>
            <a:ext cx="208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课外延伸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981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阅读《狂人之细布》，完成练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634920" y="259920"/>
            <a:ext cx="525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0280"/>
            <a:ext cx="41054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黄草简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黄草简体"/>
              </a:rPr>
              <a:t>我用我的一切感情和思想来写童话，但是同时我也没有忘记成年人。当我在为孩子们写一篇故事的时候，我永远记住他们的父亲和母亲也会在旁边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48360" y="5805360"/>
            <a:ext cx="364788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黄草简体"/>
              </a:rPr>
              <a:t>——</a:t>
            </a:r>
            <a:r>
              <a:rPr b="1" lang="zh-CN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黄草简体"/>
              </a:rPr>
              <a:t>安徒生</a:t>
            </a:r>
            <a:endParaRPr b="1" lang="en-US" sz="4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黄草简体"/>
              <a:ea typeface="方正黄草简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76720" y="5805360"/>
            <a:ext cx="371952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黄草简体"/>
              </a:rPr>
              <a:t>——</a:t>
            </a:r>
            <a:r>
              <a:rPr b="1" lang="zh-CN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黄草简体"/>
              </a:rPr>
              <a:t>安徒生</a:t>
            </a:r>
            <a:endParaRPr b="1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黄草简体"/>
              <a:ea typeface="方正黄草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68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10.gif (37939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0920" y="4046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最后，皇帝决定要亲自去看看那块布料。于是，在许多大臣的簇拥下，皇帝来到骗子织布的地方，两个骗子假装干得比以前更卖力。“啊，哈……陛下，您看这布料漂亮吗？”骗子们问。皇帝不愿说什么也没看到，只表示满意。在大臣们的建议下，皇帝决定穿这美丽布料做成的衣服参加游行大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1872000" y="2743920"/>
            <a:ext cx="568800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迷你简雪君"/>
              </a:rPr>
              <a:t>天堂的审判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迷你简雪君"/>
              <a:ea typeface="迷你简雪君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1942920" y="2672640"/>
            <a:ext cx="5688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迷你简雪君"/>
              </a:rPr>
              <a:t>天堂的审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迷你简雪君"/>
              <a:ea typeface="迷你简雪君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00640" cy="203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90792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试一试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-1367640" y="2385360"/>
            <a:ext cx="446400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迷你简雪君"/>
              </a:rPr>
              <a:t>审判长就位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迷你简雪君"/>
              <a:ea typeface="迷你简雪君"/>
            </a:endParaRPr>
          </a:p>
        </p:txBody>
      </p:sp>
      <p:sp>
        <p:nvSpPr>
          <p:cNvPr id="59" name=""/>
          <p:cNvSpPr txBox="1"/>
          <p:nvPr/>
        </p:nvSpPr>
        <p:spPr>
          <a:xfrm rot="5400000">
            <a:off x="-1296360" y="238500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迷你简雪君"/>
              </a:rPr>
              <a:t>审判长就位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迷你简雪君"/>
              <a:ea typeface="迷你简雪君"/>
            </a:endParaRPr>
          </a:p>
        </p:txBody>
      </p:sp>
      <p:sp>
        <p:nvSpPr>
          <p:cNvPr id="60" name=""/>
          <p:cNvSpPr txBox="1"/>
          <p:nvPr/>
        </p:nvSpPr>
        <p:spPr>
          <a:xfrm rot="5400000">
            <a:off x="4872960" y="3127320"/>
            <a:ext cx="66690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迷你简雪君"/>
              </a:rPr>
              <a:t>特殊审判正式开始！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迷你简雪君"/>
              <a:ea typeface="迷你简雪君"/>
            </a:endParaRPr>
          </a:p>
        </p:txBody>
      </p:sp>
      <p:sp>
        <p:nvSpPr>
          <p:cNvPr id="61" name=""/>
          <p:cNvSpPr txBox="1"/>
          <p:nvPr/>
        </p:nvSpPr>
        <p:spPr>
          <a:xfrm rot="5400000">
            <a:off x="4764960" y="3090960"/>
            <a:ext cx="666900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迷你简雪君"/>
              </a:rPr>
              <a:t>特殊审判正式开始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迷你简雪君"/>
              <a:ea typeface="迷你简雪君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340000" y="2924280"/>
          <a:ext cx="24480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24480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60" y="3213000"/>
            <a:ext cx="167652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96760" y="504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百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60760" y="2374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大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364000" y="620640"/>
            <a:ext cx="1447920" cy="1676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51480" y="237492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39640" y="549360"/>
            <a:ext cx="2160720" cy="1860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788000" y="2997360"/>
            <a:ext cx="2280960" cy="252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90320" y="573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骗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89560" y="5661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真话的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5255640" y="2744640"/>
            <a:ext cx="547200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迷你简娃娃篆"/>
              </a:rPr>
              <a:t>人犯上场……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迷你简娃娃篆"/>
              <a:ea typeface="迷你简娃娃篆"/>
            </a:endParaRPr>
          </a:p>
        </p:txBody>
      </p:sp>
      <p:sp>
        <p:nvSpPr>
          <p:cNvPr id="75" name=""/>
          <p:cNvSpPr/>
          <p:nvPr/>
        </p:nvSpPr>
        <p:spPr>
          <a:xfrm>
            <a:off x="1353240" y="24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00360" y="449280"/>
            <a:ext cx="5621400" cy="6408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4382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6:01:41Z</dcterms:created>
  <dc:creator>wutao</dc:creator>
  <dc:description/>
  <dc:language>en-US</dc:language>
  <cp:lastModifiedBy>Common</cp:lastModifiedBy>
  <dcterms:modified xsi:type="dcterms:W3CDTF">2004-09-23T00:17:32Z</dcterms:modified>
  <cp:revision>100</cp:revision>
  <dc:subject/>
  <dc:title>幻灯片 1</dc:title>
</cp:coreProperties>
</file>