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5.png" ContentType="image/png"/>
  <Override PartName="/ppt/media/chimes.wav" ContentType="audio/x-wav"/>
  <Override PartName="/ppt/media/image16.png" ContentType="image/png"/>
  <Override PartName="/ppt/media/type.wav" ContentType="audio/x-wav"/>
  <Override PartName="/ppt/media/image17.png" ContentType="image/png"/>
  <Override PartName="/ppt/media/camera.wav" ContentType="audio/x-wav"/>
  <Override PartName="/ppt/media/image6.png" ContentType="image/png"/>
  <Override PartName="/ppt/media/image7.gif" ContentType="image/gif"/>
  <Override PartName="/ppt/media/drumroll.wav" ContentType="audio/x-wav"/>
  <Override PartName="/ppt/media/image15.png" ContentType="image/png"/>
  <Override PartName="/ppt/media/image18.jpeg" ContentType="image/jpeg"/>
  <Override PartName="/ppt/media/image12.png" ContentType="image/png"/>
  <Override PartName="/ppt/media/projctor.wav" ContentType="audio/x-wav"/>
  <Override PartName="/ppt/media/image14.png" ContentType="image/png"/>
  <Override PartName="/ppt/media/image11.png" ContentType="image/png"/>
  <Override PartName="/ppt/media/image10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cashreg.wav" ContentType="audio/x-wav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C95-97C4-4215-A398-B0F59A9F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896-93B8-4378-BBE6-544098C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1CE-DBD0-4A7A-913C-86DFD271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A95-9BCD-45A1-9FC9-C6F40B8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CCCE-303A-4B46-85F0-17CC23B0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3742-0601-49A7-886E-9EB9152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B900-9A64-429D-9683-18CA05D1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DB3-713F-4B18-B5A7-BBDFAC4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2F9D-D073-40CF-BC7C-D27E82EB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BAE-9E72-4C60-A7B4-89F4869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EAA9-CFE2-47C4-B557-3829040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B19-10C3-4F5F-A830-A51A295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52C9-55A3-4A17-A55C-569BFE0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3E1-0A46-4EA7-A77A-7E02EA6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8F1E-F4EB-42B2-A4A4-B6745DE5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69D2-6296-45CD-9562-EE92DC28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F681-975E-46A7-9AB7-EAF45E0D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1D4-E7D6-447C-B345-FE652A3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DD7-4720-4FB0-ABC9-4BD1E76F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FC0-945D-44C0-8D35-B742F98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0F5-7651-47A2-A09D-98389D6D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7C0-B2A3-4D47-9A31-893FD4E4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746-5CAC-4A21-A0A6-94E3827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4C6-A206-4D26-96A1-F212044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357-9450-475D-82D9-B6C01CC7FCA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387-1F49-478C-B2D7-EB3F660D3AA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type.wav"/><Relationship Id="rId10" Type="http://schemas.openxmlformats.org/officeDocument/2006/relationships/audio" Target="../media/drumroll.wav"/><Relationship Id="rId11" Type="http://schemas.openxmlformats.org/officeDocument/2006/relationships/audio" Target="../media/type.wav"/><Relationship Id="rId12" Type="http://schemas.openxmlformats.org/officeDocument/2006/relationships/audio" Target="../media/drumroll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xinsong/pwp/xst32/keji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762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快速阅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28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汉语的阅读速度一般是每分钟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500——6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，经过训练，可达到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15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／分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5667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5791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善于钻空子</a:t>
            </a: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欺骗有术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520" y="1523880"/>
            <a:ext cx="2514240" cy="1142640"/>
            <a:chOff x="533520" y="1523880"/>
            <a:chExt cx="2514240" cy="11426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11764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76520" y="1747440"/>
              <a:ext cx="13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皇  帝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4419720"/>
            <a:ext cx="2169360" cy="1294920"/>
            <a:chOff x="457200" y="4419720"/>
            <a:chExt cx="2169360" cy="12949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98820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805760" y="4677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7200" y="2743200"/>
            <a:ext cx="2867760" cy="1317240"/>
            <a:chOff x="457200" y="2743200"/>
            <a:chExt cx="2867760" cy="13172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457200" y="2743200"/>
              <a:ext cx="860400" cy="13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504160" y="3003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众大臣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317600" y="2743200"/>
              <a:ext cx="743040" cy="131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457200" y="685800"/>
            <a:ext cx="39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皇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怕别人说自己愚蠢、不称职，也怕丢了王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官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怕被别人说愚蠢、不称职，怕丢掉官职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私心杂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怕别人嘲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8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21337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Times New Roman"/>
              </a:rPr>
              <a:t>天真大胆，无所顾忌，直言不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小孩会讲真话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0" name="x11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105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81280" y="762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心理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320040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自负而心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愚蠢而狡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838080"/>
            <a:ext cx="1600200" cy="2274840"/>
            <a:chOff x="762120" y="838080"/>
            <a:chExt cx="1600200" cy="227484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62120" y="2592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96480" y="1476360"/>
            <a:ext cx="37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我倒想知道衣料究竟织得怎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209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心里的确感到不大自然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819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他相信自己是无须害怕的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505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仍然觉得先派一个人去看看工作的进展情形比较妥当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419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是怎么一回事呢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81644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我什么也没有看见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可骇人听闻了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难道我是一个愚蠢的人吗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难道我不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资格当皇帝吗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可是最可怕的事情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心理描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2438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愿上帝可怜我吧 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438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e96"/>
                </a:solidFill>
                <a:latin typeface="Times New Roman"/>
              </a:rPr>
              <a:t>我并不愚蠢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神        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</a:rPr>
              <a:t>把眼睛睁的特别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动        作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4191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从他的眼镜里仔细地看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581280" y="152280"/>
            <a:ext cx="4343400" cy="2274840"/>
            <a:chOff x="3581280" y="152280"/>
            <a:chExt cx="4343400" cy="2274840"/>
          </a:xfrm>
        </p:grpSpPr>
        <p:grpSp>
          <p:nvGrpSpPr>
            <p:cNvPr id="200" name=""/>
            <p:cNvGrpSpPr/>
            <p:nvPr/>
          </p:nvGrpSpPr>
          <p:grpSpPr>
            <a:xfrm>
              <a:off x="3581280" y="152280"/>
              <a:ext cx="1676160" cy="2274840"/>
              <a:chOff x="3581280" y="152280"/>
              <a:chExt cx="1676160" cy="2274840"/>
            </a:xfrm>
          </p:grpSpPr>
          <p:pic>
            <p:nvPicPr>
              <p:cNvPr id="2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522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4009680" y="1906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477120" y="152280"/>
              <a:ext cx="1447560" cy="2274840"/>
              <a:chOff x="6477120" y="152280"/>
              <a:chExt cx="1447560" cy="2274840"/>
            </a:xfrm>
          </p:grpSpPr>
          <p:pic>
            <p:nvPicPr>
              <p:cNvPr id="2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152280"/>
                <a:ext cx="14475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563880" y="1906560"/>
                <a:ext cx="12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3772080" y="57913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【详写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6160" y="57913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【略写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10840" y="312408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我的老天爷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--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876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注意地听着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华文彩云"/>
              </a:rPr>
              <a:t>人物的性格特征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84360" y="211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10666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736640" y="24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2743200"/>
          <a:ext cx="30477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3047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422440" y="515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4876920"/>
          <a:ext cx="304776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76920"/>
                    <a:ext cx="3047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648320" y="1143000"/>
            <a:ext cx="449568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1143000"/>
            <a:ext cx="449604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皇帝 </a:t>
            </a:r>
            <a:r>
              <a:rPr b="1" lang="zh-CN" sz="4000" spc="-1" strike="noStrike">
                <a:solidFill>
                  <a:srgbClr val="5b5249"/>
                </a:solidFill>
                <a:latin typeface="黑体"/>
                <a:ea typeface="隶书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愚蠢、狡猾、虚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743200"/>
            <a:ext cx="4629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大臣 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虚伪愚昧 阿谀奉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502920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骗子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狡猾伪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本文的主题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讽刺皇帝的昏庸及大臣们虚伪的丑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819520"/>
            <a:ext cx="1066680" cy="0"/>
          </a:xfrm>
          <a:prstGeom prst="line">
            <a:avLst/>
          </a:prstGeom>
          <a:ln w="3492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2362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讽刺封建统治者的奢侈、虚伪和愚蠢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91120"/>
            <a:ext cx="73915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(2)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揭示了私心和虚伪会使人变得十分愚蠢。</a:t>
            </a: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8080" y="8380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为本文写一个续篇，想象和夸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张的色彩越浓越好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a3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/>
          </p:cNvPr>
          <p:cNvSpPr/>
          <p:nvPr/>
        </p:nvSpPr>
        <p:spPr>
          <a:xfrm>
            <a:off x="7391520" y="594360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66ff"/>
              </a:solidFill>
              <a:latin typeface="Times New Roman"/>
              <a:ea typeface="隶书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9880" y="762120"/>
            <a:ext cx="5334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1916"/>
                </a:solidFill>
                <a:latin typeface="华文彩云"/>
                <a:ea typeface="华文彩云"/>
              </a:rPr>
              <a:t>作者简介</a:t>
            </a:r>
            <a:br>
              <a:rPr sz="4000"/>
            </a:b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这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童话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的作者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安徒生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是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19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世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丹麦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著名的童话作家。安徒生共写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6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篇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优美童话。有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卖火柴的小女孩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《海的女儿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《丑小鸭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等</a:t>
            </a: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32767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32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60199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隶书"/>
              </a:rPr>
              <a:t>安徒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fc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solidFill>
            <a:srgbClr val="dfc0e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作背景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初，丹麦人民生活在水深火热之中，封建统治阶级则穷奢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sh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极欲，挥霍无度。面对这样的现实，安徒生根据西班牙的民间故事改编，创作了本文，揭露了贵族阶层的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yú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奉承和虚伪透顶，深刻地解剖了当时的社会的病状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检查预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给加下划线的字注音</a:t>
            </a: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并注意字的写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炫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耀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称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职    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稽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陛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下    头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uàn   chèn       jī      bì        xiá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骇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人听闻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钦差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大臣      随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附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Hài          qīn chāi               fù hè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楷体_GB2312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761400"/>
            <a:ext cx="8686800" cy="75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3962520"/>
            <a:ext cx="1752480" cy="45972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音多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Jì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系鞋带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8769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Xì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联系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495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572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转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114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Zhuǎn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（转变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800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Zhuàn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（旋转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86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Chèn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心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Chēng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赞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791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Féng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裁缝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6216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Fèng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门缝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715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3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3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2</a:t>
            </a:r>
            <a:r>
              <a:rPr b="1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、解释词语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称   职：        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骇人听闻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随声附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600" y="19807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中宋"/>
                <a:ea typeface="隶书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</a:rPr>
              <a:t>能够胜任所担当的职务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4720" y="25574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使人听了非常震惊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572000"/>
            <a:ext cx="5410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</a:rPr>
              <a:t>比喻人或事物已坏到无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</a:rPr>
              <a:t>挽救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200400"/>
            <a:ext cx="5746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别人说什么自已也跟着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什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毫无主见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一味盲从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495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不可救药</a:t>
            </a: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2760" y="76212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完成课后一、二题，计算有效阅读的速度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用全文字数（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30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）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÷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阅读时间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得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438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1——8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题，一题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0.1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分，第二题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0.2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分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0384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？字／分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爱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做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看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57400" y="6858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文章结构</a:t>
            </a:r>
            <a:endParaRPr b="0" i="1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6" name=""/>
          <p:cNvSpPr/>
          <p:nvPr/>
        </p:nvSpPr>
        <p:spPr>
          <a:xfrm>
            <a:off x="1050840" y="40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716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2767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老大臣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大臣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皇帝</a:t>
            </a: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6483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展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a2" descr=""/>
          <p:cNvPicPr/>
          <p:nvPr/>
        </p:nvPicPr>
        <p:blipFill>
          <a:blip r:embed="rId1"/>
          <a:stretch/>
        </p:blipFill>
        <p:spPr>
          <a:xfrm>
            <a:off x="0" y="1981080"/>
            <a:ext cx="320040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2720" y="35053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24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皇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c871"/>
                </a:solidFill>
                <a:latin typeface="Times New Roman"/>
              </a:rPr>
              <a:t>大臣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百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5715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c871"/>
                </a:solidFill>
                <a:latin typeface="Times New Roman"/>
              </a:rPr>
              <a:t>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骗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4648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2743200"/>
            <a:ext cx="3276360" cy="2971800"/>
            <a:chOff x="2971800" y="2743200"/>
            <a:chExt cx="3276360" cy="2971800"/>
          </a:xfrm>
        </p:grpSpPr>
        <p:sp>
          <p:nvSpPr>
            <p:cNvPr id="155" name=""/>
            <p:cNvSpPr/>
            <p:nvPr/>
          </p:nvSpPr>
          <p:spPr>
            <a:xfrm flipH="1">
              <a:off x="5028840" y="4038480"/>
              <a:ext cx="1219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419720" y="4800600"/>
              <a:ext cx="0" cy="9144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3581280"/>
              <a:ext cx="838080" cy="381240"/>
            </a:xfrm>
            <a:prstGeom prst="line">
              <a:avLst/>
            </a:prstGeom>
            <a:ln w="3168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124080" y="4648320"/>
              <a:ext cx="914400" cy="9144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2743200"/>
              <a:ext cx="0" cy="762120"/>
            </a:xfrm>
            <a:prstGeom prst="line">
              <a:avLst/>
            </a:prstGeom>
            <a:ln w="31680">
              <a:solidFill>
                <a:srgbClr val="52c8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838960" y="7621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故事情节发展中起着关键的作用的语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21932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任何不称职的或愚蠢得不可救药的人，都看不见这衣服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aaa</cp:lastModifiedBy>
  <dcterms:modified xsi:type="dcterms:W3CDTF">2004-02-18T14:06:30Z</dcterms:modified>
  <cp:revision>100</cp:revision>
  <dc:subject/>
  <dc:title>皇帝的新装</dc:title>
</cp:coreProperties>
</file>