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6.jpeg" ContentType="image/jpeg"/>
  <Override PartName="/ppt/media/setup0.wav" ContentType="audio/x-wav"/>
  <Override PartName="/ppt/media/image21.jpeg" ContentType="image/jpeg"/>
  <Override PartName="/ppt/media/image29.png" ContentType="image/png"/>
  <Override PartName="/ppt/media/chimes.wav" ContentType="audio/x-wav"/>
  <Override PartName="/ppt/media/image20.jpeg" ContentType="image/jpeg"/>
  <Override PartName="/ppt/media/image22.jpeg" ContentType="image/jpeg"/>
  <Override PartName="/ppt/media/image7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19.jpeg" ContentType="image/jpeg"/>
  <Override PartName="/ppt/media/image13.png" ContentType="image/png"/>
  <Override PartName="/ppt/media/image12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9.jpeg" ContentType="image/jpeg"/>
  <Override PartName="/ppt/media/drumroll.wav" ContentType="audio/x-wav"/>
  <Override PartName="/ppt/media/image24.jpeg" ContentType="image/jpeg"/>
  <Override PartName="/ppt/media/image33.png" ContentType="image/png"/>
  <Override PartName="/ppt/media/image8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F4A5-8034-4CD9-8DE3-2B1D925C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CB4-1061-4203-A54F-E216BB18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60B1-93CF-43B6-BDBE-30937A5C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5E1-2D65-4309-86B3-95297191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F725-A2BD-4CB7-B7CC-393B375C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97A6-7DF2-430B-A166-49094EEC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54F5-0B92-4968-9DFA-F392C204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ED8E-34DA-427E-8E50-10519728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4C62-A9F7-4679-8CE9-5B994637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31F1-7FF5-4C9A-99D5-2D0976E5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83F0-8751-491F-9491-BBA3A696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691F-9A44-4AC6-8D5B-EE682EC3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D62F-E5FA-41DD-BA62-D1734FB8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75DC-56F8-42E0-98C9-49B32583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F700-CD0E-4A42-B056-BCCCB1F5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E8FD-A0B6-462A-B347-62925DB9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E6F9-BFA5-4482-ABF8-C23746CC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35E-BEC8-471A-95F0-C0C7A55E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029-B2C6-44A2-A9C4-42FE993D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CF2-0F11-4885-AE4B-2AFDCD5D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DDA-5E64-4212-AAC8-47908D8C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A52-A2AB-4897-B54B-6CEFA59F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875-DF43-41FE-9B54-8B14CC71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3DED-6725-4C8F-9960-0C331CA4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D81F-F9E4-48C2-8186-EAAF59993B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6922-6C2F-4F69-BFAE-B84B18CAE62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setup0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2060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6600"/>
                </a:solidFill>
                <a:latin typeface="Times New Roman"/>
                <a:ea typeface="华文琥珀"/>
              </a:rPr>
              <a:t>皇帝的新装</a:t>
            </a:r>
            <a:endParaRPr b="0" lang="en-US" sz="9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79640" y="981000"/>
            <a:ext cx="619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6172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617220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6172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6172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6172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6172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6172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61531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61531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华文彩云"/>
              </a:rPr>
              <a:t>皇帝的新装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373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对人物的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心理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描写来塑造人物形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用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想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夸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写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童话的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181480" y="2684520"/>
            <a:ext cx="3733920" cy="33354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615312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614376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616248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908000" y="33336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阅读课文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,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思考下列问题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1268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按照皇帝“爱新装——做新装——看新装——展新装”的顺序，理清本文结构层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24000" y="3068640"/>
            <a:ext cx="1981080" cy="1495800"/>
            <a:chOff x="324000" y="3068640"/>
            <a:chExt cx="1981080" cy="1495800"/>
          </a:xfrm>
        </p:grpSpPr>
        <p:sp>
          <p:nvSpPr>
            <p:cNvPr id="155" name=""/>
            <p:cNvSpPr/>
            <p:nvPr/>
          </p:nvSpPr>
          <p:spPr>
            <a:xfrm>
              <a:off x="628560" y="398304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第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1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6280" y="3525840"/>
              <a:ext cx="152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33cc"/>
                  </a:solidFill>
                  <a:latin typeface="Times New Roman"/>
                </a:rPr>
                <a:t>爱新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306864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一、引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68360" y="3068640"/>
            <a:ext cx="2173320" cy="1495800"/>
            <a:chOff x="2268360" y="3068640"/>
            <a:chExt cx="2173320" cy="1495800"/>
          </a:xfrm>
        </p:grpSpPr>
        <p:sp>
          <p:nvSpPr>
            <p:cNvPr id="159" name=""/>
            <p:cNvSpPr/>
            <p:nvPr/>
          </p:nvSpPr>
          <p:spPr>
            <a:xfrm>
              <a:off x="2612880" y="398304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2-4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68520" y="3525840"/>
              <a:ext cx="147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cc"/>
                  </a:solidFill>
                  <a:latin typeface="Times New Roman"/>
                </a:rPr>
                <a:t>做新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68360" y="3068640"/>
              <a:ext cx="192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二、开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260960" y="3087720"/>
            <a:ext cx="2182680" cy="1495440"/>
            <a:chOff x="4260960" y="3087720"/>
            <a:chExt cx="2182680" cy="1495440"/>
          </a:xfrm>
        </p:grpSpPr>
        <p:sp>
          <p:nvSpPr>
            <p:cNvPr id="163" name=""/>
            <p:cNvSpPr/>
            <p:nvPr/>
          </p:nvSpPr>
          <p:spPr>
            <a:xfrm>
              <a:off x="4489560" y="3544560"/>
              <a:ext cx="152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cc"/>
                  </a:solidFill>
                  <a:latin typeface="Times New Roman"/>
                </a:rPr>
                <a:t>看新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00720" y="400176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5-22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0960" y="3087720"/>
              <a:ext cx="218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三、发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300720" y="3138480"/>
            <a:ext cx="2646360" cy="1444680"/>
            <a:chOff x="6300720" y="3138480"/>
            <a:chExt cx="2646360" cy="1444680"/>
          </a:xfrm>
        </p:grpSpPr>
        <p:sp>
          <p:nvSpPr>
            <p:cNvPr id="167" name=""/>
            <p:cNvSpPr/>
            <p:nvPr/>
          </p:nvSpPr>
          <p:spPr>
            <a:xfrm>
              <a:off x="6930720" y="35701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cc"/>
                  </a:solidFill>
                  <a:latin typeface="Times New Roman"/>
                </a:rPr>
                <a:t>展新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00720" y="3138480"/>
              <a:ext cx="264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四、高潮结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3560" y="4001760"/>
              <a:ext cx="13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23-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末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76360" y="692280"/>
            <a:ext cx="5560920" cy="25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86950"/>
                </a:solidFill>
                <a:latin typeface="Times New Roman"/>
              </a:rPr>
              <a:t>就课文中的任一细节展开活动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672000" y="3429000"/>
            <a:ext cx="547200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如：</a:t>
            </a: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、用画笔描绘衣着漂 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亮，爱打扮的皇帝；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、以小品的形式表演课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文中的一段对话；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、饱含感情地背诵文中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人物的心理活动。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2700360" y="333360"/>
            <a:ext cx="5562360" cy="1447920"/>
            <a:chOff x="2700360" y="333360"/>
            <a:chExt cx="5562360" cy="1447920"/>
          </a:xfrm>
        </p:grpSpPr>
        <p:sp>
          <p:nvSpPr>
            <p:cNvPr id="173" name=""/>
            <p:cNvSpPr/>
            <p:nvPr/>
          </p:nvSpPr>
          <p:spPr>
            <a:xfrm>
              <a:off x="2700360" y="333360"/>
              <a:ext cx="5481720" cy="1447920"/>
            </a:xfrm>
            <a:prstGeom prst="flowChartPunchedTape">
              <a:avLst/>
            </a:pr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00360" y="747000"/>
              <a:ext cx="5562360" cy="642600"/>
            </a:xfrm>
            <a:prstGeom prst="rect">
              <a:avLst/>
            </a:prstGeom>
            <a:solidFill>
              <a:srgbClr val="727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e9e2b6"/>
                  </a:solidFill>
                  <a:latin typeface="Times New Roman"/>
                </a:rPr>
                <a:t>本文的故事线索是什么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708360" y="2924280"/>
            <a:ext cx="3057120" cy="2133360"/>
            <a:chOff x="3708360" y="2924280"/>
            <a:chExt cx="3057120" cy="2133360"/>
          </a:xfrm>
        </p:grpSpPr>
        <p:sp>
          <p:nvSpPr>
            <p:cNvPr id="176" name=""/>
            <p:cNvSpPr/>
            <p:nvPr/>
          </p:nvSpPr>
          <p:spPr>
            <a:xfrm>
              <a:off x="3708360" y="2924280"/>
              <a:ext cx="3057120" cy="2133360"/>
            </a:xfrm>
            <a:custGeom>
              <a:avLst/>
              <a:gdLst>
                <a:gd name="textAreaLeft" fmla="*/ 764280 w 3057120"/>
                <a:gd name="textAreaRight" fmla="*/ 2292840 w 3057120"/>
                <a:gd name="textAreaTop" fmla="*/ 533160 h 2133360"/>
                <a:gd name="textAreaBottom" fmla="*/ 160020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72640" y="3609720"/>
              <a:ext cx="1834200" cy="825120"/>
            </a:xfrm>
            <a:prstGeom prst="rect">
              <a:avLst/>
            </a:prstGeom>
            <a:solidFill>
              <a:srgbClr val="727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e9e2b6"/>
                  </a:solidFill>
                  <a:latin typeface="Times New Roman"/>
                </a:rPr>
                <a:t>新装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76360" y="3500280"/>
            <a:ext cx="1811520" cy="1191240"/>
          </a:xfrm>
          <a:prstGeom prst="rect">
            <a:avLst/>
          </a:prstGeom>
          <a:solidFill>
            <a:srgbClr val="786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皇帝爱（</a:t>
            </a: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2060640"/>
            <a:ext cx="3336840" cy="642600"/>
          </a:xfrm>
          <a:prstGeom prst="rect">
            <a:avLst/>
          </a:prstGeom>
          <a:solidFill>
            <a:srgbClr val="786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骗子做（</a:t>
            </a: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2-5</a:t>
            </a: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48360" y="3429000"/>
            <a:ext cx="1944720" cy="1191240"/>
          </a:xfrm>
          <a:prstGeom prst="rect">
            <a:avLst/>
          </a:prstGeom>
          <a:solidFill>
            <a:srgbClr val="786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大臣看（</a:t>
            </a: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5-22</a:t>
            </a: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64000" y="5300640"/>
            <a:ext cx="3687840" cy="642600"/>
          </a:xfrm>
          <a:prstGeom prst="rect">
            <a:avLst/>
          </a:prstGeom>
          <a:solidFill>
            <a:srgbClr val="786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皇帝穿（</a:t>
            </a: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23-36</a:t>
            </a: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835280" y="333360"/>
            <a:ext cx="6553080" cy="3200400"/>
            <a:chOff x="1835280" y="333360"/>
            <a:chExt cx="6553080" cy="3200400"/>
          </a:xfrm>
        </p:grpSpPr>
        <p:sp>
          <p:nvSpPr>
            <p:cNvPr id="183" name=""/>
            <p:cNvSpPr/>
            <p:nvPr/>
          </p:nvSpPr>
          <p:spPr>
            <a:xfrm>
              <a:off x="1835280" y="333360"/>
              <a:ext cx="6553080" cy="3200400"/>
            </a:xfrm>
            <a:prstGeom prst="flowChartPunchedTape">
              <a:avLst/>
            </a:prstGeom>
            <a:solidFill>
              <a:srgbClr val="7869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11600" y="1019160"/>
              <a:ext cx="6324480" cy="581400"/>
            </a:xfrm>
            <a:prstGeom prst="rect">
              <a:avLst/>
            </a:prstGeom>
            <a:solidFill>
              <a:srgbClr val="786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9e2b6"/>
                  </a:solidFill>
                  <a:latin typeface="Times New Roman"/>
                </a:rPr>
                <a:t>请用一个字概括《皇帝的新装》这一故事。是我们大家一看到这个字就会想起这个故事，一想起这个故事，就会想到这个字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692360" y="4221000"/>
            <a:ext cx="6933960" cy="1981440"/>
            <a:chOff x="1692360" y="4221000"/>
            <a:chExt cx="6933960" cy="1981440"/>
          </a:xfrm>
        </p:grpSpPr>
        <p:sp>
          <p:nvSpPr>
            <p:cNvPr id="186" name=""/>
            <p:cNvSpPr/>
            <p:nvPr/>
          </p:nvSpPr>
          <p:spPr>
            <a:xfrm>
              <a:off x="1692360" y="4221000"/>
              <a:ext cx="6933960" cy="1981440"/>
            </a:xfrm>
            <a:prstGeom prst="cloudCallout">
              <a:avLst>
                <a:gd name="adj1" fmla="val 9796"/>
                <a:gd name="adj2" fmla="val -101680"/>
              </a:avLst>
            </a:pr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11320" y="4830840"/>
              <a:ext cx="510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大家讨论，看看用哪个字最恰当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987640" y="2565360"/>
            <a:ext cx="2133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 </a:t>
            </a: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骗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26920" y="2276640"/>
            <a:ext cx="2819160" cy="1487160"/>
            <a:chOff x="826920" y="2276640"/>
            <a:chExt cx="2819160" cy="1487160"/>
          </a:xfrm>
        </p:grpSpPr>
        <p:grpSp>
          <p:nvGrpSpPr>
            <p:cNvPr id="190" name=""/>
            <p:cNvGrpSpPr/>
            <p:nvPr/>
          </p:nvGrpSpPr>
          <p:grpSpPr>
            <a:xfrm>
              <a:off x="826920" y="2276640"/>
              <a:ext cx="839160" cy="1487160"/>
              <a:chOff x="826920" y="2276640"/>
              <a:chExt cx="839160" cy="1487160"/>
            </a:xfrm>
          </p:grpSpPr>
          <p:pic>
            <p:nvPicPr>
              <p:cNvPr id="191" name="" descr="10.gif (37939 bytes)"/>
              <p:cNvPicPr/>
              <p:nvPr/>
            </p:nvPicPr>
            <p:blipFill>
              <a:blip r:embed="rId1"/>
              <a:srcRect l="55296" t="0" r="22357" b="29010"/>
              <a:stretch/>
            </p:blipFill>
            <p:spPr>
              <a:xfrm>
                <a:off x="925200" y="2276640"/>
                <a:ext cx="740880" cy="148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>
                <a:off x="826920" y="2809440"/>
                <a:ext cx="1947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骗子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966680" y="3571560"/>
              <a:ext cx="16794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06680" y="2809440"/>
              <a:ext cx="65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340000" y="476280"/>
            <a:ext cx="1980720" cy="2133720"/>
            <a:chOff x="2340000" y="476280"/>
            <a:chExt cx="1980720" cy="2133720"/>
          </a:xfrm>
        </p:grpSpPr>
        <p:grpSp>
          <p:nvGrpSpPr>
            <p:cNvPr id="196" name=""/>
            <p:cNvGrpSpPr/>
            <p:nvPr/>
          </p:nvGrpSpPr>
          <p:grpSpPr>
            <a:xfrm>
              <a:off x="2340000" y="476280"/>
              <a:ext cx="1142640" cy="990720"/>
              <a:chOff x="2340000" y="476280"/>
              <a:chExt cx="1142640" cy="990720"/>
            </a:xfrm>
          </p:grpSpPr>
          <p:pic>
            <p:nvPicPr>
              <p:cNvPr id="197" name="" descr=""/>
              <p:cNvPicPr/>
              <p:nvPr/>
            </p:nvPicPr>
            <p:blipFill>
              <a:blip r:embed="rId2"/>
              <a:srcRect l="86049" t="33333" r="0" b="0"/>
              <a:stretch/>
            </p:blipFill>
            <p:spPr>
              <a:xfrm>
                <a:off x="2340000" y="476280"/>
                <a:ext cx="1142640" cy="9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2974680" y="476280"/>
                <a:ext cx="444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大臣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2949480" y="1542960"/>
              <a:ext cx="1142640" cy="10670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30360" y="1467000"/>
              <a:ext cx="99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助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219280" y="2492280"/>
            <a:ext cx="3353040" cy="1447920"/>
            <a:chOff x="5219280" y="2492280"/>
            <a:chExt cx="3353040" cy="1447920"/>
          </a:xfrm>
        </p:grpSpPr>
        <p:grpSp>
          <p:nvGrpSpPr>
            <p:cNvPr id="202" name=""/>
            <p:cNvGrpSpPr/>
            <p:nvPr/>
          </p:nvGrpSpPr>
          <p:grpSpPr>
            <a:xfrm>
              <a:off x="5219280" y="2568600"/>
              <a:ext cx="3200760" cy="1371600"/>
              <a:chOff x="5219280" y="2568600"/>
              <a:chExt cx="3200760" cy="1371600"/>
            </a:xfrm>
          </p:grpSpPr>
          <p:pic>
            <p:nvPicPr>
              <p:cNvPr id="203" name="" descr=""/>
              <p:cNvPicPr/>
              <p:nvPr/>
            </p:nvPicPr>
            <p:blipFill>
              <a:blip r:embed="rId3"/>
              <a:srcRect l="54880" t="18005" r="14641" b="32003"/>
              <a:stretch/>
            </p:blipFill>
            <p:spPr>
              <a:xfrm>
                <a:off x="7277040" y="2568600"/>
                <a:ext cx="11430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 flipH="1">
                <a:off x="5219280" y="3635280"/>
                <a:ext cx="198108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981400" y="2949480"/>
                <a:ext cx="914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受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7124400" y="24922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皇        帝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067280" y="4076640"/>
            <a:ext cx="1295280" cy="2387160"/>
            <a:chOff x="4067280" y="4076640"/>
            <a:chExt cx="1295280" cy="2387160"/>
          </a:xfrm>
        </p:grpSpPr>
        <p:grpSp>
          <p:nvGrpSpPr>
            <p:cNvPr id="208" name=""/>
            <p:cNvGrpSpPr/>
            <p:nvPr/>
          </p:nvGrpSpPr>
          <p:grpSpPr>
            <a:xfrm>
              <a:off x="4067280" y="4076640"/>
              <a:ext cx="1295280" cy="2386080"/>
              <a:chOff x="4067280" y="4076640"/>
              <a:chExt cx="1295280" cy="2386080"/>
            </a:xfrm>
          </p:grpSpPr>
          <p:pic>
            <p:nvPicPr>
              <p:cNvPr id="209" name="" descr="13.gif (42243 bytes)"/>
              <p:cNvPicPr/>
              <p:nvPr/>
            </p:nvPicPr>
            <p:blipFill>
              <a:blip r:embed="rId4"/>
              <a:srcRect l="25885" t="60801" r="50590" b="3915"/>
              <a:stretch/>
            </p:blipFill>
            <p:spPr>
              <a:xfrm>
                <a:off x="4067280" y="5295960"/>
                <a:ext cx="1295280" cy="116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flipV="1">
                <a:off x="4600440" y="4076640"/>
                <a:ext cx="0" cy="106704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00440" y="4457880"/>
                <a:ext cx="762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揭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4981320" y="5516640"/>
              <a:ext cx="38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小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292720" y="692280"/>
            <a:ext cx="2057400" cy="2132640"/>
            <a:chOff x="5292720" y="692280"/>
            <a:chExt cx="2057400" cy="2132640"/>
          </a:xfrm>
        </p:grpSpPr>
        <p:grpSp>
          <p:nvGrpSpPr>
            <p:cNvPr id="214" name=""/>
            <p:cNvGrpSpPr/>
            <p:nvPr/>
          </p:nvGrpSpPr>
          <p:grpSpPr>
            <a:xfrm>
              <a:off x="5292720" y="768240"/>
              <a:ext cx="2057400" cy="2056680"/>
              <a:chOff x="5292720" y="768240"/>
              <a:chExt cx="2057400" cy="2056680"/>
            </a:xfrm>
          </p:grpSpPr>
          <p:pic>
            <p:nvPicPr>
              <p:cNvPr id="215" name="" descr="13.gif (42243 bytes)"/>
              <p:cNvPicPr/>
              <p:nvPr/>
            </p:nvPicPr>
            <p:blipFill>
              <a:blip r:embed="rId5"/>
              <a:srcRect l="51771" t="36478" r="0" b="0"/>
              <a:stretch/>
            </p:blipFill>
            <p:spPr>
              <a:xfrm>
                <a:off x="5978520" y="768240"/>
                <a:ext cx="1371600" cy="10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 flipH="1">
                <a:off x="5445000" y="1834560"/>
                <a:ext cx="990360" cy="99036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292720" y="1758600"/>
                <a:ext cx="914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传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5826240" y="692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百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8462520" y="685800"/>
            <a:ext cx="6069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请用一个字概括这一故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2060640"/>
            <a:ext cx="7991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任何不称职的或愚蠢得不可救药的人，都看不见这衣服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”这句话，在故事情节发展中起着关键的推动作用。骗子胡说那衣服具有这样一种“奇怪的特性”，不但抓住了皇帝的昏庸荒政而又想辨别出官员是否称职、是聪明还是愚蠢，以求保住皇位的心理，而且抓住了大臣们只想保住官位的心理，因而骗术步步行通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03280" y="476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找出在故事情节发展中起着关键的作用的语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35280" y="2060640"/>
            <a:ext cx="6781680" cy="581400"/>
          </a:xfrm>
          <a:prstGeom prst="rect">
            <a:avLst/>
          </a:prstGeom>
          <a:solidFill>
            <a:srgbClr val="786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e2b6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e9e2b6"/>
                </a:solidFill>
                <a:latin typeface="Times New Roman"/>
              </a:rPr>
              <a:t>骗子的骗术并不高明，可为什么有那多人上当受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35280" y="4292640"/>
            <a:ext cx="6172200" cy="58140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e2b6"/>
                </a:solidFill>
                <a:latin typeface="Times New Roman"/>
              </a:rPr>
              <a:t>他们怕别人说自己愚蠢、不称职；怕自己的利益受到损失，私心太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547640" y="189000"/>
            <a:ext cx="2819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隶书"/>
              </a:rPr>
              <a:t> </a:t>
            </a: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隶书"/>
              </a:rPr>
              <a:t>思考讨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35160" y="0"/>
            <a:ext cx="3049560" cy="3357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8" name=""/>
          <p:cNvSpPr/>
          <p:nvPr/>
        </p:nvSpPr>
        <p:spPr>
          <a:xfrm>
            <a:off x="1474920" y="1573200"/>
            <a:ext cx="7561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安徒生（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1805~187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世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纪丹麦文学巨匠，世界著名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童话作家。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他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余篇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童话在近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年中被翻译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多种文字，从丹麦传向世界。安徒生生于鞋匠家庭，童年生活穷苦，早期写有诗歌、剧本和长篇小说等，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183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年开始写童话，著名的童话有《丑小鸭》、《海的女儿》、《卖火柴的小女孩》、《夜莺》、《皇帝的新装》等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476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533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彩云"/>
                <a:ea typeface="华文彩云"/>
              </a:rPr>
              <a:t>骗子为何能得逞</a:t>
            </a:r>
            <a:r>
              <a:rPr b="1" lang="zh-CN" sz="3600" spc="-1" strike="noStrike">
                <a:solidFill>
                  <a:srgbClr val="0066ff"/>
                </a:solidFill>
                <a:latin typeface="华文彩云"/>
                <a:ea typeface="华文彩云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善于钻空子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欺骗有术。骗局与专制的皇权联系起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3280" y="2997360"/>
            <a:ext cx="450072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0" bIns="2520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皇冠——骗人骗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官职——怕丢掉乌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私心杂念——顾虑再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523880" y="3200400"/>
            <a:ext cx="1676520" cy="858600"/>
            <a:chOff x="1523880" y="3200400"/>
            <a:chExt cx="1676520" cy="85860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1523880" y="3200400"/>
              <a:ext cx="78444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286000" y="33703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皇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523880" y="5334120"/>
            <a:ext cx="1876320" cy="861840"/>
            <a:chOff x="1523880" y="5334120"/>
            <a:chExt cx="1876320" cy="861840"/>
          </a:xfrm>
        </p:grpSpPr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1523880" y="5334120"/>
              <a:ext cx="824040" cy="8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579400" y="55054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老百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523880" y="4267080"/>
            <a:ext cx="2867040" cy="860400"/>
            <a:chOff x="1523880" y="4267080"/>
            <a:chExt cx="2867040" cy="860400"/>
          </a:xfrm>
        </p:grpSpPr>
        <p:pic>
          <p:nvPicPr>
            <p:cNvPr id="235" name="" descr=""/>
            <p:cNvPicPr/>
            <p:nvPr/>
          </p:nvPicPr>
          <p:blipFill>
            <a:blip r:embed="rId3"/>
            <a:stretch/>
          </p:blipFill>
          <p:spPr>
            <a:xfrm>
              <a:off x="1523880" y="4267080"/>
              <a:ext cx="8604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70120" y="4437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众大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4"/>
            <a:stretch/>
          </p:blipFill>
          <p:spPr>
            <a:xfrm>
              <a:off x="2384280" y="4267080"/>
              <a:ext cx="74304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"/>
          <p:cNvSpPr/>
          <p:nvPr/>
        </p:nvSpPr>
        <p:spPr>
          <a:xfrm>
            <a:off x="1447920" y="1905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彩云"/>
                <a:ea typeface="华文彩云"/>
              </a:rPr>
              <a:t>众人为何会上当</a:t>
            </a:r>
            <a:r>
              <a:rPr b="1" lang="zh-CN" sz="3600" spc="-1" strike="noStrike">
                <a:solidFill>
                  <a:srgbClr val="0066ff"/>
                </a:solidFill>
                <a:latin typeface="华文彩云"/>
                <a:ea typeface="华文彩云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4f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4f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19280" y="1341360"/>
            <a:ext cx="556092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8695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786950"/>
                </a:solidFill>
                <a:latin typeface="Times New Roman"/>
              </a:rPr>
              <a:t>皇帝想去看新衣织得怎样了，但又不敢亲自去看，这时作者着重写他的心理活动，这些活动说明了什么？</a:t>
            </a:r>
            <a:endParaRPr b="0" lang="en-US" sz="40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581280" y="304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华文彩云"/>
              </a:rPr>
              <a:t>心理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1828800"/>
            <a:ext cx="533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倒想知道衣料究竟织得怎样了心里的确感到不大自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相信自己是无须害怕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-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仍然觉得先派一个人去看看工作的进展情形比较妥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自负而心虚愚蠢而狡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05320" y="43657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怎么一回事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什么也没有看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可骇人听闻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难道我是一个愚蠢的人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难道我不够资格当皇帝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可是最可怕的事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47640" y="53006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吃惊而怀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523880" y="304920"/>
            <a:ext cx="1600200" cy="2274480"/>
            <a:chOff x="1523880" y="304920"/>
            <a:chExt cx="1600200" cy="227448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1523880" y="304920"/>
              <a:ext cx="16002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523880" y="205884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皇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582720" y="1125360"/>
            <a:ext cx="556092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8695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786950"/>
                </a:solidFill>
                <a:latin typeface="Times New Roman"/>
              </a:rPr>
              <a:t>大臣、官员和皇帝都去看布料，场面相同，但写法各不相同，他们不同在哪里？</a:t>
            </a:r>
            <a:endParaRPr b="0" lang="en-US" sz="40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403280" y="2502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华文彩云"/>
                <a:ea typeface="华文彩云"/>
              </a:rPr>
              <a:t>心理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87640" y="2421000"/>
            <a:ext cx="28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愿上帝可怜我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的老天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32600" y="2421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并不愚蠢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645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华文彩云"/>
                <a:ea typeface="华文彩云"/>
              </a:rPr>
              <a:t>神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16360" y="3573360"/>
            <a:ext cx="331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眼睛睁的特别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华文彩云"/>
                <a:ea typeface="华文彩云"/>
              </a:rPr>
              <a:t>动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35360" y="4149720"/>
            <a:ext cx="317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他的眼镜里仔细地看；注意地听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581280" y="152280"/>
            <a:ext cx="4343400" cy="2274840"/>
            <a:chOff x="3581280" y="152280"/>
            <a:chExt cx="4343400" cy="2274840"/>
          </a:xfrm>
        </p:grpSpPr>
        <p:grpSp>
          <p:nvGrpSpPr>
            <p:cNvPr id="257" name=""/>
            <p:cNvGrpSpPr/>
            <p:nvPr/>
          </p:nvGrpSpPr>
          <p:grpSpPr>
            <a:xfrm>
              <a:off x="3581280" y="152280"/>
              <a:ext cx="1676160" cy="2274840"/>
              <a:chOff x="3581280" y="152280"/>
              <a:chExt cx="1676160" cy="22748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152280"/>
                <a:ext cx="1676160" cy="16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4009680" y="190656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老大臣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477120" y="152280"/>
              <a:ext cx="1447560" cy="2274840"/>
              <a:chOff x="6477120" y="152280"/>
              <a:chExt cx="1447560" cy="2274840"/>
            </a:xfrm>
          </p:grpSpPr>
          <p:pic>
            <p:nvPicPr>
              <p:cNvPr id="26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77120" y="152280"/>
                <a:ext cx="1447560" cy="16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>
                <a:off x="6563880" y="1906560"/>
                <a:ext cx="1272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大臣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3" name=""/>
          <p:cNvSpPr/>
          <p:nvPr/>
        </p:nvSpPr>
        <p:spPr>
          <a:xfrm>
            <a:off x="3852000" y="573408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详写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1240" y="571824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略写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27de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27de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27de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835280" y="2205000"/>
            <a:ext cx="5903640" cy="2372400"/>
          </a:xfrm>
          <a:prstGeom prst="rect">
            <a:avLst/>
          </a:prstGeom>
          <a:solidFill>
            <a:srgbClr val="786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老大臣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自恃年高资深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多用祈使句，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示可怜和哀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35280" y="333360"/>
            <a:ext cx="5976720" cy="1537920"/>
          </a:xfrm>
          <a:prstGeom prst="rect">
            <a:avLst/>
          </a:prstGeom>
          <a:solidFill>
            <a:srgbClr val="786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皇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自以为至高无上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多用疑问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35280" y="4941720"/>
            <a:ext cx="5905440" cy="1537920"/>
          </a:xfrm>
          <a:prstGeom prst="rect">
            <a:avLst/>
          </a:prstGeom>
          <a:solidFill>
            <a:srgbClr val="786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官员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年轻得志，不禁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点自我怀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19280" y="40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华文彩云"/>
              </a:rPr>
              <a:t>为什么小孩会讲真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63640" y="285264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天真大胆，无所顾忌，直言不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19280" y="1268280"/>
            <a:ext cx="68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华文彩云"/>
              </a:rPr>
              <a:t>为什么会由一个小孩说出这场骗局的真相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763640" y="3860640"/>
            <a:ext cx="5562720" cy="23623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4f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87280" y="692280"/>
            <a:ext cx="77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从《皇帝的新装》想到的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47640" y="1989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86950"/>
                </a:solidFill>
                <a:latin typeface="Times New Roman"/>
                <a:ea typeface="隶书"/>
              </a:rPr>
              <a:t>极力写出皇帝、大臣、随从、骗子互相欺骗的种种荒诞无稽的可笑行径，把他们的愚蠢、卑鄙、虚伪，为了保持权力不惜自欺欺人等等恶行，拿出来示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19280" y="4653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86950"/>
                </a:solidFill>
                <a:latin typeface="Times New Roman"/>
                <a:ea typeface="隶书"/>
              </a:rPr>
              <a:t>保持天真烂漫的童心，无私无畏，敢于说真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115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华文彩云"/>
              </a:rPr>
              <a:t>童话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907920"/>
            <a:ext cx="6858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Times New Roman"/>
              </a:rPr>
              <a:t>文学体裁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儿童文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Times New Roman"/>
              </a:rPr>
              <a:t>常用手法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想象、幻想、夸张、拟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Times New Roman"/>
              </a:rPr>
              <a:t>语言特点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通俗、生动，离奇曲折，引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人入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Times New Roman"/>
              </a:rPr>
              <a:t>最重要特点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拟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28800" y="4365720"/>
            <a:ext cx="6400800" cy="205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86950"/>
            </a:outerShdw>
          </a:effectLst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00200" y="11430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童话是儿童文学的一种。这种作品通过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丰富的想象、幻想和夸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来塑造形象，反映生活，对儿童进行思想教育。语言通俗、生动，故事情节往往离奇曲折，引人入胜。童话又往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采用拟人的方法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举凡鸟兽虫鱼，花草树木，整个大自然以及家具、玩具都可赋予生命，注入思想感情，使它们人格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0"/>
            <a:ext cx="883908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填写加下划线的字的读音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并注意字的写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炫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耀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    )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称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    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稽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   )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陛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衔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   )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听闻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  )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钦差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大臣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随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附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429000"/>
            <a:ext cx="80773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解释词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称   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骇人听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随声附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可救药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1371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xuà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1371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chè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447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j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13716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b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0574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xi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2057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hà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1981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qīn chā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fù h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3886200"/>
            <a:ext cx="4419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能够胜任所担当的职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4343400"/>
            <a:ext cx="6324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使人听了非常震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4800600"/>
            <a:ext cx="6248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别人说什么自已也跟着说什么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形容毫无主见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一味盲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5791320"/>
            <a:ext cx="6172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比喻人或事物已坏到无法挽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3808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彩云"/>
                <a:ea typeface="华文彩云"/>
              </a:rPr>
              <a:t>分角色朗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447920" y="1523880"/>
            <a:ext cx="7156440" cy="2281320"/>
            <a:chOff x="1447920" y="1523880"/>
            <a:chExt cx="7156440" cy="2281320"/>
          </a:xfrm>
        </p:grpSpPr>
        <p:grpSp>
          <p:nvGrpSpPr>
            <p:cNvPr id="110" name=""/>
            <p:cNvGrpSpPr/>
            <p:nvPr/>
          </p:nvGrpSpPr>
          <p:grpSpPr>
            <a:xfrm>
              <a:off x="1447920" y="1523880"/>
              <a:ext cx="1600200" cy="2274840"/>
              <a:chOff x="1447920" y="1523880"/>
              <a:chExt cx="1600200" cy="2274840"/>
            </a:xfrm>
          </p:grpSpPr>
          <p:pic>
            <p:nvPicPr>
              <p:cNvPr id="1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7920" y="1523880"/>
                <a:ext cx="160020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1447920" y="3278160"/>
                <a:ext cx="160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皇帝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127480" y="1523880"/>
              <a:ext cx="1676160" cy="2274840"/>
              <a:chOff x="5127480" y="1523880"/>
              <a:chExt cx="1676160" cy="2274840"/>
            </a:xfrm>
          </p:grpSpPr>
          <p:pic>
            <p:nvPicPr>
              <p:cNvPr id="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127480" y="1523880"/>
                <a:ext cx="1676160" cy="16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5555160" y="327816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老大臣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7156440" y="1523880"/>
              <a:ext cx="1447920" cy="2274840"/>
              <a:chOff x="7156440" y="1523880"/>
              <a:chExt cx="1447920" cy="2274840"/>
            </a:xfrm>
          </p:grpSpPr>
          <p:pic>
            <p:nvPicPr>
              <p:cNvPr id="11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156440" y="1523880"/>
                <a:ext cx="1447920" cy="16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7243560" y="3278160"/>
                <a:ext cx="127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大臣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3276720" y="1557360"/>
              <a:ext cx="1439640" cy="2247840"/>
              <a:chOff x="3276720" y="1557360"/>
              <a:chExt cx="1439640" cy="2247840"/>
            </a:xfrm>
          </p:grpSpPr>
          <p:pic>
            <p:nvPicPr>
              <p:cNvPr id="120" name="" descr=""/>
              <p:cNvPicPr/>
              <p:nvPr/>
            </p:nvPicPr>
            <p:blipFill>
              <a:blip r:embed="rId4"/>
              <a:srcRect l="12649" t="1587" r="59892" b="23795"/>
              <a:stretch/>
            </p:blipFill>
            <p:spPr>
              <a:xfrm>
                <a:off x="3276720" y="1557360"/>
                <a:ext cx="1439640" cy="17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3421080" y="3284640"/>
                <a:ext cx="1152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骗子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359000" y="3933720"/>
            <a:ext cx="7316640" cy="2378160"/>
            <a:chOff x="1359000" y="3933720"/>
            <a:chExt cx="7316640" cy="2378160"/>
          </a:xfrm>
        </p:grpSpPr>
        <p:grpSp>
          <p:nvGrpSpPr>
            <p:cNvPr id="123" name=""/>
            <p:cNvGrpSpPr/>
            <p:nvPr/>
          </p:nvGrpSpPr>
          <p:grpSpPr>
            <a:xfrm>
              <a:off x="3035160" y="3962520"/>
              <a:ext cx="1752480" cy="2349360"/>
              <a:chOff x="3035160" y="3962520"/>
              <a:chExt cx="1752480" cy="2349360"/>
            </a:xfrm>
          </p:grpSpPr>
          <p:pic>
            <p:nvPicPr>
              <p:cNvPr id="12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073320" y="3962520"/>
                <a:ext cx="167652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3035160" y="57913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骑士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056200" y="3962520"/>
              <a:ext cx="1676160" cy="2349360"/>
              <a:chOff x="5056200" y="3962520"/>
              <a:chExt cx="1676160" cy="2349360"/>
            </a:xfrm>
          </p:grpSpPr>
          <p:pic>
            <p:nvPicPr>
              <p:cNvPr id="12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056200" y="3962520"/>
                <a:ext cx="167616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5483880" y="579132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老百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020000" y="3933720"/>
              <a:ext cx="1655640" cy="2377800"/>
              <a:chOff x="7020000" y="3933720"/>
              <a:chExt cx="1655640" cy="2377800"/>
            </a:xfrm>
          </p:grpSpPr>
          <p:pic>
            <p:nvPicPr>
              <p:cNvPr id="130" name="" descr=""/>
              <p:cNvPicPr/>
              <p:nvPr/>
            </p:nvPicPr>
            <p:blipFill>
              <a:blip r:embed="rId7"/>
              <a:srcRect l="19545" t="33645" r="55506" b="13254"/>
              <a:stretch/>
            </p:blipFill>
            <p:spPr>
              <a:xfrm>
                <a:off x="7020000" y="3933720"/>
                <a:ext cx="1655640" cy="18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7162560" y="5790960"/>
                <a:ext cx="1512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小孩子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1359000" y="4005360"/>
              <a:ext cx="1628640" cy="2249280"/>
              <a:chOff x="1359000" y="4005360"/>
              <a:chExt cx="1628640" cy="2249280"/>
            </a:xfrm>
          </p:grpSpPr>
          <p:pic>
            <p:nvPicPr>
              <p:cNvPr id="133" name="" descr=""/>
              <p:cNvPicPr/>
              <p:nvPr/>
            </p:nvPicPr>
            <p:blipFill>
              <a:blip r:embed="rId8"/>
              <a:srcRect l="67589" t="23965" r="4944" b="0"/>
              <a:stretch/>
            </p:blipFill>
            <p:spPr>
              <a:xfrm>
                <a:off x="1359000" y="4005360"/>
                <a:ext cx="1412640" cy="17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1620720" y="5734080"/>
                <a:ext cx="136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随从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Ba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95280" y="12193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皇帝的新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课文朗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6172200" cy="3581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7621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124000" y="981000"/>
            <a:ext cx="6172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1T15:39:35Z</dcterms:created>
  <dc:creator>wutao</dc:creator>
  <dc:description/>
  <dc:language>en-US</dc:language>
  <cp:lastModifiedBy>Billgates</cp:lastModifiedBy>
  <dcterms:modified xsi:type="dcterms:W3CDTF">2004-02-07T15:25:22Z</dcterms:modified>
  <cp:revision>100</cp:revision>
  <dc:subject/>
  <dc:title>皇帝的新装</dc:title>
</cp:coreProperties>
</file>