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765-AA14-4532-8AC1-EA0A92CC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177-1C6C-4751-BB2C-978F31FC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AF4-F94C-4478-8DCD-ACD3DF33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900-129B-4EB5-97A4-A5E1D6B1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40B6-4698-4F79-B317-6335E7A4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53D8-169E-4C6A-8219-BCC921F0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E5B3-4CA2-4054-8A43-87A8DA04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C30D-691F-42B7-BE59-A66F34A5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AF1E-B92D-4B5C-A3FC-EE6ECE3E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4D15-285B-415A-B6F2-7D0D3D88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70A5-DFA9-4479-A664-8C8FDA9A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397-F97F-46E1-B087-31735E55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0250-2CE9-4721-B560-51F670B2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57E8-EF15-44D6-A801-D82D3F7C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F4BF-3598-4FE9-AAD4-87D05A8A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38C5-93D2-4290-B27C-3320E1B7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5AC9-50A8-45BE-91F9-244BC557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67F-6653-4B93-961F-EEA8D1BD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E3D-B3A0-40AF-A640-3085E9E1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4ED-319D-4E3F-8E11-3171FE3A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F89-15F8-447D-9A3F-942275F1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199-B034-4D83-8C81-7A78DD66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B31-61E0-439A-9875-CDE7FB93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970-B644-4AE3-B957-9DB3FF81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E962-23C6-4F38-8E61-35D3115BC5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8B1D-B227-49C3-A8F6-71178D6CF2A9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19520" y="160020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皇帝的新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3429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安徒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97180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童话的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766880"/>
            <a:ext cx="85345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文学体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儿童文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常用手法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象、幻想、夸张、拟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语言特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俗、生动，离奇曲折，引人入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最重要特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拟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举凡鸟兽虫鱼，花草树木，整个大自然以及家具、玩具都可赋予生命，注入思想感情，使它们人格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huang01" descr=""/>
          <p:cNvPicPr/>
          <p:nvPr/>
        </p:nvPicPr>
        <p:blipFill>
          <a:blip r:embed="rId2"/>
          <a:stretch/>
        </p:blipFill>
        <p:spPr>
          <a:xfrm>
            <a:off x="4724280" y="3728880"/>
            <a:ext cx="2971800" cy="2654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1905120"/>
            <a:ext cx="42670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对人物的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心理活动、语言、动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描写来塑造人物形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用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想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夸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写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童话的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特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5335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皇帝的新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8088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宋体"/>
              </a:rPr>
              <a:t>上当受骗的有哪些人</a:t>
            </a:r>
            <a:r>
              <a:rPr b="1" lang="zh-CN" sz="4400" spc="-1" strike="noStrike">
                <a:solidFill>
                  <a:srgbClr val="993300"/>
                </a:solidFill>
                <a:latin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447920" y="1523880"/>
            <a:ext cx="1600200" cy="2335680"/>
            <a:chOff x="1447920" y="1523880"/>
            <a:chExt cx="1600200" cy="233568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447920" y="15238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447920" y="327816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皇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371600" y="3962520"/>
            <a:ext cx="1752480" cy="2410200"/>
            <a:chOff x="1371600" y="3962520"/>
            <a:chExt cx="1752480" cy="241020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1409760" y="3962520"/>
              <a:ext cx="16765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371600" y="579132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骑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505320" y="3962520"/>
            <a:ext cx="1676160" cy="2357640"/>
            <a:chOff x="3505320" y="3962520"/>
            <a:chExt cx="1676160" cy="2357640"/>
          </a:xfrm>
        </p:grpSpPr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3505320" y="3962520"/>
              <a:ext cx="167616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887280" y="57387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老百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505320" y="1523880"/>
            <a:ext cx="1676160" cy="2283480"/>
            <a:chOff x="3505320" y="1523880"/>
            <a:chExt cx="1676160" cy="2283480"/>
          </a:xfrm>
        </p:grpSpPr>
        <p:pic>
          <p:nvPicPr>
            <p:cNvPr id="98" name="" descr=""/>
            <p:cNvPicPr/>
            <p:nvPr/>
          </p:nvPicPr>
          <p:blipFill>
            <a:blip r:embed="rId5"/>
            <a:stretch/>
          </p:blipFill>
          <p:spPr>
            <a:xfrm>
              <a:off x="3505320" y="1523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887280" y="32259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老大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562720" y="1523880"/>
            <a:ext cx="1447560" cy="2335680"/>
            <a:chOff x="5562720" y="1523880"/>
            <a:chExt cx="1447560" cy="2335680"/>
          </a:xfrm>
        </p:grpSpPr>
        <p:pic>
          <p:nvPicPr>
            <p:cNvPr id="101" name="" descr=""/>
            <p:cNvPicPr/>
            <p:nvPr/>
          </p:nvPicPr>
          <p:blipFill>
            <a:blip r:embed="rId6"/>
            <a:stretch/>
          </p:blipFill>
          <p:spPr>
            <a:xfrm>
              <a:off x="5562720" y="1523880"/>
              <a:ext cx="14475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649480" y="3278160"/>
              <a:ext cx="127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大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267080" y="609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心理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1828800"/>
            <a:ext cx="5105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倒想知道衣料究竟织得怎样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里的确感到不大自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相信自己是无须害怕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仍然觉得先派一个人去看看工作的进展情形比较妥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2743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自负而心虚蠢而狡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665600"/>
            <a:ext cx="5410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是怎么一回事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什么也没有看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可骇人听闻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难道我是一个愚蠢的人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难道我不够资格当皇帝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可是最可怕的事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800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惊诧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自认为至高无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600200" y="380880"/>
            <a:ext cx="1600200" cy="2274840"/>
            <a:chOff x="1600200" y="380880"/>
            <a:chExt cx="1600200" cy="227484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600200" y="3808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600200" y="21351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皇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-300600" y="1828800"/>
            <a:ext cx="13993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人物形象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2502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心理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25020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愿上帝可怜我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的老天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25020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并不愚蠢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535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神 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眼睛睁的特别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343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动 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43434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他的眼镜里仔细地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地听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048120" y="104760"/>
            <a:ext cx="4343400" cy="2335320"/>
            <a:chOff x="3048120" y="104760"/>
            <a:chExt cx="4343400" cy="2335320"/>
          </a:xfrm>
        </p:grpSpPr>
        <p:grpSp>
          <p:nvGrpSpPr>
            <p:cNvPr id="120" name=""/>
            <p:cNvGrpSpPr/>
            <p:nvPr/>
          </p:nvGrpSpPr>
          <p:grpSpPr>
            <a:xfrm>
              <a:off x="3048120" y="104760"/>
              <a:ext cx="1676160" cy="2283120"/>
              <a:chOff x="3048120" y="104760"/>
              <a:chExt cx="1676160" cy="2283120"/>
            </a:xfrm>
          </p:grpSpPr>
          <p:pic>
            <p:nvPicPr>
              <p:cNvPr id="12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8120" y="104760"/>
                <a:ext cx="1676160" cy="16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3430800" y="1806480"/>
                <a:ext cx="912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老大臣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943960" y="104760"/>
              <a:ext cx="1447560" cy="2335320"/>
              <a:chOff x="5943960" y="104760"/>
              <a:chExt cx="1447560" cy="2335320"/>
            </a:xfrm>
          </p:grpSpPr>
          <p:pic>
            <p:nvPicPr>
              <p:cNvPr id="12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3960" y="104760"/>
                <a:ext cx="1447560" cy="16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6030720" y="1858680"/>
                <a:ext cx="1272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大臣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3883680" y="5799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详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02840" y="5799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略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300600" y="1828800"/>
            <a:ext cx="13993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人物形象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533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骗子为何能得逞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533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善于钻空子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欺骗有术。骗局与专制的皇权联系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3352680"/>
            <a:ext cx="3886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皇冠——骗人骗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官职——怕丢掉乌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私心杂念——顾虑再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23880" y="3200400"/>
            <a:ext cx="1904760" cy="858600"/>
            <a:chOff x="1523880" y="3200400"/>
            <a:chExt cx="1904760" cy="85860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523880" y="3200400"/>
              <a:ext cx="89136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389680" y="3370320"/>
              <a:ext cx="103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皇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523880" y="5334120"/>
            <a:ext cx="1922040" cy="861840"/>
            <a:chOff x="1523880" y="5334120"/>
            <a:chExt cx="1922040" cy="861840"/>
          </a:xfrm>
        </p:grpSpPr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1523880" y="5334120"/>
              <a:ext cx="82404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533680" y="54529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老百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523880" y="4267080"/>
            <a:ext cx="2912760" cy="860400"/>
            <a:chOff x="1523880" y="4267080"/>
            <a:chExt cx="2912760" cy="860400"/>
          </a:xfrm>
        </p:grpSpPr>
        <p:pic>
          <p:nvPicPr>
            <p:cNvPr id="139" name="" descr=""/>
            <p:cNvPicPr/>
            <p:nvPr/>
          </p:nvPicPr>
          <p:blipFill>
            <a:blip r:embed="rId4"/>
            <a:stretch/>
          </p:blipFill>
          <p:spPr>
            <a:xfrm>
              <a:off x="1523880" y="4267080"/>
              <a:ext cx="8604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524400" y="438444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众大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2384280" y="4267080"/>
              <a:ext cx="74304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1447920" y="1905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众人为何会上当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1600" y="12193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为什么小孩会讲真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2590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93300"/>
                </a:solidFill>
                <a:latin typeface="Times New Roman"/>
              </a:rPr>
              <a:t>天真大胆，无所顾忌，直言不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9880" y="13716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宋体"/>
              </a:rPr>
              <a:t>夸 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86000"/>
            <a:ext cx="7391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夸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在客观事实的基础上，对所描绘的事物加以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夸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修辞手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皇帝的昏庸虚伪、贪婪和愚蠢、大臣和官员们腐朽愚昧、溜须拍马都是“客观事实”，这是统治者的本质特征，有这个“客观事实”做依托，夸张的运用也就有了让人信服的效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04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写作手法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2057400"/>
            <a:ext cx="769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穷奢极欲，不理朝政的昏君，被安徒生想象成一个嗜新装成癖，竟然“每一天每一点钟都要换一套衣服”的怪人，两个骗子设下的骗局，也让安徒生想象得非常奇特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童话的结尾，那个内心极度恐慌，但又装出一副更骄傲的神气的皇帝，作家的想象又是那么合乎人物性格的发展逻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1430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宋体"/>
              </a:rPr>
              <a:t>想 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04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写作手法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1T15:39:35Z</dcterms:created>
  <dc:creator>wutao</dc:creator>
  <dc:description/>
  <dc:language>en-US</dc:language>
  <cp:lastModifiedBy>ymr</cp:lastModifiedBy>
  <dcterms:modified xsi:type="dcterms:W3CDTF">2006-09-06T01:56:12Z</dcterms:modified>
  <cp:revision>101</cp:revision>
  <dc:subject/>
  <dc:title>皇帝的新装</dc:title>
</cp:coreProperties>
</file>