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D22A-134A-4DCD-B9FA-67BDF60B8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4FF8-159B-49B6-B8D5-1B993511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25DF-9E2A-441A-8506-54AD7C398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D8C0-4737-4160-879B-949805678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43F2-5AF1-492F-A79D-3F678BDDD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DDA9-CE0E-45B1-BC39-AA3BB61B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4A95-08B0-4E45-AF4A-DF102ED2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C1CC-38C8-4CBA-B011-92B560F2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9BAE-32AC-40B6-A8A1-CB189F0F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2447-C026-4D42-BAB4-90AD30E0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03FE-C867-4854-BDE6-848C4CEE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5B5D-4915-4E06-A165-41CCD004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B523-EDA8-425E-84DE-D4C38F3C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CCB1-E57A-4EE1-A68F-F08CE21A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12E1-0BC7-48BA-90E0-25B15ABB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DED8-3F25-4BBB-AC5C-9EBA9210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3E89-24AA-47C3-9C87-A480E0D6D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09A1-935F-4465-9C4A-019629FE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DCA8-A47C-4AA9-B0EA-A7383995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DB63-611C-4A5D-B9B1-1B3A62EE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36BE-E80F-4DC7-8F4A-FED67129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F65D-9135-4A70-94D7-D6672C4E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7405-56F6-4E2D-BD46-810D9B03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4588-DB02-42D0-9AD1-163AFE16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96EE-FC2A-4C73-851C-5AE582E541A7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4A8D-3AEE-49C1-AB39-FF5E58EE2349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8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hgs-01" descr=""/>
          <p:cNvPicPr/>
          <p:nvPr/>
        </p:nvPicPr>
        <p:blipFill>
          <a:blip r:embed="rId1"/>
          <a:stretch/>
        </p:blipFill>
        <p:spPr>
          <a:xfrm>
            <a:off x="1447920" y="2438280"/>
            <a:ext cx="6019560" cy="19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10(1)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162920" cy="45910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62120" y="52578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到了第二天早上，两个骗子对皇帝说：“陛下，我们刚完成您游行的新衣服。”说完，便十分优雅地把衣服捧给皇帝。 当然，其实他们手上什么也没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11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6699240" cy="4480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92444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“好了，陛下，就让我们在这面大镜子前为您穿上这套新衣吧！”</a:t>
            </a:r>
            <a:br>
              <a:rPr sz="2400"/>
            </a:b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        于是，皇帝脱光了衣服，只剩下内衣。两个骗子装模做样地一件一件为他上新衣服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12" descr=""/>
          <p:cNvPicPr/>
          <p:nvPr/>
        </p:nvPicPr>
        <p:blipFill>
          <a:blip r:embed="rId1"/>
          <a:stretch/>
        </p:blipFill>
        <p:spPr>
          <a:xfrm>
            <a:off x="996840" y="380880"/>
            <a:ext cx="6927840" cy="4400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838080" y="492444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 皇帝做了新衣服的消息很快便在老百姓中传开了。“嗨，听说皇帝的新衣服特别漂亮，叫人难以相信这是真的。”  “不错，而且更奇特的是傻瓜或者不诚实的人都看不见这衣服。”   游行终于开始了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13" descr=""/>
          <p:cNvPicPr/>
          <p:nvPr/>
        </p:nvPicPr>
        <p:blipFill>
          <a:blip r:embed="rId1"/>
          <a:stretch/>
        </p:blipFill>
        <p:spPr>
          <a:xfrm>
            <a:off x="1219320" y="449280"/>
            <a:ext cx="6629400" cy="46562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85800" y="52894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 就在这个时候，有个小孩突然叫了起来：“皇帝什么也没穿！”   小孩的父亲赶紧捂住他的嘴，说：“我的儿子是聪明诚实的。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14(1)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6553440" cy="4191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62120" y="52578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13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皇帝感到十分难堪，他这才觉得老百姓说的话才是对的。“这么说，我只穿着内衣在游行？哎呀！我是多么丢人啊！我该怎么办呢？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hddxz-01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010280" cy="4367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4920" y="56386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１、很久很久以前，在某个国家，有一个皇帝很喜欢新衣服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hddxz-02" descr=""/>
          <p:cNvPicPr/>
          <p:nvPr/>
        </p:nvPicPr>
        <p:blipFill>
          <a:blip r:embed="rId1"/>
          <a:stretch/>
        </p:blipFill>
        <p:spPr>
          <a:xfrm>
            <a:off x="990720" y="519120"/>
            <a:ext cx="6858000" cy="42051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33520" y="52894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２、于是，这两个骗子便在皇帝的一间大屋子里搭起织机，假装的很起劲的织起布来。</a:t>
            </a:r>
            <a:br>
              <a:rPr sz="2400"/>
            </a:b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　嘎嘎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......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嘎嘎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.....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04(1)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364440" cy="4100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62120" y="492444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过了一段时间，皇帝忍不住想去看看这种神奇的布料。他想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:“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现在布料应该快织完了吧！我是不是该去瞧一眼呢？”但是，他马上想起来了，任何不诚实或愚蠢的人是看不到这种布料的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05(2)" descr=""/>
          <p:cNvPicPr/>
          <p:nvPr/>
        </p:nvPicPr>
        <p:blipFill>
          <a:blip r:embed="rId1"/>
          <a:stretch/>
        </p:blipFill>
        <p:spPr>
          <a:xfrm>
            <a:off x="1817640" y="380880"/>
            <a:ext cx="5802480" cy="3819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09480" y="42670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于是，丞相走进了两个骗子织布的那个大屋子。“噢！上帝呀！快让我瞧一眼这布料吧！”宰相在心里祈祷着。宰相拼命睁大眼睛，好看清楚些。但是，织布机上空空荡荡，没有任何东西。“噢！我的天哪！我怎么什么东西也看不见呀？”骗子们在问他。“啊，哈……你觉得这布怎么样啊？”骗子在问他。“啊！难道这不是世界上最美的布料？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05" descr=""/>
          <p:cNvPicPr/>
          <p:nvPr/>
        </p:nvPicPr>
        <p:blipFill>
          <a:blip r:embed="rId1"/>
          <a:stretch/>
        </p:blipFill>
        <p:spPr>
          <a:xfrm>
            <a:off x="914400" y="520560"/>
            <a:ext cx="6934320" cy="4411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838080" y="56386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于是，他回来对皇帝说：“嗯……那可真是块漂亮精致的布料。哦，很快就要完工了。” 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05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010280" cy="44593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14400" y="5289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过了不久，皇帝心想，“不知那块布料织完了没有，我简直等不及了。嗯，我得另外派一个人去看看。”于是，他又派了一个大臣去，同样的事情又发生了。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08(1)" descr=""/>
          <p:cNvPicPr/>
          <p:nvPr/>
        </p:nvPicPr>
        <p:blipFill>
          <a:blip r:embed="rId1"/>
          <a:stretch/>
        </p:blipFill>
        <p:spPr>
          <a:xfrm>
            <a:off x="990720" y="336600"/>
            <a:ext cx="6933960" cy="4311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62120" y="4952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最后，皇帝决定要亲自去看看那块布料。于是，在许多大臣的簇拥下，皇帝来到骗子织布的地方。两个骗子假装干得比以前更卖力。 “啊，哈……陛下，您看这布料漂亮吗？”骗子们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09(1)" descr=""/>
          <p:cNvPicPr/>
          <p:nvPr/>
        </p:nvPicPr>
        <p:blipFill>
          <a:blip r:embed="rId1"/>
          <a:stretch/>
        </p:blipFill>
        <p:spPr>
          <a:xfrm>
            <a:off x="838080" y="549360"/>
            <a:ext cx="7239240" cy="4403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5800" y="54864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在游行的前夜，两个骗子忙了个通宵。他们摆出一副要按时赶好皇帝新衣的样子，整夜赶工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9T01:56:44Z</dcterms:created>
  <dc:creator>wutao</dc:creator>
  <dc:description/>
  <dc:language>en-US</dc:language>
  <cp:lastModifiedBy>yk</cp:lastModifiedBy>
  <dcterms:modified xsi:type="dcterms:W3CDTF">2004-03-24T02:56:39Z</dcterms:modified>
  <cp:revision>100</cp:revision>
  <dc:subject/>
  <dc:title>PowerPoint 演示文稿</dc:title>
</cp:coreProperties>
</file>