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59D-0A5C-44A4-B795-55B71075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38B-28A9-4CB8-917A-4150A496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D39-9818-437B-BC6B-5C3E0EB0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BCB-7FE1-48AF-B992-3A937AD3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574-7789-48F8-8FE2-9F830F79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7231-B59C-4590-B1CB-8D48F5D3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7842-42CE-424F-B862-787BC5C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6232-DB5D-4FAE-AF36-9F5D143A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CAC-E408-471C-9916-BC46E041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8DC7-5E29-4FAC-BF73-001BBC7D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E994-B60A-4338-ABC7-A5FD18E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D5B-ABD6-4023-A585-624993FA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9572-786D-4862-96A2-BD8D80D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F153-BB4C-4794-B07E-7202CD64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3CB-7754-4642-A0F1-BBE6A74B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2575-50D2-4440-B18D-7B5F5391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6CD-FE80-451D-8065-3D64BF97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F71-F289-4109-B96B-0A76B31A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D45-1934-4D6E-AF39-B32D206A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0AA-C6B3-46FF-B1C7-F24225BE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07E-6CB4-419E-8067-016E1EE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F4A-ED8B-4351-A86E-F91DEFF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141-689B-4414-A8AD-38FB511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54B-3480-40EC-8D81-F5AD690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70BD-4988-4D9D-AFDE-240CA20EAF01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1E0-A65F-462F-BD1F-474CE5AF96CD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41911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安徒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05" descr="05.gif (3516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hgs-01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315108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06" descr="06.gif (122176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141" name="thgs-01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24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08" descr="08.gif (3715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thgs-0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1510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hgs-01" descr=""/>
          <p:cNvPicPr/>
          <p:nvPr/>
        </p:nvPicPr>
        <p:blipFill>
          <a:blip r:embed="rId1"/>
          <a:stretch/>
        </p:blipFill>
        <p:spPr>
          <a:xfrm>
            <a:off x="2995560" y="228600"/>
            <a:ext cx="3151080" cy="1014480"/>
          </a:xfrm>
          <a:prstGeom prst="rect">
            <a:avLst/>
          </a:prstGeom>
          <a:ln w="0">
            <a:noFill/>
          </a:ln>
        </p:spPr>
      </p:pic>
      <p:pic>
        <p:nvPicPr>
          <p:cNvPr id="145" name="09" descr="09.gif (41271 bytes)"/>
          <p:cNvPicPr/>
          <p:nvPr/>
        </p:nvPicPr>
        <p:blipFill>
          <a:blip r:embed="rId2">
            <a:lum contrast="30000"/>
          </a:blip>
          <a:srcRect l="-32141" t="-32154" r="0" b="0"/>
          <a:stretch/>
        </p:blipFill>
        <p:spPr>
          <a:xfrm>
            <a:off x="-2971800" y="-2209680"/>
            <a:ext cx="12115800" cy="9067680"/>
          </a:xfrm>
          <a:prstGeom prst="rect">
            <a:avLst/>
          </a:prstGeom>
          <a:ln w="0">
            <a:noFill/>
          </a:ln>
        </p:spPr>
      </p:pic>
      <p:pic>
        <p:nvPicPr>
          <p:cNvPr id="146" name="thgs-01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0" descr="10.gif (37939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thgs-01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hgs-01" descr=""/>
          <p:cNvPicPr/>
          <p:nvPr/>
        </p:nvPicPr>
        <p:blipFill>
          <a:blip r:embed="rId1"/>
          <a:stretch/>
        </p:blipFill>
        <p:spPr>
          <a:xfrm>
            <a:off x="2995560" y="228600"/>
            <a:ext cx="3151080" cy="1014480"/>
          </a:xfrm>
          <a:prstGeom prst="rect">
            <a:avLst/>
          </a:prstGeom>
          <a:ln w="0">
            <a:noFill/>
          </a:ln>
        </p:spPr>
      </p:pic>
      <p:pic>
        <p:nvPicPr>
          <p:cNvPr id="150" name="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thgs-01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153" name="thgs-01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31510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3" descr="13.gif (4224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55" name="thgs-01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510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14" descr="14.gif (3922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thgs-01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15108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3049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阅读课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,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思考下列问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展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4495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看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爱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做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85800"/>
            <a:ext cx="36576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</a:rPr>
              <a:t>故事情节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200400"/>
            <a:ext cx="914400" cy="6094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267080"/>
            <a:ext cx="1219320" cy="6098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248520" y="3885840"/>
            <a:ext cx="68580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21932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童话是儿童文学的一种，简单地说就是用儿童的语言写给儿童看的故事。它通过丰富的</a:t>
            </a:r>
            <a:r>
              <a:rPr b="0" lang="zh-CN" sz="3200" spc="-1" strike="noStrike" u="sng">
                <a:solidFill>
                  <a:srgbClr val="333333"/>
                </a:solidFill>
                <a:uFillTx/>
                <a:latin typeface="Times New Roman"/>
                <a:ea typeface="隶书"/>
              </a:rPr>
              <a:t>想象、幻想和夸张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来塑造形象，反映生活，对儿童进行思想教育。            语言通俗易懂，情节曲折离奇，往往采用拟人的手法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a2" descr=""/>
          <p:cNvPicPr/>
          <p:nvPr/>
        </p:nvPicPr>
        <p:blipFill>
          <a:blip r:embed="rId1"/>
          <a:stretch/>
        </p:blipFill>
        <p:spPr>
          <a:xfrm>
            <a:off x="5654520" y="1905120"/>
            <a:ext cx="348948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457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5f271"/>
                </a:solidFill>
                <a:uFillTx/>
                <a:latin typeface="宋体"/>
              </a:rPr>
              <a:t>体裁介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808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、请问新装的魅力究竟何在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请同学们从文中找出相应的语句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752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任何不称职的或者愚蠢得不可救药的人，都看不见这件衣服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276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7180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、这一魅力让王国的人们受到了怎样的影响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457200" y="3562200"/>
            <a:ext cx="960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〉皇帝虽昏庸荒政但他想辨别出官员是否称职、是聪明还是愚蠢，以求保住皇位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〉大臣们只想证明自己是称职又聪明的，以保住官位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〉老百姓则想测验邻居的傻与笨，证明自己的聪明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9144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794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3794f"/>
                </a:solidFill>
                <a:latin typeface="宋体"/>
              </a:rPr>
              <a:t>、这篇课文的情节围绕一个“骗”字展开，请同学们说说文中各种人物是怎样围绕这个“骗”字进行活动的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505320"/>
            <a:ext cx="129564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81080" y="2286000"/>
            <a:ext cx="5181840" cy="3720960"/>
            <a:chOff x="1981080" y="2286000"/>
            <a:chExt cx="5181840" cy="3720960"/>
          </a:xfrm>
        </p:grpSpPr>
        <p:sp>
          <p:nvSpPr>
            <p:cNvPr id="179" name=""/>
            <p:cNvSpPr/>
            <p:nvPr/>
          </p:nvSpPr>
          <p:spPr>
            <a:xfrm>
              <a:off x="198108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62520" y="2286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9c974"/>
                  </a:solidFill>
                  <a:latin typeface="Times New Roman"/>
                </a:rPr>
                <a:t>大臣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百姓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5486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孩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95480" y="2742840"/>
            <a:ext cx="3124440" cy="2819520"/>
            <a:chOff x="2895480" y="2742840"/>
            <a:chExt cx="3124440" cy="2819520"/>
          </a:xfrm>
        </p:grpSpPr>
        <p:sp>
          <p:nvSpPr>
            <p:cNvPr id="184" name=""/>
            <p:cNvSpPr/>
            <p:nvPr/>
          </p:nvSpPr>
          <p:spPr>
            <a:xfrm flipH="1">
              <a:off x="2895480" y="4114800"/>
              <a:ext cx="914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05520" y="4114800"/>
              <a:ext cx="914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419720" y="2742840"/>
              <a:ext cx="0" cy="762120"/>
            </a:xfrm>
            <a:prstGeom prst="line">
              <a:avLst/>
            </a:prstGeom>
            <a:ln w="9360">
              <a:solidFill>
                <a:srgbClr val="69c9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9720" y="4800240"/>
              <a:ext cx="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4956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c974"/>
                </a:solidFill>
                <a:latin typeface="Times New Roman"/>
              </a:rPr>
              <a:t>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昏庸、愚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c974"/>
                </a:solidFill>
                <a:latin typeface="Times New Roman"/>
              </a:rPr>
              <a:t>虚伪、自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怕被嘲笑、怕被杀头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天真烂漫、无私无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8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990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本篇童话突出的两个写作手法是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_____;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文中是如何运用的，并说说它们的作用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57200" y="4692600"/>
            <a:ext cx="9220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6666ff"/>
                </a:solidFill>
                <a:latin typeface="宋体"/>
                <a:ea typeface="宋体"/>
              </a:rPr>
              <a:t>无情地鞭挞了至高无上的皇帝和道貌岸然的大臣，  辛辣地嘲笑了他们的愚蠢虚伪卑鄙自私，曲折地反映了现实生活，反映了封建王朝的腐朽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685800" y="266688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  <a:ea typeface="宋体"/>
              </a:rPr>
              <a:t>本文写出骗子用根本不存在的布料、衣服向皇帝行骗，写出皇帝和大臣们都甘愿受骗、并且骗人，最后写出皇帝赤裸全身在大街上游行，构成了丰富想象、大胆夸张的写作特点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0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838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838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夸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夸张与想象的手法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57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作用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flipH="1" flipV="1">
            <a:off x="2193840" y="2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066680"/>
            <a:ext cx="74674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力训练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9933ff"/>
                </a:solidFill>
                <a:latin typeface="Times New Roman"/>
                <a:ea typeface="隶书"/>
              </a:rPr>
              <a:t>请你给安徒生的《皇帝的新装》写个续篇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457200" y="3049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课后训练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华文彩云"/>
                <a:ea typeface="华文彩云"/>
              </a:rPr>
              <a:t>运用夸张，口头描述皇帝穿着新衣游行时装模作样的丑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a3" descr=""/>
          <p:cNvPicPr/>
          <p:nvPr/>
        </p:nvPicPr>
        <p:blipFill>
          <a:blip r:embed="rId1"/>
          <a:stretch/>
        </p:blipFill>
        <p:spPr>
          <a:xfrm>
            <a:off x="1447920" y="2151000"/>
            <a:ext cx="64767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8380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228600" y="838080"/>
            <a:ext cx="93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5f271"/>
                </a:solidFill>
                <a:uFillTx/>
                <a:latin typeface="宋体"/>
                <a:ea typeface="方正姚体"/>
              </a:rPr>
              <a:t>教学目标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理解童话的想象和夸张的艺术特点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能抓住人物的性格特征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3.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能从在中认识到封建统治者的愚蠢和虚           伪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82"/>
            </a:gs>
            <a:gs pos="100000">
              <a:srgbClr val="f8faf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1" descr="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5052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5680" y="1066680"/>
            <a:ext cx="4343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805~1875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全名是：汉斯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克利斯坦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安徒生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19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世纪丹麦文学巨匠，世界著名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童话作家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他的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余篇童话在近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年中被翻译成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年开始写童话，著名的童话有《丑小鸭》、《海的女儿》、《卖火柴的小女孩》、《夜莺》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皇帝的新装》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80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914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安徒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炫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耀   陛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下    御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聘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)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骇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人听闻    头衔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  )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滑稽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)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差大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72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920" y="762120"/>
            <a:ext cx="9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正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0"/>
            <a:ext cx="22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检查预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字多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词语解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钦差大臣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8560" y="4572000"/>
            <a:ext cx="154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衣（  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多（  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7150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自称（   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相称（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2120" y="1295280"/>
            <a:ext cx="6476760" cy="840960"/>
            <a:chOff x="762120" y="1295280"/>
            <a:chExt cx="6476760" cy="840960"/>
          </a:xfrm>
        </p:grpSpPr>
        <p:sp>
          <p:nvSpPr>
            <p:cNvPr id="103" name=""/>
            <p:cNvSpPr/>
            <p:nvPr/>
          </p:nvSpPr>
          <p:spPr>
            <a:xfrm>
              <a:off x="762120" y="1295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uàn</a:t>
              </a:r>
              <a:r>
                <a:rPr b="0" lang="zh-CN" sz="2400" spc="-1" strike="noStrike">
                  <a:solidFill>
                    <a:srgbClr val="333333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ｂ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3920" y="1295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ｙ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8320" y="1295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ì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ｎ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1295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ｈ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ｉ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1676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iá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1676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ｊ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ī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1676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ī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3716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由皇帝派遣，代表皇帝出外办理重大事件的官员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200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指官衔、学衔等称号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骇人听闻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0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头    衔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使人听了非常吃惊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多指社会上发生的坏事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。骇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震惊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572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4956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附和（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我和你（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638680"/>
            <a:ext cx="22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系鞋带（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联系（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572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ɡē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gè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chē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chè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4952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520" y="4495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 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6172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x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1752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457200" y="3048120"/>
            <a:ext cx="5121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861048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幼圆"/>
                <a:ea typeface="幼圆"/>
              </a:rPr>
              <a:t>看图片，观表演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注意情节和关键语句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hddxz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thgs-01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9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hddxz-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hddxz-02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thgs-01" descr=""/>
          <p:cNvPicPr/>
          <p:nvPr/>
        </p:nvPicPr>
        <p:blipFill>
          <a:blip r:embed="rId3"/>
          <a:stretch/>
        </p:blipFill>
        <p:spPr>
          <a:xfrm>
            <a:off x="6019920" y="304920"/>
            <a:ext cx="2895480" cy="9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thgs-01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9:27:02Z</dcterms:created>
  <dc:creator>wutao</dc:creator>
  <dc:description/>
  <dc:language>en-US</dc:language>
  <cp:lastModifiedBy>a</cp:lastModifiedBy>
  <dcterms:modified xsi:type="dcterms:W3CDTF">2003-12-03T13:27:37Z</dcterms:modified>
  <cp:revision>100</cp:revision>
  <dc:subject>版权所有，不得复制</dc:subject>
  <dc:title>皇帝的新装</dc:title>
</cp:coreProperties>
</file>