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8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11.jpeg" ContentType="image/jpeg"/>
  <Override PartName="/ppt/media/drumroll.wav" ContentType="audio/x-wav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20B-F88D-4D19-8B58-6ECB6251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5FF-3FC8-4674-9EE8-D52019CB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0B0-5A4D-4496-916C-910A3806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A72F-3B2E-45AC-8A78-40622A62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E643-1768-4BB2-9839-323F224C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057B-E90E-49D4-805B-3A5D3BE5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C763-7B80-4FCF-82A7-A76D9586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2DCB-28AE-408B-976E-46A905E8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B6F6-8615-493E-9B9F-28C4AA04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1617-4962-4ABD-A45D-A0AAF6C2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482D-8E27-4DC0-8549-F10987AF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8CB-CEA7-48AC-ACEF-F7E9F0AF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6312-8A71-4FCF-958A-270DE65A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55FB-BD25-4016-AFFA-A5F9D612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867E-C4E4-49E7-8899-8248BF84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5110-430F-4594-90A7-96786D20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0995-BEDA-49A3-B31E-B0DF0E81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616-2CA0-43B0-8A2A-593D39D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F2A-13B8-4EE0-AA4B-FB29F27A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C8F-93D3-450E-ABDC-66415271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BF7-8C7B-4E6C-BAAA-079421CA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4F9-C12C-4093-A174-EE1A23B6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755-298A-46FA-B23E-10CA9453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931-9AD4-4AE1-8218-10803C92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8CF5-0C71-4C56-BCB7-59F4D0637EA6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DBD4-EB46-4E82-8A4C-5E4AD39B17C7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audio" Target="../media/drumroll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295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皇帝的新装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895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安徒生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762120" y="3048120"/>
            <a:ext cx="380880" cy="304560"/>
          </a:xfrm>
          <a:prstGeom prst="flowChartConnector">
            <a:avLst/>
          </a:prstGeom>
          <a:solidFill>
            <a:srgbClr val="0000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内容结构关键词：</a:t>
            </a:r>
            <a:br>
              <a:rPr sz="36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治装费用：不惜  所有  花掉 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心思兴趣：既不…也不…  炫耀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换衣次数：每分钟  都  更衣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骗子投其所好：最美的布料  奇怪的特性 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皇帝：最理想  马上  付钱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老大臣看织布  什么也看不见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另一官员看织布   决不让人知道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皇帝亲自看织布：美极  满意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骗子装模作样：取  剪  裁缝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皇帝：脱下  扭  转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臣：称赞  华丽贵重  托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小孩天真说：他什么衣服也没有穿呀！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皇帝：发抖、摆出更神气的样子。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5040" y="1787400"/>
            <a:ext cx="455040" cy="22885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复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67560" y="44280"/>
            <a:ext cx="24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课本剧表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我也当一回演员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21560" y="44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讨论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76500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、骗子为什么用织新衣而不用别的手段来骗皇帝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二、皇帝想看新衣又不敢去看，心理描写一波三折，非常精彩。这些心理活动说明了什么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三、大臣、官员和皇帝都去看布料，场面相同，但写法却各不相同，它们不同在哪里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四、这场骗局为什么由一个孩子说出真相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五、请试着用一个字来概括本文的主要内容，用一个词概括文中各色人等的性格特点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ba76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743200" y="25909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骗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895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骗子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3200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小孩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1676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官员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1752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百姓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7621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皇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27672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1371600"/>
            <a:ext cx="0" cy="1295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2133720"/>
            <a:ext cx="685800" cy="685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76920" y="2209680"/>
            <a:ext cx="91440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57200" y="4114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狡猾无比）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114800"/>
            <a:ext cx="5791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私、虚伪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愚蠢、自欺欺人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4191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无私无畏）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4920" y="1197000"/>
            <a:ext cx="7956720" cy="29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br>
              <a:rPr sz="5400"/>
            </a:b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皇帝——骄奢淫逸，愚蠢虚荣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大臣——阿谀奉承，虚伪自私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小孩——天真无邪，纯洁无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381560" y="4292640"/>
            <a:ext cx="4762440" cy="256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867280" y="12600"/>
            <a:ext cx="3241800" cy="2192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4920" y="-2700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-36360" y="4292640"/>
            <a:ext cx="4464000" cy="2592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3132000" y="-2700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15400" y="731880"/>
            <a:ext cx="53132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中   心</a:t>
            </a:r>
            <a:br>
              <a:rPr sz="4800"/>
            </a:b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通过描写一个昏庸无能而又穷奢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极欲的皇帝受骗上当的故事，揭露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讽刺了封建王朝和至高无上的皇帝及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一群道貌岸然的大臣的愚蠢、卑鄙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虚伪和自欺欺人的丑行，告诉人们应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保持童心说真话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31080" y="73080"/>
            <a:ext cx="1521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各抒己见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83800" y="137484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觉得这篇童话好不好？为什么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本文在写法上有什么特点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66680" y="121932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7905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三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强调的重点是“除非是为了去炫耀一下他的衣服”，说明皇帝什么也不喜欢，什么都不关心，只在乎他的新衣服。这句夸张把皇帝爱穿新衣的癖好强调到了极点。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00" y="27036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皇帝自己其实心虚，也很害怕自己看不见，被人知道自己是一个不称职的皇帝，而且对自己是否聪明也不自信，所以他想起这句话，心理感到“不大自然”。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3894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突出了皇帝极端恐惧的心理。他什么也看不见，嘴上却极力赞美，心里想的和嘴里说的完全相反，表现了皇帝的虚伪和骄傲。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6400" y="609768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目的是为了掩饰自己内心的恐慌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关于童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童话是儿童文学的一种。这种作品通过丰富的想象、幻想和夸张来塑造形象，反映生活，对儿童进行思想教育。语言通俗、生动，故事情节往往离奇曲折，引人入胜。童话往往采用拟人的方法，举凡鸟兽虫鱼，花草树木，整个大自然以及家具、玩具都可赋予生命，注入思想感情，使它们人格化。童话又分两种，一种与寓言相近，每篇说明一个道理，这一类比较浅显；另一种与小说相近，并不直接说明一个道理，而是揭示生活中的美和丑，真和假，善和恶，这一类比较深些。这篇《皇帝的新装》和安徒生的其他许多童话属于后者。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61040" y="620640"/>
            <a:ext cx="56185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写联想、想像类作文的方法和技巧总结：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首先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要敢想，不要有思想顾虑，想错不要紧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总结经验教训，练得多了，自然就有方法了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其次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要打破习惯性思维，敢于纵向、横向联系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广泛联系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能够迁移思维，即把自己阅读过的神话、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说、寓言、故事、神妖和鬼怪等故事迁移到自己的想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作文中赋予它们新的品质，新的性格，新的形象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四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想像的内容表达的主题要鲜明，并且与现实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联系起来，让人知道你在讽刺什么，反对什么，肯定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么，赞扬什么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495680" cy="617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95680" y="3581280"/>
            <a:ext cx="4648320" cy="327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95680" y="685800"/>
            <a:ext cx="4648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115920"/>
            <a:ext cx="86407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思维体操</a:t>
            </a:r>
            <a:br>
              <a:rPr sz="36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完成下面的对联：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①教一群学生，拂两袖清风；                   ，想四化大业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②驰笔常苦夏日短，                            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仿照下面两个比喻句的句式，分别以“快乐”和“悲伤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开头，写两个句式相同的比喻句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成功是你梦寐以求的那朵红玫瑰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挫折正是那遍及周围的针刺。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不超过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60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个字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76000" y="119700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站三尺讲台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81800" y="161460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展卷不厌冬夜长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1400" y="3933720"/>
            <a:ext cx="498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快乐像太阳周围的五彩光环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悲伤正是那五彩光环中的黑子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意思对即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41912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     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安徒生，丹麦著名童话作家。生于鞋匠家庭。童年生活穷苦。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35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开始写童话，共写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8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篇。著名的有《丑小鸭》《皇帝的新装》《卖火柴的小女孩》《海的女儿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8153280" y="5943600"/>
            <a:ext cx="762120" cy="914400"/>
          </a:xfrm>
          <a:custGeom>
            <a:avLst/>
            <a:gdLst>
              <a:gd name="textAreaLeft" fmla="*/ 101880 w 762120"/>
              <a:gd name="textAreaRight" fmla="*/ 660240 w 7621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10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写作背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篇童话写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83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世纪末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世纪初，西欧资本主义得到迅速发展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而处于北欧的丹麦却还是个君主立宪国家。拿破仑战争最激烈的时候，丹麦统治阶级利用英法矛盾，以中立地位大搞海上粮食贸易，引起英国不满，英国要求丹麦交出从事贸易的舰队和商船，成为英国的附庸国。丹麦拒绝了这一要求，英军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80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炮击哥本哈根，摧毁了丹麦的舰队，丹麦便由中立倒向拿破仑一边，成为交战国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后，拿破仑战败，丹麦也因成为战败国而失去广大土地，耗尽了钱财，银行倒闭，农村萧条，刚刚兴起的小型工业也全部破产，丹麦最终成了英国的附属国。丹麦人民身受本国封建阶级和英国资产阶级的双重剥削，过着饥寒交迫的贫困生活，而封建阶级则穷奢极欲，挥霍无度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3800" y="4797360"/>
            <a:ext cx="579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面对这样的社会现实，安徒生根据西班牙民间故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改编了《皇帝的新装》，把揭露的锋芒直指封建阶级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头子，无情地嘲讽了贵族、宫廷的丑恶行径，深刻的解剖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了当时社会的病状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84360" y="63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听读课文，注意生字生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69037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1258920"/>
            <a:ext cx="868680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炫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耀         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称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职            滑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稽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陛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          头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衔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骇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人听闻   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钦差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臣               随声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附和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685800"/>
            <a:ext cx="7772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xu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à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n             chèn                       jī  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77320" y="5867280"/>
            <a:ext cx="533160" cy="457200"/>
          </a:xfrm>
          <a:custGeom>
            <a:avLst/>
            <a:gdLst>
              <a:gd name="textAreaLeft" fmla="*/ 93240 w 533160"/>
              <a:gd name="textAreaRight" fmla="*/ 386640 w 5331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7432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bì                     xián        hài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02596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qīn  chāi                                  fù  hè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25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称职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chèn zhí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思想水平和工作能力都能胜任所担任的职务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滑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稽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huá j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ī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（言语、动作）引人发笑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骇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(hài)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人听闻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使人听了非常吃惊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随声附和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(hè)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别人说什么，自己跟着说什么，没有主见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不可救药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病重到不可救治，比喻人或事坏到无法挽救的地步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735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旁白：如作者给孩子讲故事，语气亲切、自然、         语调平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676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皇帝：微胖、富态，语调傲慢，神情自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179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骗子：油头滑脑，油腔滑调，阿谀逢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261144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老大臣：年迈苍老，语调迟缓，故作镇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3187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诚实的官员：毕恭毕敬，狡猾，故作姿态，语调低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378936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骑士们：庸庸碌碌，阿谀逢迎，随声附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340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典礼官：讨好皇帝，语调温柔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4916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百姓们：不敢说真话，心里却明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549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小孩子： 无所顾忌，   天真单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8000" y="1557360"/>
            <a:ext cx="64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角色朗读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课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文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3720" y="5775480"/>
            <a:ext cx="22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请思考文章的线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是什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0020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皇帝的新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1371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爱新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2133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做新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3200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看新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4343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穿新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4800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</a:t>
            </a: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展新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5638680"/>
            <a:ext cx="457200" cy="609840"/>
          </a:xfrm>
          <a:custGeom>
            <a:avLst/>
            <a:gdLst>
              <a:gd name="textAreaLeft" fmla="*/ 152280 w 457200"/>
              <a:gd name="textAreaRight" fmla="*/ 391680 w 45720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8640" y="660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文章线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01:39:14Z</dcterms:created>
  <dc:creator>wutao</dc:creator>
  <dc:description/>
  <dc:language>en-US</dc:language>
  <cp:lastModifiedBy>645y</cp:lastModifiedBy>
  <dcterms:modified xsi:type="dcterms:W3CDTF">2003-11-10T00:07:51Z</dcterms:modified>
  <cp:revision>100</cp:revision>
  <dc:subject/>
  <dc:title>PowerPoint 演示文稿</dc:title>
</cp:coreProperties>
</file>