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type.wav" ContentType="audio/x-wav"/>
  <Override PartName="/ppt/media/image6.jpeg" ContentType="image/jpeg"/>
  <Override PartName="/ppt/media/chimes.wav" ContentType="audio/x-wav"/>
  <Override PartName="/ppt/media/image16.png" ContentType="image/png"/>
  <Override PartName="/ppt/media/image5.jpeg" ContentType="image/jpeg"/>
  <Override PartName="/ppt/media/cashreg.wav" ContentType="audio/x-wav"/>
  <Override PartName="/ppt/media/image13.png" ContentType="image/png"/>
  <Override PartName="/ppt/media/image4.jpeg" ContentType="image/jpeg"/>
  <Override PartName="/ppt/media/image21.jpeg" ContentType="image/jpeg"/>
  <Override PartName="/ppt/media/image20.gif" ContentType="image/gif"/>
  <Override PartName="/ppt/media/image18.jpeg" ContentType="image/jpeg"/>
  <Override PartName="/ppt/media/image12.png" ContentType="image/png"/>
  <Override PartName="/ppt/media/image17.wmf" ContentType="image/x-wmf"/>
  <Override PartName="/ppt/media/explode.wav" ContentType="audio/x-wav"/>
  <Override PartName="/ppt/media/image14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drumroll.wav" ContentType="audio/x-wav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F09-E8E2-403E-87C3-BDFDE7E6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F84-F870-4B5D-9B40-AC85A223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61B-A38E-4057-9070-AF978020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389-1C25-4712-85EA-1F6AFCE0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6186-4463-4510-88FA-391F870E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0AE1-3526-4820-B21E-ECC1183C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47BB-0C68-4D67-945F-9BF6C9BE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7CF1-8BB6-4435-B429-F80D1E42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5B5B-8624-45B5-BA4A-BF78A48D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A895-1F84-457F-AB18-94C504BF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3FA6-9EF1-4F34-92A1-6E11499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088-D1B4-42DF-80FD-FCD4BF91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E948-EFFC-4F9B-88C1-A48D0851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FF51-C311-4803-A752-40B269CD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619F-34C7-46E9-949D-C7BE193F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8BD2-1629-427D-877A-057C290D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2940-7938-422D-817A-BB2DC6F9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894-B410-4C9F-8CAD-0E750211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449-A094-4DEF-9398-D07BCA1A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3A1-E6FD-421B-AD6B-602EA713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B07-FE84-435E-B2B4-4EA4483C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5BB-341A-4519-AC72-982F9548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006-7631-4954-A608-1291D3E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7A4-A19B-43AB-87B9-4A844EEF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8D4C-0B73-4A5B-8AF2-DBE22CC01A6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D21E-5A32-47B8-AD63-7FA9456E5A8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533520" y="-15840"/>
            <a:ext cx="9906120" cy="786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19320" y="277344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752480"/>
            <a:ext cx="78105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华文行楷"/>
              </a:rPr>
              <a:t>、在根本不存在的“新装”面前，皇帝、老大臣、“另外一位诚实的官员”，甚至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老百姓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华文行楷"/>
              </a:rPr>
              <a:t>都不敢说真话。想一想他们不敢说真话的原因是什么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华文行楷"/>
              </a:rPr>
              <a:t>、小孩子为什么敢说真话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436680"/>
            <a:ext cx="56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c5900"/>
                </a:solidFill>
                <a:latin typeface="Arial"/>
                <a:ea typeface="华文行楷"/>
              </a:rPr>
              <a:t>思考与讨论：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原因是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1337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84464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老大臣、“另外一位诚实的</a:t>
            </a:r>
            <a:br>
              <a:rPr sz="4000"/>
            </a:b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官员”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620640"/>
            <a:ext cx="26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皇帝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0"/>
            <a:ext cx="440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有皇冠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——怕别人说自己愚蠢、不称职，也怕丢了王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2124000" cy="1439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2124000" cy="136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27640" y="242100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有官职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——怕被别人说愚蠢、不称职，怕丢掉官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067280" cy="1584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00360" y="42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63927"/>
                </a:solidFill>
                <a:latin typeface="Arial"/>
              </a:rPr>
              <a:t>老百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429264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有私心杂念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——怕别　　　　人嘲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5300640"/>
            <a:ext cx="2195640" cy="1557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7280" y="580536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63927"/>
                </a:solidFill>
                <a:latin typeface="Arial"/>
              </a:rPr>
              <a:t>小孩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5805360"/>
            <a:ext cx="45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天真烂漫、无私无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62520" y="2514600"/>
            <a:ext cx="1676160" cy="17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259092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骗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404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小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981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（天真诚实无私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1700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125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皇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628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（虚荣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844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42926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大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3933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（自私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209680"/>
            <a:ext cx="7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08720" y="2421000"/>
            <a:ext cx="358560" cy="3096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580000" y="3789360"/>
            <a:ext cx="504720" cy="287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565360"/>
            <a:ext cx="504720" cy="289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73408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百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51814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（畏权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724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788000" y="4365720"/>
            <a:ext cx="0" cy="4572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788000" y="4365720"/>
            <a:ext cx="0" cy="4572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76720" y="3933360"/>
            <a:ext cx="574560" cy="3589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941720"/>
            <a:ext cx="22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骗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4581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狡猾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08080" y="4116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76360" y="404640"/>
            <a:ext cx="6120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请根据童话内容给课文加一个副标题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一个</a:t>
            </a:r>
            <a:r>
              <a:rPr b="1" lang="zh-CN" sz="4000" spc="-1" strike="noStrike" u="sng">
                <a:solidFill>
                  <a:srgbClr val="dc59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的皇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横线上填一个词语来概括皇帝的特点，最好能结合课文做些解释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629400" y="68580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58920" y="494172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皇帝：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楷体_GB2312"/>
              </a:rPr>
              <a:t>昏庸、愚蠢、虚　　　伪、狡猾、自欺欺人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0"/>
            <a:ext cx="8893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布置作业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　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读一读，写一写　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　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为本文写一个续篇，想象和夸</a:t>
            </a:r>
            <a:br>
              <a:rPr sz="3600"/>
            </a:b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张的色彩越浓越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66294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3500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隶书"/>
                <a:ea typeface="隶书"/>
              </a:rPr>
              <a:t>安徒生</a:t>
            </a:r>
            <a:r>
              <a:rPr b="0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1805—1875</a:t>
            </a:r>
            <a:r>
              <a:rPr b="0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，是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19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世纪</a:t>
            </a:r>
            <a:r>
              <a:rPr b="1" lang="zh-CN" sz="3600" spc="-1" strike="noStrike">
                <a:solidFill>
                  <a:srgbClr val="dc5900"/>
                </a:solidFill>
                <a:latin typeface="隶书"/>
                <a:ea typeface="隶书"/>
              </a:rPr>
              <a:t>丹　　　　　麦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著名的</a:t>
            </a:r>
            <a:r>
              <a:rPr b="1" lang="zh-CN" sz="3600" spc="-1" strike="noStrike">
                <a:solidFill>
                  <a:srgbClr val="dc5900"/>
                </a:solidFill>
                <a:latin typeface="隶书"/>
                <a:ea typeface="隶书"/>
              </a:rPr>
              <a:t>童话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作家。一生共写了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168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篇优美童话。有</a:t>
            </a:r>
            <a:r>
              <a:rPr b="1" lang="zh-CN" sz="3600" spc="-1" strike="noStrike">
                <a:solidFill>
                  <a:srgbClr val="dc5900"/>
                </a:solidFill>
                <a:latin typeface="隶书"/>
                <a:ea typeface="隶书"/>
              </a:rPr>
              <a:t>《卖火柴的小女孩》，《海的女儿》，《丑小鸭》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16360" y="549360"/>
            <a:ext cx="2952720" cy="29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19320" y="14479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皇帝的新装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35053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安徒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1523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760" y="419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773360"/>
            <a:ext cx="7925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本文体裁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49228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童话是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儿童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文学的一种。这种作品通过丰富的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想象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、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幻想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大胆的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夸张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来塑造形象，反映生活，对儿童进行思想教育。语言通俗、生动，故事情节往离奇曲折 ，引人入胜。童话又往往采用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拟人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的方法，举凡鸟兽虫鱼，花草树木，整个大自然以及家具、玩具都可赋予生命，注入思想感情，使它们人格化。</a:t>
            </a:r>
            <a:r>
              <a:rPr b="0" lang="zh-CN" sz="3200" spc="-1" strike="noStrike">
                <a:solidFill>
                  <a:srgbClr val="3366ff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0680" y="1758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童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838080"/>
          </a:xfrm>
          <a:prstGeom prst="rect">
            <a:avLst/>
          </a:prstGeom>
          <a:solidFill>
            <a:srgbClr val="dfc0e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写作背景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8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世纪末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9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世纪初，丹麦人民生活在水深火热之中，封建统治阶级则穷奢（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shē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极欲，挥霍无度。面对这样的现实，安徒生根据西班牙的民间故事改编，创作了本文，揭露了贵族阶层的阿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(ē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(yú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奉承和虚伪透顶，深刻地解剖了当时的社会的病状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41560" y="131616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460520"/>
            <a:ext cx="792504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看图片复述故事，要求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、按爱新装～做新装～看新装～穿新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装～展新装的顺序复述，主要情节不能遗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华文中宋"/>
                <a:ea typeface="华文中宋"/>
              </a:rPr>
              <a:t>、态度自然，口齿清楚，力求生动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爱新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76720" y="69228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300720" y="76500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11280" y="4005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932360" y="4149720"/>
            <a:ext cx="3168720" cy="2394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8784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-2052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做新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5440" y="-20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看新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3357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穿新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1800" y="3363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展新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2924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被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圈套套住的有哪些人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4000" y="3860640"/>
            <a:ext cx="1944000" cy="2495880"/>
            <a:chOff x="324000" y="3860640"/>
            <a:chExt cx="1944000" cy="249588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324000" y="3860640"/>
              <a:ext cx="1944000" cy="19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4000" y="5835960"/>
              <a:ext cx="19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164360" y="3789360"/>
            <a:ext cx="1726920" cy="2638800"/>
            <a:chOff x="7164360" y="3789360"/>
            <a:chExt cx="1726920" cy="263880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7164360" y="3789360"/>
              <a:ext cx="1726920" cy="20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619760" y="5907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老百姓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627280" y="3789360"/>
            <a:ext cx="1944360" cy="2698920"/>
            <a:chOff x="2627280" y="3789360"/>
            <a:chExt cx="1944360" cy="2698920"/>
          </a:xfrm>
        </p:grpSpPr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2627280" y="3789360"/>
              <a:ext cx="1944360" cy="208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190680" y="5967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老大臣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859280" y="3773520"/>
            <a:ext cx="1942920" cy="2660040"/>
            <a:chOff x="4859280" y="3773520"/>
            <a:chExt cx="1942920" cy="2660040"/>
          </a:xfrm>
        </p:grpSpPr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4859280" y="3773520"/>
              <a:ext cx="1942920" cy="20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974120" y="5913000"/>
              <a:ext cx="171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诚实的官员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96712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90792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0464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c5900"/>
                </a:solidFill>
                <a:latin typeface="Arial"/>
                <a:ea typeface="华文行楷"/>
              </a:rPr>
              <a:t>圈套：</a:t>
            </a:r>
            <a:r>
              <a:rPr b="1" i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“任何不称职的或愚蠢得不可救药的人，都看不见这衣服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62520" y="2514600"/>
            <a:ext cx="1676160" cy="17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259092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骗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1125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小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1700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141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皇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1844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4292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大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933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209680"/>
            <a:ext cx="7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508720" y="2421000"/>
            <a:ext cx="358560" cy="3096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580000" y="3789360"/>
            <a:ext cx="504720" cy="287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2565360"/>
            <a:ext cx="504720" cy="289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558972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百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724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4365720"/>
            <a:ext cx="0" cy="4572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4365720"/>
            <a:ext cx="0" cy="4572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76720" y="3933360"/>
            <a:ext cx="574560" cy="3589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骗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08080" y="4116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1:23:14Z</dcterms:created>
  <dc:creator>wutao</dc:creator>
  <dc:description/>
  <dc:language>en-US</dc:language>
  <cp:lastModifiedBy>a</cp:lastModifiedBy>
  <dcterms:modified xsi:type="dcterms:W3CDTF">2003-12-14T15:00:31Z</dcterms:modified>
  <cp:revision>100</cp:revision>
  <dc:subject/>
  <dc:title>幻灯片 1</dc:title>
</cp:coreProperties>
</file>