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6.jpeg" ContentType="image/jpeg"/>
  <Override PartName="/ppt/media/setup0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20.jpeg" ContentType="image/jpeg"/>
  <Override PartName="/ppt/media/image22.jpeg" ContentType="image/jpeg"/>
  <Override PartName="/ppt/media/image7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9.jpeg" ContentType="image/jpeg"/>
  <Override PartName="/ppt/media/drumroll.wav" ContentType="audio/x-wav"/>
  <Override PartName="/ppt/media/image24.jpeg" ContentType="image/jpeg"/>
  <Override PartName="/ppt/media/image33.png" ContentType="image/png"/>
  <Override PartName="/ppt/media/image8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93E-9DA0-41CC-B5D1-9B90DED0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3D6-9D82-4B0E-B381-0FE0EC98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8AA-44D7-4B83-8515-C486DF39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EF9-1C1D-42A8-8A55-E1FB8812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6970-70F3-435C-9BD3-38AA43CA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35A8-3096-4BC8-B1B8-79B747F0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39D4-1D8D-47B1-8A03-36900AD6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98EA-3EE0-44E2-895A-B2FAAF1A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9F03-7E16-449D-ADF3-46AB5663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B5B1-6306-442E-8487-D8645DE3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6B8-3C19-446B-BCCC-50B1264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BAA-4D8B-4A5D-BE07-69BB7A3B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FCE6-0079-4BED-943F-1C4ED44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6FA1-F029-40A7-BEC4-EFD2F5F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19BD-BF89-49DC-A718-B4A5D320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108E-F345-4C02-A1D3-D2D9307C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3029-57A0-43D4-A08A-D1FAC3CF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6AF-2776-47B7-902A-B121E6FF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0B6-9DF4-496B-AD72-43B1E23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349-3FCB-4CA6-8233-700E5A75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072-99AB-41D3-A595-4E98471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800-B77A-45D2-A191-0D74F909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8D3-02AC-4A6D-878F-E3F0663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CC1-5758-42FA-9B30-6B6A19B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1CA-CD19-4052-903B-82CC4F4591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1419-505A-4C58-8937-1207A411E43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etup0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6600"/>
                </a:solidFill>
                <a:latin typeface="Times New Roman"/>
                <a:ea typeface="华文琥珀"/>
              </a:rPr>
              <a:t>皇帝的新装</a:t>
            </a:r>
            <a:endParaRPr b="0" lang="en-US" sz="9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61722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6172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53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53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皇帝的新装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373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对人物的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心理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描写来塑造人物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想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夸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写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童话的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81480" y="2684520"/>
            <a:ext cx="3733920" cy="3335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5312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1437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1624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08000" y="333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阅读课文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思考下列问题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按照皇帝“爱新装——做新装——看新装——展新装”的顺序，理清本文结构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4000" y="3068640"/>
            <a:ext cx="1981080" cy="1495800"/>
            <a:chOff x="324000" y="3068640"/>
            <a:chExt cx="1981080" cy="1495800"/>
          </a:xfrm>
        </p:grpSpPr>
        <p:sp>
          <p:nvSpPr>
            <p:cNvPr id="155" name=""/>
            <p:cNvSpPr/>
            <p:nvPr/>
          </p:nvSpPr>
          <p:spPr>
            <a:xfrm>
              <a:off x="628560" y="398304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第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80" y="3525840"/>
              <a:ext cx="152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爱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306864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、引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68360" y="3068640"/>
            <a:ext cx="2173320" cy="1495800"/>
            <a:chOff x="2268360" y="3068640"/>
            <a:chExt cx="2173320" cy="1495800"/>
          </a:xfrm>
        </p:grpSpPr>
        <p:sp>
          <p:nvSpPr>
            <p:cNvPr id="159" name=""/>
            <p:cNvSpPr/>
            <p:nvPr/>
          </p:nvSpPr>
          <p:spPr>
            <a:xfrm>
              <a:off x="2612880" y="398304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2-4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68520" y="3525840"/>
              <a:ext cx="147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做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8360" y="306864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二、开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60960" y="3087720"/>
            <a:ext cx="2182680" cy="1495440"/>
            <a:chOff x="4260960" y="3087720"/>
            <a:chExt cx="2182680" cy="1495440"/>
          </a:xfrm>
        </p:grpSpPr>
        <p:sp>
          <p:nvSpPr>
            <p:cNvPr id="163" name=""/>
            <p:cNvSpPr/>
            <p:nvPr/>
          </p:nvSpPr>
          <p:spPr>
            <a:xfrm>
              <a:off x="4489560" y="3544560"/>
              <a:ext cx="15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看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00720" y="400176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5-22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0960" y="3087720"/>
              <a:ext cx="218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、发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300720" y="3138480"/>
            <a:ext cx="2646360" cy="1444680"/>
            <a:chOff x="6300720" y="3138480"/>
            <a:chExt cx="2646360" cy="1444680"/>
          </a:xfrm>
        </p:grpSpPr>
        <p:sp>
          <p:nvSpPr>
            <p:cNvPr id="167" name=""/>
            <p:cNvSpPr/>
            <p:nvPr/>
          </p:nvSpPr>
          <p:spPr>
            <a:xfrm>
              <a:off x="6930720" y="35701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展新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720" y="313848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、高潮结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3560" y="4001760"/>
              <a:ext cx="13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3-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末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560920" cy="25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86950"/>
                </a:solidFill>
                <a:latin typeface="Times New Roman"/>
              </a:rPr>
              <a:t>就课文中的任一细节展开活动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672000" y="3429000"/>
            <a:ext cx="547200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如：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、用画笔描绘衣着漂 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亮，爱打扮的皇帝；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、以小品的形式表演课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文中的一段对话；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、饱含感情地背诵文中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786950"/>
                </a:solidFill>
                <a:latin typeface="Times New Roman"/>
              </a:rPr>
              <a:t>人物的心理活动。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700360" y="333360"/>
            <a:ext cx="5562360" cy="1447920"/>
            <a:chOff x="2700360" y="333360"/>
            <a:chExt cx="5562360" cy="1447920"/>
          </a:xfrm>
        </p:grpSpPr>
        <p:sp>
          <p:nvSpPr>
            <p:cNvPr id="173" name=""/>
            <p:cNvSpPr/>
            <p:nvPr/>
          </p:nvSpPr>
          <p:spPr>
            <a:xfrm>
              <a:off x="2700360" y="333360"/>
              <a:ext cx="5481720" cy="1447920"/>
            </a:xfrm>
            <a:prstGeom prst="flowChartPunchedTape">
              <a:avLst/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0360" y="747000"/>
              <a:ext cx="5562360" cy="642600"/>
            </a:xfrm>
            <a:prstGeom prst="rect">
              <a:avLst/>
            </a:prstGeom>
            <a:solidFill>
              <a:srgbClr val="727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9e2b6"/>
                  </a:solidFill>
                  <a:latin typeface="Times New Roman"/>
                </a:rPr>
                <a:t>本文的故事线索是什么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08360" y="2924280"/>
            <a:ext cx="3057120" cy="2133360"/>
            <a:chOff x="3708360" y="2924280"/>
            <a:chExt cx="3057120" cy="2133360"/>
          </a:xfrm>
        </p:grpSpPr>
        <p:sp>
          <p:nvSpPr>
            <p:cNvPr id="176" name=""/>
            <p:cNvSpPr/>
            <p:nvPr/>
          </p:nvSpPr>
          <p:spPr>
            <a:xfrm>
              <a:off x="3708360" y="2924280"/>
              <a:ext cx="3057120" cy="2133360"/>
            </a:xfrm>
            <a:custGeom>
              <a:avLst/>
              <a:gdLst>
                <a:gd name="textAreaLeft" fmla="*/ 764280 w 3057120"/>
                <a:gd name="textAreaRight" fmla="*/ 2292840 w 3057120"/>
                <a:gd name="textAreaTop" fmla="*/ 533160 h 2133360"/>
                <a:gd name="textAreaBottom" fmla="*/ 160020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2640" y="3609720"/>
              <a:ext cx="1834200" cy="825120"/>
            </a:xfrm>
            <a:prstGeom prst="rect">
              <a:avLst/>
            </a:prstGeom>
            <a:solidFill>
              <a:srgbClr val="727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e9e2b6"/>
                  </a:solidFill>
                  <a:latin typeface="Times New Roman"/>
                </a:rPr>
                <a:t>新装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76360" y="3500280"/>
            <a:ext cx="1811520" cy="119124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皇帝爱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060640"/>
            <a:ext cx="3336840" cy="6426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骗子做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2-5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3429000"/>
            <a:ext cx="1944720" cy="119124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大臣看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5-22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5300640"/>
            <a:ext cx="3687840" cy="6426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皇帝穿（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23-36</a:t>
            </a:r>
            <a:r>
              <a:rPr b="1" lang="zh-CN" sz="3600" spc="-1" strike="noStrike">
                <a:solidFill>
                  <a:srgbClr val="e9e2b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835280" y="333360"/>
            <a:ext cx="6553080" cy="3200400"/>
            <a:chOff x="1835280" y="333360"/>
            <a:chExt cx="6553080" cy="3200400"/>
          </a:xfrm>
        </p:grpSpPr>
        <p:sp>
          <p:nvSpPr>
            <p:cNvPr id="183" name=""/>
            <p:cNvSpPr/>
            <p:nvPr/>
          </p:nvSpPr>
          <p:spPr>
            <a:xfrm>
              <a:off x="1835280" y="333360"/>
              <a:ext cx="6553080" cy="3200400"/>
            </a:xfrm>
            <a:prstGeom prst="flowChartPunchedTape">
              <a:avLst/>
            </a:prstGeom>
            <a:solidFill>
              <a:srgbClr val="7869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11600" y="1019160"/>
              <a:ext cx="6324480" cy="581400"/>
            </a:xfrm>
            <a:prstGeom prst="rect">
              <a:avLst/>
            </a:prstGeom>
            <a:solidFill>
              <a:srgbClr val="786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9e2b6"/>
                  </a:solidFill>
                  <a:latin typeface="Times New Roman"/>
                </a:rPr>
                <a:t>请用一个字概括《皇帝的新装》这一故事。是我们大家一看到这个字就会想起这个故事，一想起这个故事，就会想到这个字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92360" y="4221000"/>
            <a:ext cx="6933960" cy="1981440"/>
            <a:chOff x="1692360" y="4221000"/>
            <a:chExt cx="6933960" cy="1981440"/>
          </a:xfrm>
        </p:grpSpPr>
        <p:sp>
          <p:nvSpPr>
            <p:cNvPr id="186" name=""/>
            <p:cNvSpPr/>
            <p:nvPr/>
          </p:nvSpPr>
          <p:spPr>
            <a:xfrm>
              <a:off x="1692360" y="4221000"/>
              <a:ext cx="6933960" cy="1981440"/>
            </a:xfrm>
            <a:prstGeom prst="cloudCallout">
              <a:avLst>
                <a:gd name="adj1" fmla="val 9796"/>
                <a:gd name="adj2" fmla="val -10168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1320" y="4830840"/>
              <a:ext cx="51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大家讨论，看看用哪个字最恰当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987640" y="2565360"/>
            <a:ext cx="2133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骗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26920" y="2276640"/>
            <a:ext cx="2819160" cy="1487160"/>
            <a:chOff x="826920" y="2276640"/>
            <a:chExt cx="2819160" cy="1487160"/>
          </a:xfrm>
        </p:grpSpPr>
        <p:grpSp>
          <p:nvGrpSpPr>
            <p:cNvPr id="190" name=""/>
            <p:cNvGrpSpPr/>
            <p:nvPr/>
          </p:nvGrpSpPr>
          <p:grpSpPr>
            <a:xfrm>
              <a:off x="826920" y="2276640"/>
              <a:ext cx="839160" cy="1487160"/>
              <a:chOff x="826920" y="2276640"/>
              <a:chExt cx="839160" cy="1487160"/>
            </a:xfrm>
          </p:grpSpPr>
          <p:pic>
            <p:nvPicPr>
              <p:cNvPr id="191" name="" descr="10.gif (37939 bytes)"/>
              <p:cNvPicPr/>
              <p:nvPr/>
            </p:nvPicPr>
            <p:blipFill>
              <a:blip r:embed="rId1"/>
              <a:srcRect l="55296" t="0" r="22357" b="29010"/>
              <a:stretch/>
            </p:blipFill>
            <p:spPr>
              <a:xfrm>
                <a:off x="925200" y="2276640"/>
                <a:ext cx="740880" cy="14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826920" y="2809440"/>
                <a:ext cx="194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骗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966680" y="3571560"/>
              <a:ext cx="16794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06680" y="2809440"/>
              <a:ext cx="65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40000" y="476280"/>
            <a:ext cx="1980720" cy="2133720"/>
            <a:chOff x="2340000" y="476280"/>
            <a:chExt cx="1980720" cy="2133720"/>
          </a:xfrm>
        </p:grpSpPr>
        <p:grpSp>
          <p:nvGrpSpPr>
            <p:cNvPr id="196" name=""/>
            <p:cNvGrpSpPr/>
            <p:nvPr/>
          </p:nvGrpSpPr>
          <p:grpSpPr>
            <a:xfrm>
              <a:off x="2340000" y="476280"/>
              <a:ext cx="1142640" cy="990720"/>
              <a:chOff x="2340000" y="476280"/>
              <a:chExt cx="1142640" cy="9907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rcRect l="86049" t="33333" r="0" b="0"/>
              <a:stretch/>
            </p:blipFill>
            <p:spPr>
              <a:xfrm>
                <a:off x="2340000" y="476280"/>
                <a:ext cx="114264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2974680" y="476280"/>
                <a:ext cx="444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949480" y="1542960"/>
              <a:ext cx="1142640" cy="1067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30360" y="146700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19280" y="2492280"/>
            <a:ext cx="3353040" cy="1447920"/>
            <a:chOff x="5219280" y="2492280"/>
            <a:chExt cx="3353040" cy="1447920"/>
          </a:xfrm>
        </p:grpSpPr>
        <p:grpSp>
          <p:nvGrpSpPr>
            <p:cNvPr id="202" name=""/>
            <p:cNvGrpSpPr/>
            <p:nvPr/>
          </p:nvGrpSpPr>
          <p:grpSpPr>
            <a:xfrm>
              <a:off x="5219280" y="2568600"/>
              <a:ext cx="3200760" cy="1371600"/>
              <a:chOff x="5219280" y="2568600"/>
              <a:chExt cx="3200760" cy="13716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3"/>
              <a:srcRect l="54880" t="18005" r="14641" b="32003"/>
              <a:stretch/>
            </p:blipFill>
            <p:spPr>
              <a:xfrm>
                <a:off x="7277040" y="2568600"/>
                <a:ext cx="11430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flipH="1">
                <a:off x="5219280" y="3635280"/>
                <a:ext cx="19810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81400" y="294948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受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7124400" y="24922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皇        帝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067280" y="4076640"/>
            <a:ext cx="1295280" cy="2387160"/>
            <a:chOff x="4067280" y="4076640"/>
            <a:chExt cx="1295280" cy="2387160"/>
          </a:xfrm>
        </p:grpSpPr>
        <p:grpSp>
          <p:nvGrpSpPr>
            <p:cNvPr id="208" name=""/>
            <p:cNvGrpSpPr/>
            <p:nvPr/>
          </p:nvGrpSpPr>
          <p:grpSpPr>
            <a:xfrm>
              <a:off x="4067280" y="4076640"/>
              <a:ext cx="1295280" cy="2386080"/>
              <a:chOff x="4067280" y="4076640"/>
              <a:chExt cx="1295280" cy="2386080"/>
            </a:xfrm>
          </p:grpSpPr>
          <p:pic>
            <p:nvPicPr>
              <p:cNvPr id="209" name="" descr="13.gif (42243 bytes)"/>
              <p:cNvPicPr/>
              <p:nvPr/>
            </p:nvPicPr>
            <p:blipFill>
              <a:blip r:embed="rId4"/>
              <a:srcRect l="25885" t="60801" r="50590" b="3915"/>
              <a:stretch/>
            </p:blipFill>
            <p:spPr>
              <a:xfrm>
                <a:off x="4067280" y="5295960"/>
                <a:ext cx="129528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flipV="1">
                <a:off x="4600440" y="4076640"/>
                <a:ext cx="0" cy="106704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00440" y="445788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揭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4981320" y="5516640"/>
              <a:ext cx="38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小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292720" y="692280"/>
            <a:ext cx="2057400" cy="2132640"/>
            <a:chOff x="5292720" y="692280"/>
            <a:chExt cx="2057400" cy="2132640"/>
          </a:xfrm>
        </p:grpSpPr>
        <p:grpSp>
          <p:nvGrpSpPr>
            <p:cNvPr id="214" name=""/>
            <p:cNvGrpSpPr/>
            <p:nvPr/>
          </p:nvGrpSpPr>
          <p:grpSpPr>
            <a:xfrm>
              <a:off x="5292720" y="768240"/>
              <a:ext cx="2057400" cy="2056680"/>
              <a:chOff x="5292720" y="768240"/>
              <a:chExt cx="2057400" cy="2056680"/>
            </a:xfrm>
          </p:grpSpPr>
          <p:pic>
            <p:nvPicPr>
              <p:cNvPr id="215" name="" descr="13.gif (42243 bytes)"/>
              <p:cNvPicPr/>
              <p:nvPr/>
            </p:nvPicPr>
            <p:blipFill>
              <a:blip r:embed="rId5"/>
              <a:srcRect l="51771" t="36478" r="0" b="0"/>
              <a:stretch/>
            </p:blipFill>
            <p:spPr>
              <a:xfrm>
                <a:off x="5978520" y="768240"/>
                <a:ext cx="1371600" cy="10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 flipH="1">
                <a:off x="5445000" y="1834560"/>
                <a:ext cx="990360" cy="99036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2720" y="175860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传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826240" y="692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百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462520" y="68580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用一个字概括这一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2060640"/>
            <a:ext cx="799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任何不称职的或愚蠢得不可救药的人，都看不见这衣服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这句话，在故事情节发展中起着关键的推动作用。骗子胡说那衣服具有这样一种“奇怪的特性”，不但抓住了皇帝的昏庸荒政而又想辨别出官员是否称职、是聪明还是愚蠢，以求保住皇位的心理，而且抓住了大臣们只想保住官位的心理，因而骗术步步行通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476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找出在故事情节发展中起着关键的作用的语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5280" y="2060640"/>
            <a:ext cx="6781680" cy="5814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e2b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9e2b6"/>
                </a:solidFill>
                <a:latin typeface="Times New Roman"/>
              </a:rPr>
              <a:t>骗子的骗术并不高明，可为什么有那多人上当受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5280" y="4292640"/>
            <a:ext cx="6172200" cy="58140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e2b6"/>
                </a:solidFill>
                <a:latin typeface="Times New Roman"/>
              </a:rPr>
              <a:t>他们怕别人说自己愚蠢、不称职；怕自己的利益受到损失，私心太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47640" y="18900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隶书"/>
              </a:rPr>
              <a:t> 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隶书"/>
              </a:rPr>
              <a:t>思考讨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35160" y="0"/>
            <a:ext cx="304956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1474920" y="1573200"/>
            <a:ext cx="756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安徒生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805~187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世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纪丹麦文学巨匠，世界著名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童话作家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他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余篇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童话在近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年中被翻译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年开始写童话，著名的童话有《丑小鸭》、《海的女儿》、《卖火柴的小女孩》、《夜莺》、《皇帝的新装》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476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骗子为何能得逞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善于钻空子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欺骗有术。骗局与专制的皇权联系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2997360"/>
            <a:ext cx="4500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皇冠——骗人骗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官职——怕丢掉乌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私心杂念——顾虑再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23880" y="3200400"/>
            <a:ext cx="1676520" cy="858600"/>
            <a:chOff x="1523880" y="3200400"/>
            <a:chExt cx="1676520" cy="85860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1523880" y="3200400"/>
              <a:ext cx="78444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286000" y="3370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23880" y="5334120"/>
            <a:ext cx="1876320" cy="861840"/>
            <a:chOff x="1523880" y="5334120"/>
            <a:chExt cx="1876320" cy="86184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82404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79400" y="5505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老百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23880" y="4267080"/>
            <a:ext cx="2867040" cy="860400"/>
            <a:chOff x="1523880" y="4267080"/>
            <a:chExt cx="2867040" cy="860400"/>
          </a:xfrm>
        </p:grpSpPr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1523880" y="4267080"/>
              <a:ext cx="860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70120" y="4437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众大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2384280" y="4267080"/>
              <a:ext cx="74304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1447920" y="1905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众人为何会上当</a:t>
            </a: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4f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4f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19280" y="1341360"/>
            <a:ext cx="55609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皇帝想去看新衣织得怎样了，但又不敢亲自去看，这时作者着重写他的心理活动，这些活动说明了什么？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581280" y="304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心理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1828800"/>
            <a:ext cx="533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倒想知道衣料究竟织得怎样了心里的确感到不大自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相信自己是无须害怕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仍然觉得先派一个人去看看工作的进展情形比较妥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自负而心虚愚蠢而狡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43657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怎么一回事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什么也没有看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可骇人听闻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道我是一个愚蠢的人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道我不够资格当皇帝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可是最可怕的事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5300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吃惊而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523880" y="304920"/>
            <a:ext cx="1600200" cy="2274480"/>
            <a:chOff x="1523880" y="304920"/>
            <a:chExt cx="1600200" cy="227448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920"/>
              <a:ext cx="1600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523880" y="205884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82720" y="1125360"/>
            <a:ext cx="55609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786950"/>
                </a:solidFill>
                <a:latin typeface="Times New Roman"/>
              </a:rPr>
              <a:t>大臣、官员和皇帝都去看布料，场面相同，但写法各不相同，他们不同在哪里？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03280" y="2502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彩云"/>
                <a:ea typeface="华文彩云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7640" y="2421000"/>
            <a:ext cx="28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愿上帝可怜我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的老天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32600" y="2421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并不愚蠢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645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彩云"/>
                <a:ea typeface="华文彩云"/>
              </a:rPr>
              <a:t>神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6360" y="3573360"/>
            <a:ext cx="33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眼睛睁的特别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彩云"/>
                <a:ea typeface="华文彩云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35360" y="4149720"/>
            <a:ext cx="31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他的眼镜里仔细地看；注意地听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81280" y="152280"/>
            <a:ext cx="4343400" cy="2274840"/>
            <a:chOff x="3581280" y="152280"/>
            <a:chExt cx="4343400" cy="2274840"/>
          </a:xfrm>
        </p:grpSpPr>
        <p:grpSp>
          <p:nvGrpSpPr>
            <p:cNvPr id="257" name=""/>
            <p:cNvGrpSpPr/>
            <p:nvPr/>
          </p:nvGrpSpPr>
          <p:grpSpPr>
            <a:xfrm>
              <a:off x="3581280" y="152280"/>
              <a:ext cx="1676160" cy="2274840"/>
              <a:chOff x="3581280" y="152280"/>
              <a:chExt cx="1676160" cy="22748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52280"/>
                <a:ext cx="16761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4009680" y="19065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老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477120" y="152280"/>
              <a:ext cx="1447560" cy="2274840"/>
              <a:chOff x="6477120" y="152280"/>
              <a:chExt cx="1447560" cy="22748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152280"/>
                <a:ext cx="14475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6563880" y="1906560"/>
                <a:ext cx="12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3852000" y="573408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详写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1240" y="571824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略写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27de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27de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27de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5280" y="2205000"/>
            <a:ext cx="5903640" cy="237240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老大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自恃年高资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用祈使句，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示可怜和哀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33360"/>
            <a:ext cx="5976720" cy="153792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皇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自以为至高无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用疑问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4941720"/>
            <a:ext cx="5905440" cy="1537920"/>
          </a:xfrm>
          <a:prstGeom prst="rect">
            <a:avLst/>
          </a:prstGeom>
          <a:solidFill>
            <a:srgbClr val="786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官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年轻得志，不禁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点自我怀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19280" y="40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为什么小孩会讲真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63640" y="2852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天真大胆，无所顾忌，直言不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1268280"/>
            <a:ext cx="68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为什么会由一个小孩说出这场骗局的真相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562720" cy="2362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4f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87280" y="6922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从《皇帝的新装》想到的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1989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  <a:ea typeface="隶书"/>
              </a:rPr>
              <a:t>极力写出皇帝、大臣、随从、骗子互相欺骗的种种荒诞无稽的可笑行径，把他们的愚蠢、卑鄙、虚伪，为了保持权力不惜自欺欺人等等恶行，拿出来示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19280" y="46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6950"/>
                </a:solidFill>
                <a:latin typeface="Times New Roman"/>
                <a:ea typeface="隶书"/>
              </a:rPr>
              <a:t>保持天真烂漫的童心，无私无畏，敢于说真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115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彩云"/>
              </a:rPr>
              <a:t>童话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907920"/>
            <a:ext cx="6858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文学体裁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儿童文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常用手法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想象、幻想、夸张、拟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语言特点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通俗、生动，离奇曲折，引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人入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最重要特点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4365720"/>
            <a:ext cx="64008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86950"/>
            </a:outerShdw>
          </a:effectLst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1143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话是儿童文学的一种。这种作品通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丰富的想象、幻想和夸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塑造形象，反映生活，对儿童进行思想教育。语言通俗、生动，故事情节往往离奇曲折，引人入胜。童话又往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采用拟人的方法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凡鸟兽虫鱼，花草树木，整个大自然以及家具、玩具都可赋予生命，注入思想感情，使它们人格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883908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填写加下划线的字的读音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并注意字的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稽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陛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听闻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)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钦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臣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附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429000"/>
            <a:ext cx="80773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解释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称   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骇人听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声附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可救药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371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xu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chè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1371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057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xi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057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hà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qīn chā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fù h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88620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能够胜任所担当的职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3434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使人听了非常震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80060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别人说什么自已也跟着说什么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形容毫无主见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一味盲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79132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比喻人或事物已坏到无法挽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380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彩云"/>
                <a:ea typeface="华文彩云"/>
              </a:rPr>
              <a:t>分角色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47920" y="1523880"/>
            <a:ext cx="7156440" cy="2281320"/>
            <a:chOff x="1447920" y="1523880"/>
            <a:chExt cx="7156440" cy="2281320"/>
          </a:xfrm>
        </p:grpSpPr>
        <p:grpSp>
          <p:nvGrpSpPr>
            <p:cNvPr id="110" name=""/>
            <p:cNvGrpSpPr/>
            <p:nvPr/>
          </p:nvGrpSpPr>
          <p:grpSpPr>
            <a:xfrm>
              <a:off x="1447920" y="1523880"/>
              <a:ext cx="1600200" cy="2274840"/>
              <a:chOff x="1447920" y="1523880"/>
              <a:chExt cx="1600200" cy="2274840"/>
            </a:xfrm>
          </p:grpSpPr>
          <p:pic>
            <p:nvPicPr>
              <p:cNvPr id="1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523880"/>
                <a:ext cx="160020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1447920" y="327816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皇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127480" y="1523880"/>
              <a:ext cx="1676160" cy="2274840"/>
              <a:chOff x="5127480" y="1523880"/>
              <a:chExt cx="1676160" cy="227484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27480" y="1523880"/>
                <a:ext cx="16761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555160" y="32781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老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7156440" y="1523880"/>
              <a:ext cx="1447920" cy="2274840"/>
              <a:chOff x="7156440" y="1523880"/>
              <a:chExt cx="1447920" cy="2274840"/>
            </a:xfrm>
          </p:grpSpPr>
          <p:pic>
            <p:nvPicPr>
              <p:cNvPr id="11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56440" y="1523880"/>
                <a:ext cx="144792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7243560" y="3278160"/>
                <a:ext cx="127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大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276720" y="1557360"/>
              <a:ext cx="1439640" cy="2247840"/>
              <a:chOff x="3276720" y="1557360"/>
              <a:chExt cx="1439640" cy="2247840"/>
            </a:xfrm>
          </p:grpSpPr>
          <p:pic>
            <p:nvPicPr>
              <p:cNvPr id="120" name="" descr=""/>
              <p:cNvPicPr/>
              <p:nvPr/>
            </p:nvPicPr>
            <p:blipFill>
              <a:blip r:embed="rId4"/>
              <a:srcRect l="12649" t="1587" r="59892" b="23795"/>
              <a:stretch/>
            </p:blipFill>
            <p:spPr>
              <a:xfrm>
                <a:off x="3276720" y="1557360"/>
                <a:ext cx="14396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421080" y="3284640"/>
                <a:ext cx="115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骗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359000" y="3933720"/>
            <a:ext cx="7316640" cy="2378160"/>
            <a:chOff x="1359000" y="3933720"/>
            <a:chExt cx="7316640" cy="2378160"/>
          </a:xfrm>
        </p:grpSpPr>
        <p:grpSp>
          <p:nvGrpSpPr>
            <p:cNvPr id="123" name=""/>
            <p:cNvGrpSpPr/>
            <p:nvPr/>
          </p:nvGrpSpPr>
          <p:grpSpPr>
            <a:xfrm>
              <a:off x="3035160" y="3962520"/>
              <a:ext cx="1752480" cy="2349360"/>
              <a:chOff x="3035160" y="3962520"/>
              <a:chExt cx="1752480" cy="2349360"/>
            </a:xfrm>
          </p:grpSpPr>
          <p:pic>
            <p:nvPicPr>
              <p:cNvPr id="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3962520"/>
                <a:ext cx="16765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3035160" y="57913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骑士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056200" y="3962520"/>
              <a:ext cx="1676160" cy="2349360"/>
              <a:chOff x="5056200" y="3962520"/>
              <a:chExt cx="1676160" cy="2349360"/>
            </a:xfrm>
          </p:grpSpPr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56200" y="3962520"/>
                <a:ext cx="167616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5483880" y="57913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老百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020000" y="3933720"/>
              <a:ext cx="1655640" cy="2377800"/>
              <a:chOff x="7020000" y="3933720"/>
              <a:chExt cx="1655640" cy="2377800"/>
            </a:xfrm>
          </p:grpSpPr>
          <p:pic>
            <p:nvPicPr>
              <p:cNvPr id="130" name="" descr=""/>
              <p:cNvPicPr/>
              <p:nvPr/>
            </p:nvPicPr>
            <p:blipFill>
              <a:blip r:embed="rId7"/>
              <a:srcRect l="19545" t="33645" r="55506" b="13254"/>
              <a:stretch/>
            </p:blipFill>
            <p:spPr>
              <a:xfrm>
                <a:off x="7020000" y="3933720"/>
                <a:ext cx="165564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162560" y="5790960"/>
                <a:ext cx="151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小孩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359000" y="4005360"/>
              <a:ext cx="1628640" cy="2249280"/>
              <a:chOff x="1359000" y="4005360"/>
              <a:chExt cx="1628640" cy="22492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8"/>
              <a:srcRect l="67589" t="23965" r="4944" b="0"/>
              <a:stretch/>
            </p:blipFill>
            <p:spPr>
              <a:xfrm>
                <a:off x="1359000" y="4005360"/>
                <a:ext cx="14126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1620720" y="5734080"/>
                <a:ext cx="136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随从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1219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帝的新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课文朗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172200" cy="358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39:35Z</dcterms:created>
  <dc:creator>wutao</dc:creator>
  <dc:description/>
  <dc:language>en-US</dc:language>
  <cp:lastModifiedBy>Billgates</cp:lastModifiedBy>
  <dcterms:modified xsi:type="dcterms:W3CDTF">2004-02-07T15:25:22Z</dcterms:modified>
  <cp:revision>100</cp:revision>
  <dc:subject/>
  <dc:title>皇帝的新装</dc:title>
</cp:coreProperties>
</file>