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%E6%8F%90%E7%A4%BA2.wav" ContentType="audio/x-wav"/>
  <Override PartName="/ppt/media/image17.jpeg" ContentType="image/jpeg"/>
  <Override PartName="/ppt/media/image24.wmf" ContentType="image/x-wmf"/>
  <Override PartName="/ppt/media/image21.jpeg" ContentType="image/jpeg"/>
  <Override PartName="/ppt/media/chimes.wav" ContentType="audio/x-wav"/>
  <Override PartName="/ppt/media/image13.png" ContentType="image/png"/>
  <Override PartName="/ppt/media/image28.jpeg" ContentType="image/jpeg"/>
  <Override PartName="/ppt/media/image34.jpeg" ContentType="image/jpeg"/>
  <Override PartName="/ppt/media/image7.jpeg" ContentType="image/jpeg"/>
  <Override PartName="/ppt/media/image35.gif" ContentType="image/gif"/>
  <Override PartName="/ppt/media/image19.jpeg" ContentType="image/jpeg"/>
  <Override PartName="/ppt/media/image9.jpeg" ContentType="image/jpeg"/>
  <Override PartName="/ppt/media/image11.png" ContentType="image/png"/>
  <Override PartName="/ppt/media/image20.jpeg" ContentType="image/jpeg"/>
  <Override PartName="/ppt/media/image29.gif" ContentType="image/gif"/>
  <Override PartName="/ppt/media/image31.gif" ContentType="image/gif"/>
  <Override PartName="/ppt/media/image30.jpeg" ContentType="image/jpeg"/>
  <Override PartName="/ppt/media/image18.jpeg" ContentType="image/jpeg"/>
  <Override PartName="/ppt/media/image15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21F-4987-430D-B961-45635119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E09-06D2-4C54-B0E7-D88FF6F3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3E756-3692-4F2C-863C-9F8078EE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4A6E2-5FA1-4788-84EE-2370E1F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2F552-91B9-4352-AC96-66348824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BC75A-9926-4DAD-A035-84A5B80F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82F22-3D03-4819-89A4-8D28BAE5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941F1-B1EB-48FC-9ADF-F7B3A3B1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BCE5C-95EB-49FE-81D5-F9BAA34A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342E4-2F31-4023-AECD-9367A8C3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ADF5D-1A55-4B49-AA67-04017FA3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49F01-38A4-494D-9F9D-BCEC771C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D8A-3765-4EBA-AC48-16441020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37C48-78D7-430B-8417-F83056A7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28770-6A98-4708-A643-ADDDD74E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A23D1-0E1B-4290-9418-E2F5B30B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98DAB-E5D1-433E-8E37-331B87B1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021F2-88F4-4E72-964B-8C0417FE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86A03-A7F6-4F0A-9E4B-9013AA1F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90565-5E56-4043-8FA3-0DBCAAA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B2102-C325-4796-89BE-A980B472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8DE83-3AF1-4334-BD7C-143E2B15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5B150-5381-4C4C-A736-0F2B473C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B8B-3E7E-4B2A-B683-02C7DD88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AF765-8089-4041-904A-6A7BE19F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6763-CA7A-495D-93EF-154ECB20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F2808-C4FC-4952-A5D7-B96E4410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43E2E-CFD9-4D5F-AEE7-626158A1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05B2C-5B43-4F54-B99B-1EB9BD57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146CD-ED40-487F-94A6-CB95C4E9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51FBC-8C4D-4FFE-9B8A-4A42D5C9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E2B8E-E8A9-4521-A9E6-9485AA35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CB422-FF6D-4439-8782-D621656C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0C40-E77E-433E-ABE4-61B1FD37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96D81-3E43-4692-8104-7E728809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0C4ED-5EEE-4515-A6D3-2B85A507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52E1D-784D-40CD-B8E4-169A21AC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81DEF-01B0-4717-9636-37782773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EA006-3F2F-48E7-AFAC-9687F0E0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E93D4-0351-4324-B375-B658A062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E5124-3636-4987-9FE9-371A4275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B8873-1AD5-4411-BC71-AB475F53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459B5-8CB6-4DF4-916B-1C6EC9BA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D7CB5-CBF6-4BC4-B0B1-CC574E42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D04C-D168-486E-896A-6E28EBC2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5D37E-ACAB-41F2-B073-393551D0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E88A2-7681-43BB-B0A7-04A137AC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4A0C1-C8EA-440E-85D2-435F52C8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01690-1B4E-4C53-9EDE-74E8F459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F770F-6FF7-472F-81B5-BD2DC9DD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90E02-FA04-42F5-9510-F80802DB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B6E25-7BB3-4181-86ED-985F5188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37454-9AB9-448E-A6D9-33DE517F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BBCB5-67AF-4E19-A743-C56E0B52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76B3E-EC9D-4222-A7AD-4FD6F02C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FF5B-2743-4F94-88E5-6BB750B9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98DE7-B5FD-4DDB-B527-88857078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04FCE-85BA-4CBD-B3DE-624CE150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28A4A-9B45-4C0C-BF8C-624902F6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2B16F-C819-4B2E-A9E5-2780DAE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F1504-3810-4A94-8620-CA0B53C2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E4A11-30E5-43D8-BFEC-1CB50A47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E17A6-6A8B-44DF-A951-DE89D894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931B5-338E-4A8C-B55C-E92FB0AB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20953-1B81-467F-A9A5-68469BD6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CA127-9620-41B2-9896-504B0633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E180-A3CA-4203-BA78-DBDDBAA0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9C4ABC-6182-4315-9BFA-32C54B17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E1628-0C35-4308-B03C-827DD24A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C6DD8-31D3-418F-AEAE-DD78BA72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FCE64-954D-41A8-AF1A-35BF75B1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4A660-6333-445E-A738-44D847BC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38CBC-22B7-49DB-9A1C-09F45D6E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EB2EB-FA30-4DA8-9DB5-A63C09D6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A7FD7-A4DA-4AC9-A7C8-28596BA0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C8188-593F-48A0-9040-59E837A9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1FAF4-310C-4AA4-A5F5-6FF13598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9D51-9A91-4CC1-9FEA-8937A2B8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AE2C2-0161-4D96-B755-ED479116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79AB2-55E5-40C5-98A0-EB79B4B0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43B113-BFAB-4025-A376-474A3DC5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D0BF65-08A5-4C96-9F5D-E593CC80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96517-FC63-4C9B-B023-956C0CE8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D7AB3-414A-4FAE-9492-1FBFD73D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804A7-F298-4CEA-B3DF-E7D14016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2AA5E-62A0-4A11-8EB2-C1D81603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37860-1475-440A-B05C-86C961F7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11BA9-BC5B-4096-9B8F-098368D8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1A4F-638D-48B8-8E24-FF4DFEA1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D04E42-2C76-4860-B88A-807E1DE9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F8F1F-C564-427B-AF39-3DD8F885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3F56B7-23A1-4A91-9306-624956C4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4027B-0D08-4BFD-BEEB-8764E8BA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8A8F8-9024-4A68-BA92-6D7243E2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9CC88-6259-4B15-A9BE-B82C667E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D8D20-975C-4733-B837-5EFE1187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BFD34-F2DC-4B59-B98A-53F4D7DA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80014-2739-4A90-97DC-71E98AD4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A7E30-6503-489F-914A-11321C2F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B5A-BE56-4BA7-8EA5-B277B2F9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219A-D9E3-494C-9E35-D8113E61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D93F87-D13F-4C1A-9A7F-8906B824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AB867-4B19-4869-A95F-55EE4B76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9C2139-AEF3-430B-98AE-9B09C12B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CA257-CBE7-4579-B5CD-9ABA6001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7C95EF-2165-4388-B288-F7F241CA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803A7-840B-47C1-9FFA-DCEE57E7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305535-6B02-42E1-8FEB-A25BAFAC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330E1E-97C4-4EA3-B4FF-A1172609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331BA-C7F9-45EA-9FF8-2C954EE4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0CDD3-6041-4E5A-9DD9-3D07A529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B798-93F3-4240-9A31-B41B5338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C6019-4C67-4510-A1DF-2E0ADEED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FBDFCF-2C27-466C-9F75-5125F10D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FBDF07-76E3-42DB-BE7C-F56FC0D9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BD017-8653-4F2E-8F91-C863C3E9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50626-E404-4CD2-848B-6AF98358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D42A1-BDE6-4898-A475-F60344D6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B9690-3C09-438A-A169-F554BDDD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CE0F7-75A9-4124-9032-BE35F898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10BF8-8E6C-451B-8EB0-8ECBE1D9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21C7D-2E2F-44AB-8133-67E741E9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F2B3-4C46-4458-8BE7-D6D9D88A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D484F7-88E5-48E2-BE93-67E13364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ABE06-56CA-4BFC-94FB-CA60F88B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1BD965-6EC9-4311-97F4-CC412CEB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65094-B2E4-4ED5-8B3D-A04FE398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54C571-0CE7-4EF7-9D03-7D5B67C1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340AD-109C-4D44-9875-5B0A31E4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98C2FF-FA0C-44AB-9AC6-E3B04CE0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5A1670-3F10-4D45-B89D-B7838C3D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02EBB-EC92-4EAD-B067-CA202C49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331C88-D73D-4E43-AD1D-4E859C4E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0B26-A93D-46D4-A5AC-CDD71E7E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A6D08-2D46-418C-A6E3-264CE3A0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96D10-2B17-484D-BFF1-636F4526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1C1931-DA6F-42B0-BE36-E974388F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22DFA-E8C6-4BD7-963E-1BDD1BDF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F8717D-DFAE-4613-8355-4D634966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F15EF-EAB4-4BA3-B73F-AB29BB6A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18E173-3D06-4166-9978-182EBFB7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BEE16F-ED89-4B34-BF39-5731EFC3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294B8-712B-482D-B2DF-759FD90D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24DCD8-D08D-426E-92C4-34CB190C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C46C-1E62-4ADB-9020-83167369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C498C-16B6-489B-B760-63633291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04E17D-43D1-40E0-90F4-CCD492F4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7A9D92-0F22-459A-A653-1057BBE4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21BA9-00FE-4098-A1B4-E2D0685D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04F7FF-B6FE-458F-BB9A-4F1B55E5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1626B8-566C-4BAC-B292-0EF0C3B4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CE3BB8-E8C8-4916-AAAC-33CEDC28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E36D2-2A80-490C-BBC8-BF1276FD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C2246C-9338-47FF-8735-0B1780A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614425-8185-46D8-AD6B-6D0419E3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5C88-03A3-4C3A-82DB-29C1EF71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D0CE7B-FF11-407A-941F-5710FDA1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0800F6-6905-4EBA-9A39-9F517188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DFF571-D143-4C51-9B25-FBCDD0AA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E4286A-C11B-4467-9BD7-0DC4C4C5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8BC671-655C-43E8-AF6D-32D1C94F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553D53-1909-4FC1-AA0F-E2072C8E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D192A-1B59-4F49-A0BA-8C05EC70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CD823-AA1E-40A1-94A2-1DD94CCD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25C98-48FA-4E2B-B7CB-02377F43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C5CBE-4C63-4AF6-B032-302AFD5E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9991-D902-4885-AC0A-6258F4FF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CE7B87-DEDA-41B3-B2B4-777173FA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B87879-525E-45C1-8139-9A8FDAF9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2DAEE2-2A34-451A-83B4-F3475637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08145D-DD0B-46CC-8FEB-6F910CAB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F5226E-8296-4F62-9C2E-76C591DB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45819A-DBD6-496F-AB28-C51C8269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9D8C5E-E231-4A01-960F-9742FECC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5D4F4B-B254-433E-BC4E-B8F4E36B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A52410-1AE9-4F0D-92D8-468E5B57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5057D8-F11E-4820-94FA-E43E02BF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082FD-174F-4BB0-9D06-CAFBA9C1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AFFF66-9277-45A2-94FA-AFD5B4B4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DFF391-F9DC-4182-AF2F-586E6AE6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762CA0-20E2-47F9-A223-F683E691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B25D46-9E46-49A5-BED0-55533DFD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4CD701-EFB9-4CA8-A9ED-79679F26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47E4F4-9022-48EB-BB0E-77C48F7E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873CB9-47D6-44D0-8F7B-35292613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8011F1-B5E5-46BB-B6E1-07BB39A3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79CD04-3AF0-4B76-8FCC-1FC73C58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9A7A58-73D8-41E7-8E30-A1DDB92E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3CA2C-A821-40CF-9BAE-A65B2F1C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40F221-096B-47F9-B0E9-DF769B4A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61E126-40B7-4C64-BD49-2BFF99BE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B537BB-269D-4496-ABC4-1F17DCF9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CDBD22-6E3E-45FC-82CA-B78210B3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306981-C08F-4AA6-86CC-EE9EEB89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D108E5-F7D0-4228-8ECF-A108EB01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5D2D67-1149-4D16-B7A1-EECD6E70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68E70C-0424-46C8-99E8-63AB814F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D3F2BB-EB9B-4C49-A36D-36B05718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EF6C11-BDDC-405F-9450-D30BCA6E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6F05-71F6-4C3C-8F25-319B4FC1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8CC4E7-73B8-433D-91C0-D4D59CAD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2451F1-1318-45C8-AE90-96EE9D06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D4D657-484A-4638-A147-619B5E45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8EC358-8940-465A-8E89-CB5A3872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7BCE34-6F3A-4CB0-8359-132355E6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D33C9A-5366-4049-8274-66F14200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1A2839-D9AE-4985-BFF7-FD488F4F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738356-E15D-4F10-AAD0-79D4CAAE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6C6CD4-8E65-4292-ABA9-E6FD282A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96B7F6-7826-4AF5-8FF0-1F19AD6F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5C03-5C0C-44D5-887C-6E004423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ABA2-EE72-4003-A231-0CB9342C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A52F50-DD35-4371-8F10-B2770073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51471D-F8EB-47CD-BBCE-82065FBE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8F903F-9EC8-4EC3-A1FC-1DA7A5CA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04213F-0F09-4FA3-8217-7F588D53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98629C-32F8-4616-A573-074C8F75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FAB629-4D52-4606-8985-463818B7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FD694F-EF81-4905-A914-1BD43B63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B3ABB8-7CB4-4059-8F06-6DBF68CF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95A6F9-48D3-4EED-AC55-7BBEFF65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4316F2-9162-4F22-B91D-693EC96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6F15-46A1-4C3D-BBC0-1FA13233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2BA9E0-F473-4639-9D4D-D01BDC3B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06BA29-7B76-47D0-9C41-E5A68AAB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9C1797-30D0-41E7-BD1A-C4E440B1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AAE4-82CA-4723-BC07-09EA6DD8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3E65-96D7-4F43-970B-F89A00D0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19751-FF56-4D06-BC41-ECD6EAFF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05F4-1642-4843-AEB3-7C28D06C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EDAE0-15DB-4C58-BA30-6BCD2FA9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265BC-96F4-40D2-B60F-3287F1FD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DB0A1-7495-4141-8185-DBFDDE3F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CD9FE-44B9-4274-89E0-19A5A17E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0F8-534F-49BB-9BF2-BED6F1FB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95344-CA98-4071-A4EF-47ED2DCA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55F00-6FF8-4760-A3C6-79858A4E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F88D6-39EE-4E23-AD71-8ABFB37F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24F7F-7905-435B-961A-7E89F919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56C1-35E9-454C-8275-9C55B8DD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14A8B-5CD0-4DAB-8D45-21A48259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F25F9-CE96-4D3B-ACF9-0BCD916C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34292-7C85-4933-95EA-2B9075BA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CBF50-7651-4713-9909-33CA9414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03048-A77C-4088-9751-35B6378E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BFD-FBFC-4E15-A87F-FFCAC511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43FE0-CD71-43B5-BEA3-C110DCCF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A2390-CE12-4CF8-A3F7-0EAE1371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87942-7879-4CFC-990A-4A709B7E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D30FD-1B51-4883-8551-30D6E0A5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7858D-91C7-40B7-A239-92919A4B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CE58B-A21C-4CE0-BED8-980F28E9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10D3B-555E-4116-8A58-A6EB5DA8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428CA-F2F0-4FEC-8435-C81A7E9C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96500-C319-492F-8044-8DB8E02C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EE6B5-6FE2-47E1-8434-720F200A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D4A-F1EB-4936-8FAE-E65602C2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36569-FB6E-4732-8B8D-5034228A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20814-947D-4455-A43F-E8C67CA9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5B100-21EE-4BF9-9A4E-6C4CEBFA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73581-EB28-4391-858F-BD0F64D3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01211-463B-4EA9-9341-98F8B856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B38BB-54FF-4877-9DE0-9FAF3420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D3CB5-CA52-475E-91AB-DC6A822B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B7B3F-9C96-48BE-A5D8-4FCBCC0E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C025B-38E4-4450-ABD6-F95291C2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FAAA9-7B22-4998-9B04-4E4A600A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D17-BC5F-4296-9B84-0B57AF82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0D1CE-4DBC-470E-861B-18FBF41A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5653C-ACFE-436E-B16B-D5048273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2BCA8-9A07-4D35-8B5E-B968C504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F41EE-70F4-42CE-9767-D4B27AC9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118AA-4575-438E-8048-4E586B5F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CFBE4-C55F-43AF-B007-55CF2479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136F7-14ED-402C-AD64-DDA94D58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A7EFD-0ED8-4623-A39C-0D77DEFF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C7EA2-E240-4D2C-A9A7-D3BECC67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EAC18-5C57-436B-A5F9-D2F85332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312-AB0A-409D-95B9-79433CBD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CB5DB-2532-448B-AA88-AC4C9E4B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DDFB7-FD4F-4787-84B6-F3410FAA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1CE9B-A22F-481A-8860-235E34C0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FBB94-5659-4C59-B77B-34D608EA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9971B-DA63-4C9F-8FBD-9B09A944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E067E-1E9A-4F5C-B6D6-EA29AAB9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BB612-B339-4125-9AA9-A2C4293B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15C91-57E0-46CF-9C71-6D7F7ECB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041E0-F12E-4B90-B548-0BE9CBB5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C562B-75B5-490C-AD37-1FDDE643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50D-E47A-461F-A9EF-43173DC3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55263-466D-413A-A235-7A85BDDB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DE26D-DD75-460E-9C24-0FD9F41A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355D6-84D4-4260-8C6D-50879776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FE0B6-095E-4DBB-A060-5BE0BBBC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0779B-8767-4CDA-B2D4-19766230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D2C19-360B-42B5-A9AA-5FBB44C1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063CB-A703-4975-9ADE-29F5CE8C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368B4-98B0-4008-8B51-129D4852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3812A-F4C9-41B1-91A4-E0401958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8ACE0-2C8E-44DA-9DE7-6E9D3090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FC06-3275-4941-B0BD-5CBAE4FFB2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A377-952C-446B-98AA-1F9348492D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2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99F8-E00D-4B5D-AE99-6FE28038AC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3846-35E2-4692-BFC1-725F83BC7F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AAF2-119C-4E23-B945-429D24C200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3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3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0A94-3F81-4386-9A70-275156135CE6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7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8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dt" idx="4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ftr" idx="4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sldNum" idx="4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D62D-6C93-42EE-87E4-0593F0534AA7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053A-5CB5-4FB8-8E9A-808C9A0E2E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dt" idx="4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F9FC-F12D-41C4-8B43-E09A914E56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52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3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54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9F21-5B49-42B2-8F2D-A17DB862D0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08FB-BB30-4B83-9B4F-25EAFFEF0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dt" idx="5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0C40-132D-4F18-A61F-4C71216BA1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5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D03A-307A-4753-B912-3E5EB894CA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dt" idx="6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276E-ED44-4E82-9320-65C85A4381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6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5A7C-FE3E-41F5-8AD3-A27450FD3A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dt" idx="6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D952-86D8-452F-9C60-63ED3E5799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7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D781-A9E3-49E7-99A4-7EC4918B992E}" type="slidenum">
              <a:rPr b="0" lang="zh-CN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dt" idx="7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E928-3835-4515-968D-EF7ED1CE08A1}" type="slidenum">
              <a:rPr b="0" lang="zh-CN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FE8E-67FD-4BDD-A5EA-8970269062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44FD-13DE-4A29-A635-7A53E585DB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4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4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7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E239-4A22-415D-B133-7C980F4BD53D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2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2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B952-BFD2-46C8-BB97-3A18598A2E55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0BF4-5986-4CF7-AAD8-C51A2A5418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A33A-7ADF-42E4-BF32-1AA5FB4606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DBE3-D862-464A-88F4-02B6981564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jpeg"/><Relationship Id="rId3" Type="http://schemas.openxmlformats.org/officeDocument/2006/relationships/slide" Target="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bio-engine.com/" TargetMode="External"/><Relationship Id="rId3" Type="http://schemas.openxmlformats.org/officeDocument/2006/relationships/hyperlink" Target="http://www.hhfg.org/" TargetMode="External"/><Relationship Id="rId4" Type="http://schemas.openxmlformats.org/officeDocument/2006/relationships/hyperlink" Target="http://www.gz-todag.com/" TargetMode="External"/><Relationship Id="rId5" Type="http://schemas.openxmlformats.org/officeDocument/2006/relationships/hyperlink" Target="http://www.guanzhong.gd.cn/" TargetMode="External"/><Relationship Id="rId6" Type="http://schemas.openxmlformats.org/officeDocument/2006/relationships/slideLayout" Target="../slideLayouts/slideLayout28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6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&#25552;&#31034;2.wav"/><Relationship Id="rId3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6785640" y="2118240"/>
            <a:ext cx="66780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《风俗通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644080" y="1371600"/>
            <a:ext cx="1277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通常说天地开辟以后，还没有人类。女娲揉团黄土造成人。这项工作太费力了，女娲忙不过来，就把一根绳子放到泥浆中，拉出来，溅出的泥点子就成了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20680"/>
          </a:xfrm>
          <a:prstGeom prst="rect">
            <a:avLst/>
          </a:prstGeom>
          <a:ln w="0">
            <a:noFill/>
          </a:ln>
        </p:spPr>
      </p:pic>
      <p:sp>
        <p:nvSpPr>
          <p:cNvPr id="1264" name=""/>
          <p:cNvSpPr/>
          <p:nvPr/>
        </p:nvSpPr>
        <p:spPr>
          <a:xfrm>
            <a:off x="1620000" y="528480"/>
            <a:ext cx="188676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女娲在神祠里祷告，祈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神任命她做女媒。于是女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就安排男女婚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153280" y="6324480"/>
            <a:ext cx="83844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上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68360" y="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对照课文故事情节，划出下面短文所没有的内容，看看课文中丰富了哪几个情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1981080" y="1339920"/>
            <a:ext cx="6858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）女娲造人的动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）女娲造人的具体过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）人造出来之后欢欣喜悦的场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）女娲像人一样具有心理活动和喜怒哀乐等情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）作者的评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1"/>
          <a:stretch/>
        </p:blipFill>
        <p:spPr>
          <a:xfrm>
            <a:off x="6781680" y="701640"/>
            <a:ext cx="2194200" cy="219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喜欢女娲吗？说说你的理由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457200" y="304920"/>
            <a:ext cx="1714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讨 论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ff"/>
                </a:solidFill>
                <a:latin typeface="Arial"/>
                <a:ea typeface="隶书"/>
              </a:rPr>
              <a:t>鲜明的人物形象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483200" y="205740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女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性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983840" y="18288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聪明、活泼、好奇心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650480" y="32004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勤劳、智慧、伟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371600" y="152388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219320" y="4495680"/>
            <a:ext cx="40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ff"/>
                </a:solidFill>
                <a:latin typeface="Times New Roman"/>
                <a:ea typeface="隶书"/>
              </a:rPr>
              <a:t>美好的情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8153280" y="6324480"/>
            <a:ext cx="83844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e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上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3"/>
          <a:stretch/>
        </p:blipFill>
        <p:spPr>
          <a:xfrm>
            <a:off x="7897680" y="0"/>
            <a:ext cx="124632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女娲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：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本身是神。（非凡能力、造人手段、方法，体现神的威力。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又是一个人。（人的孤独感、人的喜怒之情、人的心理、人的生活体验）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19810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对人类诞生的喜悦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女娲造出人之后的喜悦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人类自身对获得生命的欢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226836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539640" y="692280"/>
            <a:ext cx="806472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关于神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神话是人类社会幼年时期的产物，是人类早期不自觉的艺术创作，是原始社会最早的艺术形式之一。是古代劳动人民对社会和自然现象的美妙解释和奇特想象，他们把自然力神化、人格化，在幻想中不自觉地进行艺术加工，创造出许多神的故事，这就是神话。神话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表现了远古人民对自然力的抗争和提高人类自身能力的渴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其中的人物形象，大多具有超人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1908000" y="1125360"/>
            <a:ext cx="53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想像是神话故事中的亮点，没有想象就没有神话，神话故事中的想像体现了远古时代人们那种强烈的探求欲望。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0" y="609480"/>
            <a:ext cx="4419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0" y="0"/>
            <a:ext cx="9144000" cy="6858000"/>
          </a:xfrm>
          <a:prstGeom prst="verticalScroll">
            <a:avLst>
              <a:gd name="adj" fmla="val 6712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106720" y="685800"/>
            <a:ext cx="50562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想象力是发明、发现及其他创造活动的源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         ——</a:t>
            </a: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亚里士多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想象力是人类能力的试金石，人们正是依靠想象力征服世界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奥斯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288" name=""/>
          <p:cNvSpPr/>
          <p:nvPr/>
        </p:nvSpPr>
        <p:spPr>
          <a:xfrm>
            <a:off x="4643280" y="2276640"/>
            <a:ext cx="41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你能不能对女娲造人的 、动机、方法作新的想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2895480" y="380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9ff33"/>
                </a:solidFill>
                <a:uFillTx/>
                <a:latin typeface="Arial"/>
                <a:ea typeface="隶书"/>
              </a:rPr>
              <a:t>时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：天地初开后随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一时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9ff33"/>
                </a:solidFill>
                <a:uFillTx/>
                <a:latin typeface="Arial"/>
                <a:ea typeface="隶书"/>
              </a:rPr>
              <a:t>地点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：地球范围内任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一旮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 rot="5400000">
            <a:off x="-213120" y="2574720"/>
            <a:ext cx="4740480" cy="1266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cap="sq"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彩云"/>
              </a:rPr>
              <a:t>女娲造人</a:t>
            </a:r>
            <a:r>
              <a:rPr b="0" lang="en-US" sz="9600" spc="1" strike="noStrike">
                <a:ln cap="sq"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彩云"/>
              </a:rPr>
              <a:t>·</a:t>
            </a:r>
            <a:r>
              <a:rPr b="0" lang="zh-CN" sz="9600" spc="1" strike="noStrike">
                <a:ln cap="sq"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彩云"/>
              </a:rPr>
              <a:t>新编</a:t>
            </a:r>
            <a:endParaRPr b="0" lang="en-US" sz="9600" spc="1" strike="noStrike">
              <a:ln cap="sq"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292" name="" descr=""/>
          <p:cNvPicPr/>
          <p:nvPr/>
        </p:nvPicPr>
        <p:blipFill>
          <a:blip r:embed="rId2"/>
          <a:stretch/>
        </p:blipFill>
        <p:spPr>
          <a:xfrm>
            <a:off x="7675560" y="5105520"/>
            <a:ext cx="988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7451640" y="691920"/>
            <a:ext cx="1006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6699"/>
                </a:solidFill>
                <a:latin typeface="Arial Black"/>
                <a:ea typeface="黑体"/>
              </a:rPr>
              <a:t>盘古开天辟地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08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推荐资料及网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80880" y="914400"/>
            <a:ext cx="72392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80880" y="990720"/>
            <a:ext cx="73152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09480" y="380880"/>
            <a:ext cx="0" cy="5943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990720" y="1486080"/>
            <a:ext cx="6705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《中国科普佳作精选 》第一部（方宗熙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《进化论思想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《中国文学史》 第一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6666"/>
                </a:solidFill>
                <a:uFillTx/>
                <a:latin typeface="Times New Roman"/>
                <a:ea typeface="黑体"/>
                <a:hlinkClick r:id="rId2"/>
              </a:rPr>
              <a:t>http://www.bio-engi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6666"/>
                </a:solidFill>
                <a:uFillTx/>
                <a:latin typeface="Times New Roman"/>
                <a:ea typeface="黑体"/>
                <a:hlinkClick r:id="rId3"/>
              </a:rPr>
              <a:t>http://www.hhfg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6666"/>
                </a:solidFill>
                <a:uFillTx/>
                <a:latin typeface="Times New Roman"/>
                <a:ea typeface="黑体"/>
                <a:hlinkClick r:id="rId4"/>
              </a:rPr>
              <a:t>http://www.gz-toda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6666"/>
                </a:solidFill>
                <a:uFillTx/>
                <a:latin typeface="Times New Roman"/>
                <a:ea typeface="黑体"/>
                <a:hlinkClick r:id="rId5"/>
              </a:rPr>
              <a:t>http://www.guanzhong.gd.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1295280" y="45720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latin typeface="华文行楷"/>
              </a:rPr>
              <a:t>课后小结</a:t>
            </a:r>
            <a:endParaRPr b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207000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文记述了女娲造人的全过程，表现了原始人类对人类起源的好奇和追索，以及在当时社会条件下，所做出的丰富想象，表达了作者对生命诞生的喜悦之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2627280" y="1989000"/>
            <a:ext cx="50403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再见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7884720" y="764640"/>
            <a:ext cx="801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后羿射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84" fill="hold"/>
                                        <p:tgtEl>
                                          <p:spTgt spid="1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3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3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7956360" y="1197000"/>
            <a:ext cx="8269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嫦娥奔月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7740720" y="274680"/>
            <a:ext cx="94608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女娲造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女娲造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袁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/>
          </p:nvPr>
        </p:nvSpPr>
        <p:spPr>
          <a:xfrm>
            <a:off x="1332000" y="691920"/>
            <a:ext cx="6624720" cy="53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者简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袁珂，生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9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，神话学家。四川省新繁县人。论著有《中国古代神话》、《山海经校注》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中国古代神话》是中国第一部汉民族古代神话专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457200" y="304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检查预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1066680"/>
            <a:ext cx="76197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女娲（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wā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）：传说中造人、补天的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澄澈（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é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ng  ch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è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）：清澈透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幽光：昏安的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灵敏：反应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绵延：延续不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神通广大：指特别高明的本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莽莽榛榛（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zhēn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）：草木丛生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根据课文内容框架复述故事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26880" y="3124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女娲造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836440" y="2590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揉黄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765160" y="373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挥洒泥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07440" y="3124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3371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人类绵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797800" y="2743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797800" y="3733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752480" y="2971440"/>
            <a:ext cx="576000" cy="864000"/>
            <a:chOff x="1752480" y="2971440"/>
            <a:chExt cx="576000" cy="864000"/>
          </a:xfrm>
        </p:grpSpPr>
        <p:sp>
          <p:nvSpPr>
            <p:cNvPr id="1253" name=""/>
            <p:cNvSpPr/>
            <p:nvPr/>
          </p:nvSpPr>
          <p:spPr>
            <a:xfrm>
              <a:off x="1752480" y="3403440"/>
              <a:ext cx="288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041200" y="2971440"/>
              <a:ext cx="28728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041200" y="3403440"/>
              <a:ext cx="287280" cy="43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"/>
          <p:cNvSpPr/>
          <p:nvPr/>
        </p:nvSpPr>
        <p:spPr>
          <a:xfrm>
            <a:off x="4114800" y="3429000"/>
            <a:ext cx="57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5257440" y="3048120"/>
            <a:ext cx="360360" cy="864720"/>
            <a:chOff x="5257440" y="3048120"/>
            <a:chExt cx="360360" cy="864720"/>
          </a:xfrm>
        </p:grpSpPr>
        <p:sp>
          <p:nvSpPr>
            <p:cNvPr id="1258" name=""/>
            <p:cNvSpPr/>
            <p:nvPr/>
          </p:nvSpPr>
          <p:spPr>
            <a:xfrm flipH="1">
              <a:off x="5257440" y="3048120"/>
              <a:ext cx="36036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flipV="1">
              <a:off x="5257440" y="3481200"/>
              <a:ext cx="36036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6400800" y="3581280"/>
            <a:ext cx="57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3:08:31Z</dcterms:created>
  <dc:creator>wutao</dc:creator>
  <dc:description/>
  <dc:language>en-US</dc:language>
  <cp:lastModifiedBy>zyb</cp:lastModifiedBy>
  <dcterms:modified xsi:type="dcterms:W3CDTF">2004-12-15T07:16:40Z</dcterms:modified>
  <cp:revision>100</cp:revision>
  <dc:subject/>
  <dc:title>幻灯片 1</dc:title>
</cp:coreProperties>
</file>