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jpeg" ContentType="image/jpeg"/>
  <Override PartName="/ppt/media/%E6%8F%90%E7%A4%BA1.wav" ContentType="audio/x-wav"/>
  <Override PartName="/ppt/media/image14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%E6%8F%90%E7%A4%BA4.wav" ContentType="audio/x-wav"/>
  <Override PartName="/ppt/media/image11.gif" ContentType="image/gif"/>
  <Override PartName="/ppt/media/image6.jpeg" ContentType="image/jpeg"/>
  <Override PartName="/ppt/media/%E6%8F%90%E7%A4%BA2.wav" ContentType="audio/x-wav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8B9C-93A7-4E69-8AF3-EAF6C0CA0E8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84C-A22A-472E-9784-51766CFF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8366-7220-49BF-BB7B-FDB776C7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BC6B-B175-4F68-89BE-54FC2BA3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DEE-1F0E-4961-ABD1-B7C4AF67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D8E8-FD64-49B5-8647-5EB4EF4E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FCB6-E488-47D1-88D8-47F70A5E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EB06-730F-4A08-B8F7-26B57C0C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3BB2-3758-4915-8D4F-42755BDC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BF54-EBE7-42A4-BCD2-9A462B8B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7B26-7FAF-4E20-877F-437BC6DA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26F0-8574-46C2-9B8D-616B82EA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0FA-619C-46A7-862A-41EE01BF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C0E1-BBA1-404F-81A8-78D703A0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AB49-984B-4A7A-81E0-DC5B6BFC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E090-B37B-4E9D-AC5C-D1C53C40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9E76-746C-4309-BC3A-1976A202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012C-5999-4894-8AB6-8EC8918C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49DA-A641-4D3C-9A77-7B3AD7DE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E19F-07BF-4FCC-AB7A-226315E3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20C-E1D9-455F-9ED0-9B894819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231B-3D42-4AC2-9F27-0D0902C3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AF1-1C5C-4942-85FF-239C64DD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C0EA-94CE-403A-BD9C-B5253643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90B8-285A-44EF-8178-6990CD44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782C-0948-4073-A1DE-783BB158A73A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DF41-1320-466C-9A11-495EB183469B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" Target="slide35.xm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&#25552;&#31034;2.wav"/><Relationship Id="rId2" Type="http://schemas.openxmlformats.org/officeDocument/2006/relationships/audio" Target="../media/&#25552;&#31034;2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&#25552;&#31034;4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&#25552;&#31034;1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&#25552;&#31034;2.wav"/><Relationship Id="rId2" Type="http://schemas.openxmlformats.org/officeDocument/2006/relationships/audio" Target="../media/&#25552;&#31034;4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00000" y="83664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想像为生活添翼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627280" y="299736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神话令你我心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000" y="764640"/>
            <a:ext cx="813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通常说天地开辟以后，还没有人类，女娲揉团黄土造成人。这项工作太费力了，女娲忙不过来，就把一根绳子放到泥浆中拉出来，溅出的泥点子就成了人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女娲在神祠里祷告，祈求神任命她做女媒。于是女娲就安排男女婚配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11280" y="54421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9ac"/>
                </a:solidFill>
                <a:latin typeface="Arial"/>
              </a:rPr>
              <a:t>古籍《风俗通》有关内容译文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未标题-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1000800" y="0"/>
            <a:ext cx="2191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80808"/>
                </a:solidFill>
                <a:latin typeface="Times New Roman"/>
                <a:ea typeface="隶书"/>
              </a:rPr>
              <a:t>女娲造人</a:t>
            </a:r>
            <a:endParaRPr b="0" lang="en-US" sz="6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5493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Times New Roman"/>
                <a:ea typeface="华文隶书"/>
              </a:rPr>
              <a:t>探究品味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752480"/>
            <a:ext cx="830592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   </a:t>
            </a:r>
            <a:r>
              <a:rPr b="1" lang="zh-CN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复述课文，对照《风俗通》中关于女娲的</a:t>
            </a:r>
            <a:r>
              <a:rPr b="0" lang="zh-CN" sz="4400" spc="-1" strike="noStrike" u="sng">
                <a:solidFill>
                  <a:srgbClr val="0066ff"/>
                </a:solidFill>
                <a:uFillTx/>
                <a:latin typeface="华文新魏"/>
                <a:ea typeface="华文新魏"/>
                <a:hlinkClick r:id="rId1" action="ppaction://hlinksldjump"/>
              </a:rPr>
              <a:t>记载</a:t>
            </a:r>
            <a:r>
              <a:rPr b="1" lang="zh-CN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，找出课文丰富了哪些</a:t>
            </a:r>
            <a:r>
              <a:rPr b="0" lang="zh-CN" sz="4400" spc="-1" strike="noStrike" u="sng">
                <a:solidFill>
                  <a:srgbClr val="0066ff"/>
                </a:solidFill>
                <a:uFillTx/>
                <a:latin typeface="华文新魏"/>
                <a:ea typeface="华文新魏"/>
                <a:hlinkClick r:id="rId2" action="ppaction://hlinksldjump"/>
              </a:rPr>
              <a:t>内容</a:t>
            </a:r>
            <a:r>
              <a:rPr b="0" lang="zh-CN" sz="4400" spc="-1" strike="noStrike" u="sng">
                <a:solidFill>
                  <a:srgbClr val="0066ff"/>
                </a:solidFill>
                <a:uFillTx/>
                <a:latin typeface="华文新魏"/>
                <a:ea typeface="华文新魏"/>
                <a:hlinkClick r:id="rId3" action="ppaction://hlinksldjump"/>
              </a:rPr>
              <a:t>，</a:t>
            </a:r>
            <a:r>
              <a:rPr b="1" lang="zh-CN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哪里最见出作者的想像力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0" name="wend6" descr=""/>
          <p:cNvPicPr/>
          <p:nvPr/>
        </p:nvPicPr>
        <p:blipFill>
          <a:blip r:embed="rId4"/>
          <a:stretch/>
        </p:blipFill>
        <p:spPr>
          <a:xfrm>
            <a:off x="6629400" y="4775040"/>
            <a:ext cx="251460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59000" y="287280"/>
            <a:ext cx="59896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丰富了以下内容：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1680" y="1600200"/>
            <a:ext cx="854064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造人动机的产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造人的具体过程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3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人造出后的欢快场面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4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女娲的情绪和心理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5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作者的评述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579132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中宋"/>
              </a:rPr>
              <a:t>足见作者想像的丰富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原短文内容框架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6880" y="3124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女娲造人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36440" y="2590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揉黄泥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65160" y="3733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挥洒泥浆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07440" y="3124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人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371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人类绵延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97800" y="2743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男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7800" y="3733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女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2971440"/>
            <a:ext cx="576000" cy="864000"/>
            <a:chOff x="1752480" y="2971440"/>
            <a:chExt cx="576000" cy="864000"/>
          </a:xfrm>
        </p:grpSpPr>
        <p:sp>
          <p:nvSpPr>
            <p:cNvPr id="153" name=""/>
            <p:cNvSpPr/>
            <p:nvPr/>
          </p:nvSpPr>
          <p:spPr>
            <a:xfrm>
              <a:off x="1752480" y="3403440"/>
              <a:ext cx="28872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041200" y="2971440"/>
              <a:ext cx="287280" cy="43164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41200" y="3403440"/>
              <a:ext cx="287280" cy="43200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4114800" y="3429000"/>
            <a:ext cx="577800" cy="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257440" y="3048120"/>
            <a:ext cx="360360" cy="864720"/>
            <a:chOff x="5257440" y="3048120"/>
            <a:chExt cx="360360" cy="864720"/>
          </a:xfrm>
        </p:grpSpPr>
        <p:sp>
          <p:nvSpPr>
            <p:cNvPr id="158" name=""/>
            <p:cNvSpPr/>
            <p:nvPr/>
          </p:nvSpPr>
          <p:spPr>
            <a:xfrm flipH="1">
              <a:off x="5257440" y="3048120"/>
              <a:ext cx="360360" cy="43164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5257440" y="3481200"/>
              <a:ext cx="360360" cy="43164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400800" y="3581280"/>
            <a:ext cx="577800" cy="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6%8F%90%E7%A4%BA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7%A4%BA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58920" y="1412640"/>
            <a:ext cx="5113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神”性和“人”性的结合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奇特和合理的统一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873000" y="240840"/>
            <a:ext cx="6578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【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中宋"/>
              </a:rPr>
              <a:t>合作探究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】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3141720"/>
            <a:ext cx="856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080808"/>
                </a:solidFill>
                <a:latin typeface="幼圆"/>
                <a:ea typeface="幼圆"/>
              </a:rPr>
              <a:t>、故事中哪些内容体现出女娲的“神”性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幼圆"/>
                <a:ea typeface="幼圆"/>
              </a:rPr>
              <a:t>、故事中哪些内容体现出女娲的“人”性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494172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要求：分小组讨论，并由小组代表作好讨论记录，然后由小组代表发言交流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2120" y="1574640"/>
            <a:ext cx="256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主题——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6%8F%90%E7%A4%BA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3467160" cy="21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一天变化七十次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揉黄泥造人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挥洒泥浆造人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…………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3716280"/>
            <a:ext cx="34671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寂寞孤独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自豪欣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忙碌疲倦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…………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51280" y="3860640"/>
            <a:ext cx="289080" cy="1727280"/>
          </a:xfrm>
          <a:custGeom>
            <a:avLst/>
            <a:gdLst>
              <a:gd name="textAreaLeft" fmla="*/ 0 w 289080"/>
              <a:gd name="textAreaRight" fmla="*/ 104400 w 28908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1413000"/>
            <a:ext cx="289080" cy="1726920"/>
          </a:xfrm>
          <a:custGeom>
            <a:avLst/>
            <a:gdLst>
              <a:gd name="textAreaLeft" fmla="*/ 0 w 289080"/>
              <a:gd name="textAreaRight" fmla="*/ 104400 w 28908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56000" y="1557360"/>
            <a:ext cx="18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神”的非凡能力和神奇方法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4005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人”的心理、情感、活动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2720" y="1413000"/>
            <a:ext cx="216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方正姚体"/>
              </a:rPr>
              <a:t>想像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大胆奇特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32720" y="3860640"/>
            <a:ext cx="241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方正姚体"/>
              </a:rPr>
              <a:t>想像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真实合理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 flipV="1">
            <a:off x="304920" y="99036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1295280"/>
            <a:ext cx="8763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华文行楷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080808"/>
                </a:solidFill>
                <a:latin typeface="华文行楷"/>
                <a:ea typeface="华文行楷"/>
              </a:rPr>
              <a:t>、你也发挥自己的想像，对女娲造人的动机、经过做另一种推测，说给大家听听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6" name="gaofeng179" descr=""/>
          <p:cNvPicPr/>
          <p:nvPr/>
        </p:nvPicPr>
        <p:blipFill>
          <a:blip r:embed="rId1"/>
          <a:stretch/>
        </p:blipFill>
        <p:spPr>
          <a:xfrm>
            <a:off x="6705720" y="4417920"/>
            <a:ext cx="2438280" cy="2440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0880" y="380988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华文行楷"/>
                <a:ea typeface="华文行楷"/>
              </a:rPr>
              <a:t>2</a:t>
            </a:r>
            <a:r>
              <a:rPr b="1" lang="zh-CN" sz="4800" spc="-1" strike="noStrike">
                <a:solidFill>
                  <a:srgbClr val="080808"/>
                </a:solidFill>
                <a:latin typeface="华文行楷"/>
                <a:ea typeface="华文行楷"/>
              </a:rPr>
              <a:t>、说 说你对女娲的认识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049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Times New Roman"/>
                <a:ea typeface="幼圆"/>
              </a:rPr>
              <a:t>研读课文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  <a:ea typeface="Times New Roman"/>
              </a:rPr>
              <a:t>【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中宋"/>
              </a:rPr>
              <a:t>争论题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  <a:ea typeface="Times New Roman"/>
              </a:rPr>
              <a:t>】</a:t>
            </a:r>
            <a:endParaRPr b="0" lang="en-US" sz="6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63480" y="26798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80808"/>
                </a:solidFill>
                <a:latin typeface="Arial"/>
              </a:rPr>
              <a:t>这个神话故事的内容违背了科学性，今天学习这个故事是否有意义？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6%8F%90%E7%A4%BA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6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14400" y="609480"/>
            <a:ext cx="4495680" cy="9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37339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华文行楷"/>
                <a:ea typeface="华文行楷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神话是通过人民的幻想，用一种不自觉的艺术方式加工过的自然和社会形态本身。”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                 ——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马克思</a:t>
            </a:r>
            <a:r>
              <a:rPr b="1" lang="zh-CN" sz="4400" spc="-1" strike="noStrike">
                <a:solidFill>
                  <a:srgbClr val="080808"/>
                </a:solidFill>
                <a:latin typeface="华文行楷"/>
                <a:ea typeface="华文行楷"/>
              </a:rPr>
              <a:t>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457200"/>
            <a:ext cx="74278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  <a:ea typeface="华文新魏"/>
              </a:rPr>
              <a:t>关于神仙或神化的古代英雄的故事。是古代人民对自然现象和社会生活的一种天真的解释和美丽的向往，常有浓厚的幻想色彩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58b0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nvwa" descr=""/>
          <p:cNvPicPr/>
          <p:nvPr/>
        </p:nvPicPr>
        <p:blipFill>
          <a:blip r:embed="rId1"/>
          <a:stretch/>
        </p:blipFill>
        <p:spPr>
          <a:xfrm>
            <a:off x="3859200" y="228600"/>
            <a:ext cx="5056200" cy="6400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269280" y="990720"/>
            <a:ext cx="2861640" cy="45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80808"/>
                </a:solidFill>
                <a:latin typeface="Times New Roman"/>
              </a:rPr>
              <a:t>女娲造人</a:t>
            </a:r>
            <a:endParaRPr b="0" lang="en-US" sz="8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70120" y="2590920"/>
            <a:ext cx="1003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Times New Roman"/>
                <a:ea typeface="华文行楷"/>
              </a:rPr>
              <a:t>     </a:t>
            </a:r>
            <a:r>
              <a:rPr b="1" lang="zh-CN" sz="5400" spc="-1" strike="noStrike">
                <a:solidFill>
                  <a:srgbClr val="080808"/>
                </a:solidFill>
                <a:latin typeface="Times New Roman"/>
              </a:rPr>
              <a:t>袁    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95280" y="33336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华文中宋"/>
              </a:rPr>
              <a:t>上帝在创造天地和万物以后，在第六日造人。上帝按照自己的形象，用地上的尘土造一个人，往他的鼻孔里吹一口气，有了灵气，人就活了。能说话，能行走，上帝给他取一个名字叫亚当。后来，亚当成了伊甸园的守护神。亚当给伊甸园里的各种飞禽走兽起了名字，它们都听从于亚当。上帝看亚当辛苦，决定为他造一个配偶，以便帮助他工作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华文中宋"/>
              </a:rPr>
              <a:t>于是，上帝在亚当睡觉时，抽了亚当的一根肋骨造成一个女人叫夏娃，做了亚当的妻子。从此，亚当和夏娃在伊甸园里无忧无虑，过着和谐美满的生活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42920" y="98100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              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在中国有女娲造人美丽神话，在西方有上帝造人的宗教神话，人类的起源到底是什么，要依赖科学的解释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620640"/>
            <a:ext cx="72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80808"/>
                </a:solidFill>
                <a:latin typeface="Times New Roman"/>
                <a:ea typeface="华文新魏"/>
              </a:rPr>
              <a:t>女娲造人，体现了人类可贵的创造力和探求精神，也使我们感受到生而为人的自豪。今天，我们面对的广大世界，依然有许多未知领域，等待我们去探求，去追索，去感受那种创造成功的喜悦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mm1064" descr=""/>
          <p:cNvPicPr/>
          <p:nvPr/>
        </p:nvPicPr>
        <p:blipFill>
          <a:blip r:embed="rId2"/>
          <a:srcRect l="0" t="0" r="0" b="77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609480" y="480060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让我们去探索宇宙的奥秘吧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夸父逐日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0880" y="304920"/>
            <a:ext cx="8305920" cy="50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夸父逐日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夸父与日逐走，入日。渴，欲得饮，饮于河、渭；河、渭不足，北饮大泽。未至，道渴而死。弃其杖，化为邓林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逐走：竞跑，赛跑。  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入日：追赶到太阳落下的地方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河、渭：即黄河、渭水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大泽：大湖。传说其大纵横千里，在燕门山北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道渴而死：在半路因口渴而死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邓林：桃林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38080" y="990720"/>
            <a:ext cx="7239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夸父与太阳竞跑，一直追赶到太阳落下的地方；他感到口渴，想要喝水，就到黄河、渭水喝水。黄河、渭水的水不够，又去北方的大湖喝水。还没赶到大湖，就半路渴死了。他遗弃的手杖，化成桃林。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【</a:t>
            </a:r>
            <a:r>
              <a:rPr b="0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拓展延伸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】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天地浑如鸡子，盘古生其中，万八千岁。开天辟地，阳清为天，阴浊为地，盘古在其中。一日九变，神于天，圣于地。天日高一尺，盘古日长一丈。如此万八千岁，天数极高，地数极深，盘古极长……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《盘古开天》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Arial"/>
                <a:ea typeface="楷体_GB2312"/>
              </a:rPr>
              <a:t>请围绕下面几方面展开想像，扩充这个神话故事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、天地混沌的景象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、盘古开天的过程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、盘古顶天立地的情景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80808"/>
                </a:solidFill>
                <a:latin typeface="华文新魏"/>
                <a:ea typeface="楷体_GB2312"/>
              </a:rPr>
              <a:t>、天地成形后，盘古化成了什么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6%8F%90%E7%A4%BA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25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7%A4%BA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9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419640" y="260280"/>
            <a:ext cx="4105080" cy="1440000"/>
          </a:xfrm>
          <a:prstGeom prst="cloudCallout">
            <a:avLst>
              <a:gd name="adj1" fmla="val 25791"/>
              <a:gd name="adj2" fmla="val 119018"/>
            </a:avLst>
          </a:prstGeom>
          <a:solidFill>
            <a:srgbClr val="66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0"/>
            <a:ext cx="41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9ac"/>
                </a:solidFill>
                <a:latin typeface="Times New Roman"/>
                <a:ea typeface="华文新魏"/>
              </a:rPr>
              <a:t>拓展迁移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268280"/>
            <a:ext cx="38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有一天，他忽然醒过来。睁开眼睛一看，啊呀，什么也看不见，眼前只是模糊的一片，闷的怪心慌。不知道从哪里抓过来一把大板斧，朝着眼前的混沌用力这么一挥，只听得一声霹雳巨响，大混沌忽然破裂开来。其中有些轻而清的东西，冉冉上升，变成天；另外有些重而浊的东西，沉沉下降，变成地。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------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当初是混沌不分的天地，就这样给盘古板斧一挥，划分开来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765000"/>
            <a:ext cx="64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阅读神话《盘古开天地》选段，回答问题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1413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从选段中找出三个反义词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40360" y="19890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清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-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浊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76720" y="1989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轻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-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重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64360" y="1989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冉冉上升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-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沉沉下降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84720" y="24922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用简洁的话叙述天和地是怎样形成的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24360" y="5493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盘古用大板斧劈开了混沌，分出了开地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3500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找出描写盘古开天劈地动作的动词，这些动词表现了盘古的什么特点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4797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这段文字主要运用了的修辞手法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2781360"/>
            <a:ext cx="360360" cy="360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42920" y="3500280"/>
            <a:ext cx="360360" cy="360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4038480"/>
            <a:ext cx="3024360" cy="2232000"/>
          </a:xfrm>
          <a:prstGeom prst="cloudCallout">
            <a:avLst>
              <a:gd name="adj1" fmla="val -18611"/>
              <a:gd name="adj2" fmla="val -91037"/>
            </a:avLst>
          </a:prstGeom>
          <a:solidFill>
            <a:srgbClr val="66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32000" y="4941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豪壮  威力巨大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5300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夸张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160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28600"/>
            <a:ext cx="89154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想象力比知识更重要。因为知识是有限的，而想象概括着世界上的一切，推动着社会的进步，成为知识进化的源泉。——爱因斯坦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宋体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  <a:ea typeface="楷体_GB2312"/>
              </a:rPr>
              <a:t>想象力是发明、发现及其他创造活动的源泉。——古希腊的亚里士多德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宋体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  <a:ea typeface="楷体_GB2312"/>
              </a:rPr>
              <a:t>想象力是人类能力的试金石，人们正是依靠想象力征服世界！ ——被誉为创造学之父的奥斯本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411280" y="278136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飞向未知的世界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00000" y="69228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插上想像的翅膀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39640" y="692280"/>
            <a:ext cx="806472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宋体"/>
              </a:rPr>
              <a:t>           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关于神话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神话是人类社会幼年时期的产物，是人类早期不自觉的艺术创作，是原始社会最早的艺术形式之一。是古代劳动人民对社会和自然现象的美妙解释和奇特想象，他们把自然力神化、人格化，在幻想中不自觉地进行艺术加工，创造出许多神的故事，这就是神话。神话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表现了远古人民对自然力的抗争和提高人类自身能力的渴望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其中的人物形象，大多具有超人的力量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gk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45200"/>
          </a:xfrm>
          <a:prstGeom prst="rect">
            <a:avLst/>
          </a:prstGeom>
          <a:ln w="0">
            <a:noFill/>
          </a:ln>
        </p:spPr>
      </p:pic>
      <p:pic>
        <p:nvPicPr>
          <p:cNvPr id="96" name="hysr" descr=""/>
          <p:cNvPicPr/>
          <p:nvPr/>
        </p:nvPicPr>
        <p:blipFill>
          <a:blip r:embed="rId3"/>
          <a:stretch/>
        </p:blipFill>
        <p:spPr>
          <a:xfrm>
            <a:off x="0" y="0"/>
            <a:ext cx="95248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140360" y="7650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  <a:ea typeface="华文隶书"/>
              </a:rPr>
              <a:t>盘古开天辟地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3716280"/>
            <a:ext cx="136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  <a:ea typeface="华文隶书"/>
              </a:rPr>
              <a:t>女娲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96000" y="1773360"/>
            <a:ext cx="0" cy="1092240"/>
          </a:xfrm>
          <a:prstGeom prst="line">
            <a:avLst/>
          </a:prstGeom>
          <a:ln w="28440">
            <a:solidFill>
              <a:srgbClr val="080808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2344680" cy="5029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093080" y="393372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84720" y="4292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华文隶书"/>
              </a:rPr>
              <a:t>补天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4797360"/>
            <a:ext cx="86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321300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华文隶书"/>
              </a:rPr>
              <a:t>造人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342900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1640" y="907920"/>
            <a:ext cx="6840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作者简介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        </a:t>
            </a:r>
            <a:r>
              <a:rPr b="1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袁珂，生于</a:t>
            </a:r>
            <a:r>
              <a:rPr b="1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1916</a:t>
            </a:r>
            <a:r>
              <a:rPr b="1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年，神话学家。四川省新繁县人。论著有《中国古代神话》、《山海经校注》等。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《中国古代神话》是中国第一部汉民族古代神话</a:t>
            </a:r>
            <a:r>
              <a:rPr b="1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专著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22860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读出画线字的正确读音：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30481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莽莽</a:t>
            </a: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榛榛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8288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澄</a:t>
            </a: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澈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31240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幽</a:t>
            </a: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光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57150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灵</a:t>
            </a: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敏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4197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绵</a:t>
            </a: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延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42670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神</a:t>
            </a: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通广大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19051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生气</a:t>
            </a: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蓬勃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57913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枯    </a:t>
            </a: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藤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18288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imes New Roman"/>
              </a:rPr>
              <a:t>chè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19051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imes New Roman"/>
              </a:rPr>
              <a:t>péng bó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30481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imes New Roman"/>
              </a:rPr>
              <a:t>yōu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3124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imes New Roman"/>
              </a:rPr>
              <a:t>zhēn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4197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imes New Roman"/>
              </a:rPr>
              <a:t>mián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79132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imes New Roman"/>
              </a:rPr>
              <a:t>téng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57150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imes New Roman"/>
              </a:rPr>
              <a:t>mǐn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41911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imes New Roman"/>
              </a:rPr>
              <a:t>shén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95280" y="1700280"/>
            <a:ext cx="784872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宋体"/>
              </a:rPr>
              <a:t>莽莽榛榛：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9079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9ac"/>
                </a:solidFill>
                <a:latin typeface="Times New Roman"/>
              </a:rPr>
              <a:t>词语解释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2708280"/>
            <a:ext cx="586728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宋体"/>
              </a:rPr>
              <a:t>澄澈</a:t>
            </a:r>
            <a:r>
              <a:rPr b="1" lang="zh-CN" sz="4400" spc="-1" strike="noStrike">
                <a:solidFill>
                  <a:srgbClr val="080808"/>
                </a:solidFill>
                <a:latin typeface="宋体"/>
              </a:rPr>
              <a:t>:</a:t>
            </a:r>
            <a:r>
              <a:rPr b="1" lang="zh-CN" sz="4400" spc="-1" strike="noStrike">
                <a:solidFill>
                  <a:srgbClr val="080808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39337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宋体"/>
              </a:rPr>
              <a:t>绵延：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1916280"/>
            <a:ext cx="50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9ac"/>
                </a:solidFill>
                <a:latin typeface="Times New Roman"/>
              </a:rPr>
              <a:t>草木丛生的样子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87640" y="2924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9ac"/>
                </a:solidFill>
                <a:latin typeface="Times New Roman"/>
              </a:rPr>
              <a:t>清澈透明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3933720"/>
            <a:ext cx="367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9ac"/>
                </a:solidFill>
                <a:latin typeface="Times New Roman"/>
              </a:rPr>
              <a:t>延续不断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《风俗通》中关于女娲的记载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0120" y="1066680"/>
            <a:ext cx="4586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Wingdings"/>
                <a:ea typeface="Wingdings"/>
              </a:rPr>
              <a:t>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通常说天地开辟以后，还没有人类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Wingdings"/>
                <a:ea typeface="Wingdings"/>
              </a:rPr>
              <a:t>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女娲揉团黄土造成人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Wingdings"/>
                <a:ea typeface="Wingdings"/>
              </a:rPr>
              <a:t>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这项工作太费力了，女娲忙不过来，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就把一根绳子放到泥浆中，拉出来，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溅出的泥点子就成了人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Wingdings"/>
                <a:ea typeface="Wingdings"/>
              </a:rPr>
              <a:t>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女娲在神祠里祷告，祈求神任命她做女媒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华文中宋"/>
              </a:rPr>
              <a:t>于是女娲就安排男女婚配。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4191120"/>
            <a:ext cx="29718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1:38:01Z</dcterms:created>
  <dc:creator>wutao</dc:creator>
  <dc:description/>
  <dc:language>en-US</dc:language>
  <cp:lastModifiedBy>a</cp:lastModifiedBy>
  <dcterms:modified xsi:type="dcterms:W3CDTF">2004-12-16T07:21:01Z</dcterms:modified>
  <cp:revision>100</cp:revision>
  <dc:subject/>
  <dc:title>幻灯片 1</dc:title>
</cp:coreProperties>
</file>