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%E6%8F%90%E7%A4%BA4.wav" ContentType="audio/x-wav"/>
  <Override PartName="/ppt/media/%E6%8F%90%E7%A4%BA2.wav" ContentType="audio/x-wav"/>
  <Override PartName="/ppt/media/%E6%8F%90%E7%A4%BA1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60C6-7CAD-4183-A1BD-4C037A7F1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FB47-095D-4B9E-A193-9DD8513B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98E2-C046-4116-84C5-6F9CDB6DE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394A-F84C-4EA4-9479-302B4467E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5C00-2E00-4A79-BBDB-EC58E8CC5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302A-611A-4998-AF35-32F8F9C1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44A7-B4E6-4F9B-9C6F-32089C0F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63BA-6624-4BE8-92FC-7B2541BD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B95C-729A-4546-8A92-C32A2818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876E-D600-4354-A0EB-5D79A5E1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91B8-46B1-4BFF-9994-9E5AFF12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C866-BB7B-4B3E-A9CB-FDB346EF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A127-1DAE-4570-BE6B-A74556EF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1B3D-6498-41A8-8D31-62A5EDE8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0B9A-9C3C-4985-96D4-9291F85F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B529-8AC6-4CC2-8692-910AC7254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AB52-4352-44C0-9B88-1DB79CFAB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8B47-B288-4CCB-883D-F5006993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CF0F-65DF-4A91-8288-3D3B2C48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1F23-A4CC-4282-B518-E9FF9BE0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C027-4420-409B-A66A-DA772FEF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E243-9695-4717-8890-58290A2B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EC49-AA7F-4F1B-8BC0-B71B1358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21D2-3985-40A7-AC17-DAC178D0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90F0-C468-4AA3-B7F7-3A6B8C71A001}" type="slidenum"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621A-FA72-4405-8B95-69BF1D7DC57F}" type="slidenum"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25552;&#31034;1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25552;&#31034;2.wav"/><Relationship Id="rId3" Type="http://schemas.openxmlformats.org/officeDocument/2006/relationships/audio" Target="../media/&#25552;&#31034;4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25552;&#31034;4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25552;&#31034;4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25552;&#31034;2.wav"/><Relationship Id="rId3" Type="http://schemas.openxmlformats.org/officeDocument/2006/relationships/audio" Target="../media/&#25552;&#31034;2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25552;&#31034;1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25552;&#31034;4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900000" y="836640"/>
            <a:ext cx="6408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想像为生活添翼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627280" y="2997360"/>
            <a:ext cx="6408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神话令你我心驰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  <a:ea typeface="Times New Roman"/>
              </a:rPr>
              <a:t>【</a:t>
            </a:r>
            <a:r>
              <a:rPr b="0" lang="zh-CN" sz="6000" spc="-1" strike="noStrike">
                <a:solidFill>
                  <a:srgbClr val="0000ff"/>
                </a:solidFill>
                <a:latin typeface="Arial"/>
                <a:ea typeface="华文中宋"/>
              </a:rPr>
              <a:t>争论题</a:t>
            </a:r>
            <a:r>
              <a:rPr b="0" lang="zh-CN" sz="6000" spc="-1" strike="noStrike">
                <a:solidFill>
                  <a:srgbClr val="000000"/>
                </a:solidFill>
                <a:latin typeface="宋体"/>
                <a:ea typeface="Times New Roman"/>
              </a:rPr>
              <a:t>】</a:t>
            </a:r>
            <a:endParaRPr b="0" lang="en-US" sz="6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63480" y="267984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80808"/>
                </a:solidFill>
                <a:latin typeface="Arial"/>
              </a:rPr>
              <a:t>这个神话故事的内容违背了科学性，今天学习这个故事是否有意义？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8F%90%E7%A4%BA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0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7476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【</a:t>
            </a:r>
            <a:r>
              <a:rPr b="0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拓展延伸</a:t>
            </a:r>
            <a:r>
              <a:rPr b="0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】</a:t>
            </a:r>
            <a:endParaRPr b="0" lang="en-US" sz="4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569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华文新魏"/>
              </a:rPr>
              <a:t>天地浑如鸡子，盘古生其中，万八千岁。开天辟地，阳清为天，阴浊为地，盘古在其中。一日九变，神于天，圣于地。天日高一尺，盘古日长一丈。如此万八千岁，天数极高，地数极深，盘古极长……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《盘古开天》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9ac"/>
                </a:solidFill>
                <a:latin typeface="Arial"/>
                <a:ea typeface="方正姚体"/>
              </a:rPr>
              <a:t>请围绕下面几方面展开想像，扩充这个神话故事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80808"/>
                </a:solidFill>
                <a:latin typeface="华文新魏"/>
                <a:ea typeface="华文新魏"/>
              </a:rPr>
              <a:t>、天地混沌的景象；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80808"/>
                </a:solidFill>
                <a:latin typeface="华文新魏"/>
                <a:ea typeface="华文新魏"/>
              </a:rPr>
              <a:t>、盘古开天的过程；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80808"/>
                </a:solidFill>
                <a:latin typeface="华文新魏"/>
                <a:ea typeface="华文新魏"/>
              </a:rPr>
              <a:t>、盘古顶天立地的情景；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80808"/>
                </a:solidFill>
                <a:latin typeface="华文新魏"/>
                <a:ea typeface="华文新魏"/>
              </a:rPr>
              <a:t>、天地成形后，盘古化成了什么？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8F%90%E7%A4%BA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250"/>
                            </p:stCondLst>
                            <p:childTnLst>
                              <p:par>
                                <p:cTn id="3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6%8F%90%E7%A4%BA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0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4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500"/>
                            </p:stCondLst>
                            <p:childTnLst>
                              <p:par>
                                <p:cTn id="3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411280" y="2781360"/>
            <a:ext cx="6408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飞向未知的世界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00000" y="692280"/>
            <a:ext cx="6408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插上想像的翅膀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43280" y="131760"/>
            <a:ext cx="316872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  <a:ea typeface="Times New Roman"/>
              </a:rPr>
              <a:t>【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华文中宋"/>
              </a:rPr>
              <a:t>神话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  <a:ea typeface="Times New Roman"/>
              </a:rPr>
              <a:t>】</a:t>
            </a:r>
            <a:endParaRPr b="0" lang="en-US" sz="48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42788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Arial"/>
                <a:ea typeface="华文新魏"/>
              </a:rPr>
              <a:t>关于神仙或神化的古代英雄的故事。是古代人民对自然现象和社会生活的一种天真的解释和美丽的向往，常有浓厚的幻想色彩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00000" y="4653000"/>
            <a:ext cx="7417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Arial"/>
                <a:ea typeface="华文新魏"/>
              </a:rPr>
              <a:t>如：《盘古开天》、《夸父追日》等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8F%90%E7%A4%BA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400"/>
                            </p:stCondLst>
                            <p:childTnLst>
                              <p:par>
                                <p:cTn id="28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95280" y="333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华文新魏"/>
              </a:rPr>
              <a:t>上帝在创造天地和万物以后，在第六日造人。上帝按照自己的形象，用地上的尘土造一个人，往他的鼻孔里吹一口气，有了灵气，人就活了。能说话，能行走，上帝给他取一个名字叫亚当。后来，亚当成了伊甸园的守护神。亚当给伊甸园里的各种飞禽走兽起了名字，它们都听从于亚当。上帝看亚当辛苦，决定为他造一个配偶，以便帮助他工作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华文新魏"/>
              </a:rPr>
              <a:t>    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华文新魏"/>
              </a:rPr>
              <a:t>于是，上帝在亚当睡觉时，抽了亚当的一根肋骨造成一个女人叫夏娃，做了亚当的妻子。从此，亚当和夏娃在伊甸园里无忧无虑，过着和谐美满的生活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4000" y="764640"/>
            <a:ext cx="8135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华文新魏"/>
              </a:rPr>
              <a:t>通常说天地开辟以后，还没有人类，女娲揉团黄土造成人。这项工作太费力了，女娲忙不过来，就把一根绳子放到泥浆中拉出来，溅出的泥点子就成了人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华文新魏"/>
              </a:rPr>
              <a:t>女娲在神祠里祷告，祈求神任命她做女媒。于是女娲就安排男女婚配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11280" y="544212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古籍《风俗通》有关内容译文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476360" y="1339920"/>
            <a:ext cx="5832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二十八    女娲造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280040" y="39798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袁  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8F%90%E7%A4%BA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1</a:t>
            </a:r>
            <a:r>
              <a:rPr b="0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、原短文内容框架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800" y="19368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华文新魏"/>
              </a:rPr>
              <a:t>女娲造人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29880" y="1457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华文新魏"/>
              </a:rPr>
              <a:t>揉黄泥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11240" y="2320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华文新魏"/>
              </a:rPr>
              <a:t>挥洒泥浆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99520" y="1889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华文新魏"/>
              </a:rPr>
              <a:t>人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75240" y="1889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华文新魏"/>
              </a:rPr>
              <a:t>人类绵延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0040" y="1528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华文新魏"/>
              </a:rPr>
              <a:t>男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20040" y="2320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华文新魏"/>
              </a:rPr>
              <a:t>女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835280" y="1773000"/>
            <a:ext cx="576000" cy="864000"/>
            <a:chOff x="1835280" y="1773000"/>
            <a:chExt cx="576000" cy="864000"/>
          </a:xfrm>
        </p:grpSpPr>
        <p:sp>
          <p:nvSpPr>
            <p:cNvPr id="101" name=""/>
            <p:cNvSpPr/>
            <p:nvPr/>
          </p:nvSpPr>
          <p:spPr>
            <a:xfrm>
              <a:off x="1835280" y="2205000"/>
              <a:ext cx="28872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2124000" y="1773000"/>
              <a:ext cx="287280" cy="43164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24000" y="2205000"/>
              <a:ext cx="287280" cy="43200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140360" y="2205000"/>
            <a:ext cx="577800" cy="0"/>
          </a:xfrm>
          <a:prstGeom prst="line">
            <a:avLst/>
          </a:prstGeom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292360" y="1773360"/>
            <a:ext cx="360360" cy="864720"/>
            <a:chOff x="5292360" y="1773360"/>
            <a:chExt cx="360360" cy="864720"/>
          </a:xfrm>
        </p:grpSpPr>
        <p:sp>
          <p:nvSpPr>
            <p:cNvPr id="106" name=""/>
            <p:cNvSpPr/>
            <p:nvPr/>
          </p:nvSpPr>
          <p:spPr>
            <a:xfrm flipH="1">
              <a:off x="5292360" y="1773360"/>
              <a:ext cx="360360" cy="43164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5292360" y="2206440"/>
              <a:ext cx="360360" cy="43164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6372360" y="2205000"/>
            <a:ext cx="577800" cy="0"/>
          </a:xfrm>
          <a:prstGeom prst="line">
            <a:avLst/>
          </a:prstGeom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328464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2</a:t>
            </a:r>
            <a:r>
              <a:rPr b="0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、讨论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4508640"/>
            <a:ext cx="71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华文新魏"/>
              </a:rPr>
              <a:t>课文在原短文基础上丰富了哪些内容？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8F%90%E7%A4%BA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6%8F%90%E7%A4%BA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59000" y="287280"/>
            <a:ext cx="59896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丰富了以下内容：</a:t>
            </a:r>
            <a:endParaRPr b="0" lang="en-US" sz="48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1</a:t>
            </a: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、造人动机的产生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2</a:t>
            </a: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、造人的具体过程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3</a:t>
            </a: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、人造出后的欢快场面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4</a:t>
            </a: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、女娲的情绪和心理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5</a:t>
            </a: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、作者的评述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64000" y="5445000"/>
            <a:ext cx="48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中宋"/>
              </a:rPr>
              <a:t>足见作者想像的丰富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8F%90%E7%A4%BA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500"/>
                            </p:stCondLst>
                            <p:childTnLst>
                              <p:par>
                                <p:cTn id="158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500"/>
                            </p:stCondLst>
                            <p:childTnLst>
                              <p:par>
                                <p:cTn id="162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4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58920" y="1412640"/>
            <a:ext cx="5113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华文新魏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080808"/>
                </a:solidFill>
                <a:latin typeface="华文新魏"/>
                <a:ea typeface="华文新魏"/>
              </a:rPr>
              <a:t>神”性和“人”性的结合 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华文新魏"/>
                <a:ea typeface="华文新魏"/>
              </a:rPr>
              <a:t>奇特和合理的统一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873000" y="240840"/>
            <a:ext cx="65786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【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中宋"/>
              </a:rPr>
              <a:t>合作探究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】</a:t>
            </a:r>
            <a:endParaRPr b="0" lang="en-US" sz="4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3141720"/>
            <a:ext cx="856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幼圆"/>
                <a:ea typeface="幼圆"/>
              </a:rPr>
              <a:t>1</a:t>
            </a:r>
            <a:r>
              <a:rPr b="0" lang="zh-CN" sz="3200" spc="-1" strike="noStrike">
                <a:solidFill>
                  <a:srgbClr val="080808"/>
                </a:solidFill>
                <a:latin typeface="幼圆"/>
                <a:ea typeface="幼圆"/>
              </a:rPr>
              <a:t>、故事中哪些内容体现出女娲的“神”性？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幼圆"/>
                <a:ea typeface="幼圆"/>
              </a:rPr>
              <a:t>2</a:t>
            </a:r>
            <a:r>
              <a:rPr b="0" lang="zh-CN" sz="3200" spc="-1" strike="noStrike">
                <a:solidFill>
                  <a:srgbClr val="080808"/>
                </a:solidFill>
                <a:latin typeface="幼圆"/>
                <a:ea typeface="幼圆"/>
              </a:rPr>
              <a:t>、故事中哪些内容体现出女娲的“人”性？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6920" y="494172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要求：分小组讨论，并由小组代表作好讨论记录，然后由小组代表发言交流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2120" y="1574640"/>
            <a:ext cx="256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主题——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8F%90%E7%A4%BA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4920" y="1125000"/>
            <a:ext cx="3467160" cy="21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华文新魏"/>
              </a:rPr>
              <a:t>一天变化七十二次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华文新魏"/>
              </a:rPr>
              <a:t>揉黄泥造人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华文新魏"/>
              </a:rPr>
              <a:t>挥洒泥浆造人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华文新魏"/>
              </a:rPr>
              <a:t>…………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3716280"/>
            <a:ext cx="346716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华文新魏"/>
              </a:rPr>
              <a:t>寂寞孤独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华文新魏"/>
              </a:rPr>
              <a:t>自豪欣慰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华文新魏"/>
              </a:rPr>
              <a:t>忙碌疲倦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华文新魏"/>
              </a:rPr>
              <a:t>…………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3860640"/>
            <a:ext cx="289080" cy="1727280"/>
          </a:xfrm>
          <a:custGeom>
            <a:avLst/>
            <a:gdLst>
              <a:gd name="textAreaLeft" fmla="*/ 0 w 289080"/>
              <a:gd name="textAreaRight" fmla="*/ 104400 w 28908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51280" y="1413000"/>
            <a:ext cx="289080" cy="1726920"/>
          </a:xfrm>
          <a:custGeom>
            <a:avLst/>
            <a:gdLst>
              <a:gd name="textAreaLeft" fmla="*/ 0 w 289080"/>
              <a:gd name="textAreaRight" fmla="*/ 104400 w 289080"/>
              <a:gd name="textAreaTop" fmla="*/ 45000 h 1726920"/>
              <a:gd name="textAreaBottom" fmla="*/ 1681920 h 172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1557360"/>
            <a:ext cx="187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神”的非凡能力和神奇方法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27640" y="400536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人”的心理、情感、活动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1413000"/>
            <a:ext cx="2160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方正姚体"/>
              </a:rPr>
              <a:t>想像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方正姚体"/>
              </a:rPr>
              <a:t>大胆奇特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32720" y="3860640"/>
            <a:ext cx="2411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方正姚体"/>
              </a:rPr>
              <a:t>想像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方正姚体"/>
              </a:rPr>
              <a:t>真实合理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01:38:01Z</dcterms:created>
  <dc:creator>wutao</dc:creator>
  <dc:description/>
  <dc:language>en-US</dc:language>
  <cp:lastModifiedBy>Administrator</cp:lastModifiedBy>
  <dcterms:modified xsi:type="dcterms:W3CDTF">2003-11-25T01:39:48Z</dcterms:modified>
  <cp:revision>100</cp:revision>
  <dc:subject/>
  <dc:title>幻灯片 1</dc:title>
</cp:coreProperties>
</file>