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B94-D9ED-44BD-A9EF-7B448FD6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465-AEA2-416A-B1C4-D69A086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950-3313-4D55-B8BC-94F4CFBA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4B3-8BF9-4C9C-9156-C20CE526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BBB-0F8E-4F09-8BA8-A1F8B50C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573-1345-4F94-AEE1-13B7A9A0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DAE-156C-4730-B7E7-1942DD8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844-3623-4932-9822-1B9A8BD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1ED-7000-4C77-B745-43193579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F8F-2053-40DA-81AB-81A0C41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86B-B901-435E-A6DD-AB699EEC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DF1-3601-4D79-B5CA-B0720FB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C61-1341-44C1-873B-691ABAAFC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4.gif"/><Relationship Id="rId5" Type="http://schemas.openxmlformats.org/officeDocument/2006/relationships/slide" Target="slide6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" Target="slide4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0" y="1295280"/>
            <a:ext cx="68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女娲造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524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52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faul1" descr="wpe1.jpg (24486 bytes)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vwa" descr=""/>
          <p:cNvPicPr/>
          <p:nvPr/>
        </p:nvPicPr>
        <p:blipFill>
          <a:blip r:embed="rId1"/>
          <a:stretch/>
        </p:blipFill>
        <p:spPr>
          <a:xfrm>
            <a:off x="304920" y="0"/>
            <a:ext cx="2192040" cy="263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228600"/>
            <a:ext cx="556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风俗通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9144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3434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女娲在神祠里祷告，祈求神任命她做女媒。于是女娲就安排男女婚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398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朗读课文，画出短文所没有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85800"/>
            <a:ext cx="807696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女娲造人的具体过程是真的吗？你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怎样理解这种写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6668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也发挥自己的想象，对女娲造人的动机、经过做另一种推测，说给大家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探究品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876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</a:rPr>
              <a:t>说说你对女娲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画出文中表现对人类诞生的喜悦心情的句子，讨论交流一下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3808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59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5880" y="2209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60" name="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53080" y="609588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1430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女娲造人的具体过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762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人造出来后的欢心喜悦场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女娲象人一样具有心理活动和</a:t>
            </a:r>
            <a:r>
              <a:rPr b="1" lang="zh-CN" sz="4000" spc="-1" strike="noStrike" u="sng">
                <a:solidFill>
                  <a:srgbClr val="009900"/>
                </a:solidFill>
                <a:uFillTx/>
                <a:latin typeface="华文新魏"/>
                <a:ea typeface="华文新魏"/>
              </a:rPr>
              <a:t>喜怒哀乐的情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神话是在科学水平不发达的远古时代产生的，那时的人们无法对人的诞生做出科学的准确的解释。但是，人类又想探求自身起源，所以，只好借助于想象来解决这个问题了。这种想象体现了远古时代人们那种强烈的探求欲望。同时，这种奇特的想象也创造了古代的神话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57800" y="228600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67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4120" y="643572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、比较《女娲造人》与《伊甸园里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你喜欢那一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096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总结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：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女娲造人，体现了人类可贵的创造精神，也使我们感受到生而为人的自豪。今天，我们面对的广大世界，依然有许多未知领域，等待我们去探求，去追索，去感受那创造成功的喜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5228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字词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600200"/>
            <a:ext cx="8839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女娲  茫莽榛榛  澄澈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掺合 揉团 掘起 捏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1430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 ā           mǎng     zhēn     ché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272736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chān           róu          jué           ni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880" y="43527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解词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4100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</a:rPr>
              <a:t>开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古代神话，盘古氏开天辟地，简称开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86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澄澈</a:t>
            </a:r>
            <a:r>
              <a:rPr b="0" lang="zh-CN" sz="6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：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清澈透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16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绵延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延续不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7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兴高采烈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兴致高，精神足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49568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</a:rPr>
              <a:t>女娲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传说中造人，补天的神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形近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37160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掘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42244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倔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7524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33640" y="9907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掺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6280" y="19051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惨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925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渗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21932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99072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踪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1905120"/>
            <a:ext cx="2895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棕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92572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综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29528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山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崖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天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343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0384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泥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50292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船</a:t>
            </a:r>
            <a:r>
              <a:rPr b="1" lang="zh-CN" sz="6600" spc="-1" strike="noStrike">
                <a:solidFill>
                  <a:srgbClr val="009900"/>
                </a:solidFill>
                <a:latin typeface="Times New Roman"/>
              </a:rPr>
              <a:t>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4197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2:48:48Z</dcterms:created>
  <dc:creator>wutao</dc:creator>
  <dc:description/>
  <dc:language>en-US</dc:language>
  <cp:lastModifiedBy>1</cp:lastModifiedBy>
  <dcterms:modified xsi:type="dcterms:W3CDTF">2002-12-24T01:28:56Z</dcterms:modified>
  <cp:revision>100</cp:revision>
  <dc:subject/>
  <dc:title>PowerPoint 演示文稿</dc:title>
</cp:coreProperties>
</file>