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2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7AB-B105-42B9-99C8-53048C79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EB2-9568-48DF-8929-9D1AD5E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917A9-744A-4655-A312-AC3524D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1E77-C783-4A04-9B4C-A94A42E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64C6A-2066-4120-B422-2A5A10B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F1E14-41F6-4852-A784-A1A8619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1A9D-20BA-4D09-811A-794A515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7899-CB7E-4DEA-9D17-06B48D0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EB227-96BF-48C9-8BB0-8388D01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5DA74-68BD-4556-A4E2-7F7CE421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01EA0-5FBE-4333-AF6E-54225D05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68EE5-22FD-4AA6-8E87-5AF48496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F3A-81E8-4858-ADFD-D715B0B6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96664-466F-4973-9BA2-48EF02C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63A4E-DCF0-4541-BB26-DB14E31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5A3C-93CC-4647-B01E-1B0370F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EC827-4DA5-4616-AD6D-A98630E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DD6D7-495F-4C27-9140-5F527FD1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CCC65-6FB9-4FD6-A01A-6E8B9E8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CB11-5A97-47D6-9467-1DD8505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C801A-0797-415F-AC34-13DF6AB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E4451-AA1D-4C8A-BBE5-C54DF5B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1A0C5-829B-41D0-B42F-0AAD2F6A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B9A-F422-4229-A389-D9A66356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189A-11EA-4C03-955F-CE045DF3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171A-7380-4B7E-9FFF-1EC77285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F812-3884-4782-BDF3-02FE6AA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2547-0B80-4C44-8C6D-A33287C4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2B9E-6227-438C-B020-411ACDED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E1D06-50B9-485F-9DBB-B0093345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80A8-2546-4C6B-BF73-24126C6C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666B7-3943-48A9-944B-B46D084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3669B-45DA-47E6-93FD-D54069E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37C0-4032-4E01-8270-917935F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9C7-D592-4D87-ABB3-35903E5F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99E56-C834-471B-9392-9A8A332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FF10-C47F-41FE-8592-18376388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4664-F81B-4BB6-9012-225F09F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746DD-FD28-4CFA-9E16-04B5F5DB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D7DF0-E71F-4D2B-BF89-9B72100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F8B8E-C23E-475E-8248-33EACA3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91E57-2457-4905-A701-3AEC4A5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4EE67-6BE3-46D4-9C63-E50D067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74DF3-E1B3-4953-989C-DAA3E2C4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A61BF-4424-4773-A6FA-00904AB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4963-D740-45C0-A67A-86B727C3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1DAD7-31A7-48A1-918D-6D3AC14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D8336-D68C-457B-9880-4028D1A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B1FD3-AFC8-46C2-A289-F1D953AE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47EDE-4A63-4141-8600-F69C931F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0E11-3E62-4329-90FA-6F191633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959A-A27C-4C39-B8D6-FDC64AA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34177-2EBF-4B64-B914-193BCDA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89DD2-2F56-49A5-A7BE-B97C7FB4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A5A25-D944-4356-8EDF-F127476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B2B4-884A-4737-B49E-9AB0092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ABC1B-18B9-468A-AD8A-14BCFABE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AAEE4-F93A-4E63-BA97-40735F4F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0D237-A9F4-4C4D-8942-72C1E1F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F8017-4C9E-439F-8940-55EC754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5C821-1973-44BA-B889-793DEF5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1E79B-6CE2-435A-8F12-BD13505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D1B16-869F-4A4F-83F9-799ADB01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7027C-2EAD-47FB-8D72-109F0D90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EE04B-F2EB-493B-84C2-C0B770D8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E32A7-C4C0-4DDE-BB37-D7BA69C4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5A1D-3BE8-4FA3-A19B-94F3286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5C3DE-077F-4915-8473-E6F6714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F39B8-593F-490E-8D18-2CFB4A0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250FB-358A-4927-B54A-7342431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77709-651F-4A6B-98FD-994E0F1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C48C0-B254-4517-95BF-3D450E1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9C64D-D288-4B7C-9107-5DF6D83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A923B-E316-4513-9480-D28842E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F1C2B-0096-4309-BC4C-2C2AD3C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B2170-3EB8-4E41-A11C-19C1EFB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00818-592A-4C80-A171-F5431087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C16-3E0B-4164-8319-B402301B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F0AB9-4111-468D-9027-B7F27EA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25963-618D-4C69-9B56-BB7832F4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09A0A-5688-479E-9FF5-14042AA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F8B07-9474-4F47-A5D2-A1AAE60B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82581-16E7-4912-A0F0-0EC29CD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26CE6-2588-4816-B9A7-38EE84E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18988-1D5B-4908-B2D3-844EEF50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DDE44-D2F0-4F8D-8E24-56F5C40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9C72-1CE1-466F-BFEC-021682A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3637A-9C5E-45D3-AE49-28FB25D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985-9502-49AB-A449-8FB1047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97D4E-6FE7-4997-9562-1A86D07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79464-866C-4F5F-B0D9-3D90F18D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E3D8B-B1D2-4BAA-8937-9160094C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57C0F-7664-4D75-AA0F-2A277C71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DD05C-1D22-416F-9FE6-3C38DE1A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40FC0-391C-402E-B069-1E9CCC7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F85EF-D762-4063-821C-2574F1D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50796-BCA2-4DD0-B14C-150723E9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81D97-8BB8-4499-87A7-B36EBB5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F94A7-8DBB-4813-BB83-92EB4254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EF4-2684-40F3-929C-399650A4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1985-3C90-412D-98B5-4107FEA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19977-BD7C-447D-943D-4FF61C4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D064F-A942-46BE-A001-6BF0A8B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26582-BBEB-4EDA-BBEC-BEE84C9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89788-AE8A-445A-8E37-BA85CBF4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81BC9-720D-43F4-B5B5-A460C435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F1DFF-B576-4446-8351-BB0CF591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832CF-DE46-4B00-8735-9488B5BD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E82B1-9677-4E9F-ACFE-A9A9A3EE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6948F-05DF-4225-A152-C0F9ED2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0C3D8-A72F-4B85-A724-C1EB305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820D-2684-4DD5-82B8-469491D0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463CE-2587-4706-BB12-92F3566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8CD5E-C136-4A17-9DDB-E289C409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88EE9-1C77-465F-B33B-B02D5BF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D1CB9-CD7A-4622-8C82-2187966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43DB6-489A-4C3A-85ED-7711465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EE290-18C2-4639-8404-2009349E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385FF-BA26-472E-99AF-F808D355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C0B30-4FD6-4576-934D-DAC234A2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87995-6E26-4E74-B6DF-A46A6EF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AE9E9-0CAE-47FE-AC10-740B0BC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9939-509B-458D-B767-BC9520C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0B5E1-3CD8-4130-9A20-7906709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DC401-A4AB-4CF7-A601-90949399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6F406-D244-4D07-BFCE-1E15ED4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773F4-B2C3-4AD5-9FE2-EB871CB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270E3-297D-4BAC-AA54-6F136E6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5859D-2D4F-4D5E-9A2B-0242CB9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1D351-A7AA-4EF7-81FB-C4DA0602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769F1-2C6E-4E5E-A537-D0F58BD6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C3C1B-136B-48F3-8EDF-CD75B6ED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B8482-6C1A-4720-BE0B-9601A22F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FCC-5480-448E-88A2-1BDB4242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F35A0-50C4-4273-9605-4906D8DE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56A5C-18C5-4F4C-A4CE-1DD59B6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8EAD7-514D-4B2E-B2E8-FE8D0B99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8CD13-34FF-4DC4-9CA1-4263ACF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5A171-358D-4C9A-A05E-46603BA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036C7-AA94-4FB5-A32C-C714C67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01C88-DEFE-47AE-919A-E4878DF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3B643-750E-4EF3-9BF7-AFF66FF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802C6-7492-425D-A16C-CE3BAAD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B11F6-E7E1-49D7-9B00-2CB885B9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2185-949F-45A4-B337-7F5D8788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11A5C-D895-44E4-867F-1585B1D0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9C4A0-6FA4-46DC-B393-BB309193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B22475-DD96-4BE3-AD3C-BB46DA3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965C1-9EB5-4C8A-948A-2B49A526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294D2-DA0F-4126-9E2C-9A3B79B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4D746-4878-4A12-AF3C-FD552A5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367CB-2B6E-4C52-9A4A-426B6118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A505C-1FB4-43DD-8521-C980A61E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8BA59-2062-4369-9AFB-FEE4EC2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CFAA6-F3D2-463A-B9FE-B68478B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189F-989E-42BA-AA30-C21992EE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BAE61-69C9-4E32-B9F8-58ACD5F1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B671D-BF53-43A2-86B7-1927F383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FB3C1-A176-4246-8A18-6FB64350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A138F-D8BF-4958-9438-84FF69E4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6C0FE-E706-4ECC-908E-710EE1B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B1B7F-08EF-417E-97B8-0592F98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05862-971B-4BBE-AE1F-68CCB96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16A79-276C-4B66-9068-4AFD6E4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F3CC1-DE53-49DD-AB8C-0390740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84567-D164-4767-877F-57EB091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7878-4087-4464-9CD7-2650708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1C3F2-85B4-4364-A90D-5E43F9F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C2CAC-25F0-463E-BAEF-11BAB14A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BF825-F217-4B90-8743-D29A720B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699B7-E200-4B57-B203-62773126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E2FA7-38DD-4A7F-B185-B5363AE6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4B5C1-FF8D-4CFF-A30B-0652EC4E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53581D-09D9-4489-A8FD-7A04D73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BFF5C-3A2F-4C11-8B80-8B95332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5D858-100F-4BAF-803D-754DF33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CAC737-C4BD-49C1-87B0-84AA390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C35B-3386-464A-8658-50468DA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145B1-7BE8-4F6D-9ACA-1565DB50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73BDF-0DE4-49ED-80C1-C192696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835554-C77A-435C-A946-DEA49BB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CF9DC-D90D-4C4E-B9A1-7CA6983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6671A1-A39B-410A-93CE-1C89EE4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FEBF9-2C09-43BA-A707-87AFDF90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86183-299C-415B-B5B3-97CA926E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8F6A10-DFE5-487D-B95C-B31E3C20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7FF45-CFFD-4E22-88E0-323602B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F0C41-433A-4C5B-932C-B5CAF65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AD1E-0814-421F-9385-78A99B75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4A638-BD2E-40C1-ADF7-C65C642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E2C5FD-FA31-4E45-8AAA-7731D08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FE98D9-0DB0-4FB2-8843-AFE217E0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A4276-37FA-4BF9-980A-0F8EE7C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DC4952-4CDF-4DA6-A1D4-031C14A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35DE51-0BC6-49D1-8BCF-02F804D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B41B9-5CF0-4789-8E0A-60CAECD6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DCAA37-13CA-4747-A545-7C472ABD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47F019-03EA-45B4-8E09-EE2FA0C3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727C64-BA1B-444C-9896-F678695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9225-AB5C-4158-8A42-E4FE680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77599-61C5-45C0-943F-5B5911E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66BF19-8FBA-4379-93FF-6CEF752B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0C2D5-9A53-4897-974A-3D40CF5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E1D0A-76C7-4AFE-8685-05C919B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405C3-2731-465E-BE85-66CA4B6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6F11A7-93D3-4848-9CD4-274BF9C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953F70-2BC9-44AC-9659-CE38A2C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E05B96-E10B-4589-8F5C-A558FB0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CBFCB-DFEE-4020-9E09-8C13A58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9250E0-DEA1-4925-A7A8-4AC59383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04D-D5E0-48F1-B889-4B246262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F6AC-4B95-464F-9CC8-59D9F037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3737A-1DB3-4402-8147-EEFDDC5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58474-16A0-49D5-9108-65381CB9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FA9058-D078-4A62-9F6B-F42520A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25E658-7CB4-4620-997D-AF81027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B5E950-2651-4FE9-96DE-262341E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E79AB7-24CD-46DA-BBD7-F56A809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647DD-6277-46C2-BCD3-93490719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2ED11F-105F-464B-A986-D43708A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36111-016A-46BA-97A2-F8D9768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575F0-0DE2-4272-8326-CC54096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6E99-2D99-4812-AAC9-BD6BDC8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7FE49E-661D-4DF6-8B8D-5416FB1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82E25C-B7EE-4D75-874F-31CE251F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1C88F-B087-46D3-85D4-3A86B29C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DA1B37-BE32-4E1D-A89B-190AD2C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BD9296-C8E3-4EE4-AA53-FB34D86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8EADD3-E4C2-43AD-B0E9-DC938FD1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7D859E-83FF-4C0D-9C76-BFDFA12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E367CE-FBC5-460C-9EE5-213863A7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B07BA3-461E-46D9-A750-9002533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EEFB5B-D5F4-4A28-B426-B9FEDCA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2D74-8CC0-49D5-9847-9ECDECF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19B277-5D26-4194-ADE2-39B910F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86D382-23C4-491D-9375-BC9425D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78715-74DF-484E-B357-3013FFE3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E6D54D-2C5A-4D5B-8445-02254437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EE76E-04B7-406D-BCC4-B86E3D0F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FF07CF-6DAD-4E11-AB50-CEDA3C1F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59F968-7EFF-47A6-85FD-4A3F705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201737-3FE6-4F93-8AC7-B749F07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748CA5-2B92-4E4C-BD59-5B8071A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57B0C-A23B-4D32-A10C-CDF1521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3FD9-7164-4539-8F3C-5E537D6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0F477A-CCE7-4604-975E-C64F6C3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61AFBF-2217-4B19-AD16-736DDA5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2907A1-4C31-4AB5-883D-289AC87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B9C359-44D3-4DD3-ACE9-5D76DE4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32AA2-1B08-4C33-B995-B20571A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C6E4F0-9410-4326-972F-B243A33B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A9BCA8-B155-49DB-A219-8B4CA7A7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ECD7-02A8-4B74-8FEC-B436CCB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890C-F9FB-4A7D-B69F-FE53C142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AAE2-B900-4384-B0F3-9D5E4266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48A8-8A28-47B1-9BBC-48D39796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2603-46E3-424E-B04B-208033E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DCFF-6FB2-4D11-88DC-69DD0D7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52C-433D-4FD3-B979-CEBE4CB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085E-F028-4AFE-A33A-200A222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945F-D79B-46F9-BA43-1F5F193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007E-0C6A-48D3-BCD6-8C66F1C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7525-D635-42CE-8D1E-33C5944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DDB0-B865-45CC-B960-40E1A06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FA61-B3F3-4D92-8FE0-56A6323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BF09-3110-47DA-9C30-8C5A2D00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4E9A-7EAE-4F6A-83E4-DDFB327E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0D10-EA44-45ED-94CE-3C80120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C08F-9F2D-445C-A4C0-92AFA907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E72-6DD4-4215-A8D2-AF0E6F0A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ABC6-7A8A-48B1-BECA-5E6A501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9047-2077-4A84-A2ED-86B20C7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0E01F-283C-40F9-B18F-F79CB21B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507D-316A-4E58-A41E-8F2F1898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D339-7085-46C3-B051-E984A402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30C1-4A66-41F9-B836-84C6D5A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112A-2DFA-4DD9-9BBC-16106A7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97A3-6702-4406-928A-A31E6ED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8351-CBC5-4FDA-B482-A41BDDCB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A1F5-0862-42BB-98B4-10A76AD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E59-129C-4D12-B68D-FBBCE42C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045C-4577-4DAB-B238-36AAFC19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2C3A-3D58-45A1-9BC2-E5C6B81F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BADE-3133-40A2-8445-116E11E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B44A-7DF0-4DC6-AC87-C17FB3F1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E92A-A43F-486A-AA8C-7F533C75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FDC6-A330-40D8-BBF2-79D021A2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E2EF-5E9A-43B4-9693-53EF088C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92FC-87A5-4CCA-A8E8-F976CA4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13BF-4FE9-4AC5-9F75-F193D72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70857-4391-46FA-8690-FD85BA1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33E-CD8F-410B-8C61-E9088EE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5B44-67FC-4200-8DD8-097EDC7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E4C5-2677-4D07-A64B-47DD93CF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5339-274A-4249-A63E-ED68A783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94A82-7B99-4B98-9631-B907483B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DEEF-B1BF-4BA0-9B9B-07024F5F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BDF3-96C3-4E19-811A-12EE64F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55DD-0A6D-415A-86D9-288170A6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F408-6112-4F27-BEA8-1E00E8A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781C-894A-4DEC-B858-69F5A82E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76FE-6AD0-4125-AB20-2511A03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699-5E8E-4445-908D-F159D46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E7167-B943-4EA5-AC47-3949696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DAD5E-C07F-4955-BAA2-41D772E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5DA0-1B09-4792-A603-1BBD5E5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8F18-3CF4-4CCA-B5AD-CD7D44AF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CADA-6DE0-4F2C-B685-C16EC3E3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F3034-8014-4B3E-B9CD-E14EF0C3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72433-6828-4F99-95AD-98207092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CEEC-2E4E-4C1A-8910-D80AE99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970C-0DE6-4ADF-84CB-DDB9782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197B-BCAD-4474-A351-07682DB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605-4809-4F56-94E9-EF3AD60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839B-C0A9-4AD4-8465-55BDD77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0ADFA-F5E5-43AF-9BD0-33BE292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F2CF-F67A-46FB-9FB0-475291D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3F68-A614-4D4C-933C-0567EF8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07B4-DEAB-4352-9BEB-0AB39A4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CBDD-9EA4-413B-85C4-2EB4F702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D842-BC2D-471C-9A43-45A2F452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1B4F1-BEEC-453C-B18A-0F2933D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EEC54-78FD-4054-9010-21FC57D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845A-639E-44C6-85FA-36C749D9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99A1-3964-4B12-9525-B7BB2C7BA9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66E-0262-45A3-ADC1-4D16C11CBB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BEBF-30E7-4A87-A7BF-91419A821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C82-7B9D-4164-A667-A039A3C83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C3E-85FD-44FE-B092-D72D0A77C9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1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1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02B-4D9F-4F8C-8220-D71743E08E6A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Num" idx="4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C9A8-52AE-4763-A796-E8A242B9190D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1EB-8698-44D0-94D2-79AF74A7D88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15BF-A6A6-475E-ACD1-095B7BB37976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109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14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E65-187B-4788-A626-CAE3F08D06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4635-2173-40E4-81AA-7EABA23CF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20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25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ftr" idx="5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sldNum" idx="5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1DF-091D-4B9B-AE72-B5A3D788F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30" name="PlaceHolder 1"/>
          <p:cNvSpPr>
            <a:spLocks noGrp="1"/>
          </p:cNvSpPr>
          <p:nvPr>
            <p:ph type="dt" idx="5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ftr" idx="5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2FB1-AC24-43AF-8510-CAB4D7EC3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dt" idx="6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6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B5E-93A5-4E5E-9ECA-7C4626B8F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6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6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6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894-29C2-4B98-B500-BB4B0F3B6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B77-FAA8-4CA1-A9A0-B8C711A5E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7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7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B95-A621-424C-ABEA-F524CD040A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dt" idx="7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ftr" idx="7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sldNum" idx="7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210-05BA-4313-AFCB-ED0088F549B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7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598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599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77D-1FBE-4EA2-AA6B-876B2DAB1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643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644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3CC8-5259-4F75-AAE4-3A272F788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8A7-6CE0-4C86-A756-E8AF76D2A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A18-F200-41B9-81E9-1124F7279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E3A3-56EF-44CB-AB23-86F5A286F6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0DD-404E-49A9-9D9B-AA0C537B7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BFB-97AC-431C-BFA7-0629FC83C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B4F-86A2-478A-A071-228E6049A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17F-55CB-46A4-AFF2-DBB26AC4B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o-engine.com/" TargetMode="External"/><Relationship Id="rId2" Type="http://schemas.openxmlformats.org/officeDocument/2006/relationships/hyperlink" Target="http://www.hhfg.org/" TargetMode="External"/><Relationship Id="rId3" Type="http://schemas.openxmlformats.org/officeDocument/2006/relationships/hyperlink" Target="http://www.gz-todag.com/" TargetMode="External"/><Relationship Id="rId4" Type="http://schemas.openxmlformats.org/officeDocument/2006/relationships/hyperlink" Target="http://www.guanzhong.gd.cn/" TargetMode="External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-1116360" y="685440"/>
            <a:ext cx="95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 你喜欢我创造的女娲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象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77384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请以文中的语句加以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要求：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有感情的读出原文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/>
          </p:nvPr>
        </p:nvSpPr>
        <p:spPr>
          <a:xfrm>
            <a:off x="1979640" y="234900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Arial Narrow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ffcc99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cc99"/>
                </a:solidFill>
                <a:latin typeface="华文行楷"/>
                <a:ea typeface="华文行楷"/>
              </a:rPr>
              <a:t>、</a:t>
            </a:r>
            <a:r>
              <a:rPr b="0" lang="zh-CN" sz="6000" spc="-1" strike="noStrike">
                <a:solidFill>
                  <a:srgbClr val="ffcc99"/>
                </a:solidFill>
                <a:latin typeface="Arial Narrow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ffcc99"/>
                </a:solidFill>
                <a:latin typeface="Arial Narrow"/>
                <a:ea typeface="方正舒体"/>
              </a:rPr>
              <a:t>你能就我的这个故事谈谈你对神话的认识吗？（神话的特点）</a:t>
            </a:r>
            <a:endParaRPr b="0" lang="en-US" sz="40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1547640" y="0"/>
            <a:ext cx="25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走近神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-1621080" y="-36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99"/>
                </a:solidFill>
                <a:latin typeface="Arial Black"/>
                <a:ea typeface="华文行楷"/>
              </a:rPr>
              <a:t>神话的特点：</a:t>
            </a:r>
            <a:endParaRPr b="0" lang="en-US" sz="48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是原始人对自然和社会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富有幻想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话中的人物形象都是神或半人半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你能对女娲造人的动机、方法作新的想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后桌为小组讨论，一人记录，一人                 主持发言，其他成员参与想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时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地初开后随便一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地点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球范围内任意一旮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 rot="21275400">
            <a:off x="539640" y="404280"/>
            <a:ext cx="32004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放飞想像的翅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c94"/>
                </a:solidFill>
                <a:latin typeface="Times New Roman"/>
                <a:ea typeface="隶书"/>
              </a:rPr>
              <a:t>推荐资料及网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0880" y="91440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80880" y="9907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09480" y="38088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990720" y="1486080"/>
            <a:ext cx="6705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中国科普佳作精选 》第一部（方宗熙著）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进化论思想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《中国文学史》 第一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1"/>
              </a:rPr>
              <a:t>http://www.bio-engine.c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2"/>
              </a:rPr>
              <a:t>http://www.hhfg.o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/>
              </a:rPr>
              <a:t>http://www.gz-todag.c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eec94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4"/>
              </a:rPr>
              <a:t>http://www.guanzhong.gd.c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 txBox="1"/>
          <p:nvPr/>
        </p:nvSpPr>
        <p:spPr>
          <a:xfrm rot="451200">
            <a:off x="755280" y="907920"/>
            <a:ext cx="10573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课外阅读有关人类起源问题的资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将文中的故事或自己改编的故事讲给你的父母或朋友听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 txBox="1"/>
          <p:nvPr/>
        </p:nvSpPr>
        <p:spPr>
          <a:xfrm>
            <a:off x="2340000" y="1844640"/>
            <a:ext cx="453708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7451640" y="691920"/>
            <a:ext cx="1006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Arial Black"/>
                <a:ea typeface="黑体"/>
              </a:rPr>
              <a:t>盘古开天辟地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7884720" y="764640"/>
            <a:ext cx="801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后羿射日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956360" y="1197000"/>
            <a:ext cx="82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嫦娥奔月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7740720" y="274680"/>
            <a:ext cx="9460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女娲造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女娲造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大家好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!</a:t>
            </a:r>
            <a:r>
              <a:rPr b="0" lang="zh-CN" sz="4400" spc="-1" strike="noStrike">
                <a:solidFill>
                  <a:srgbClr val="003366"/>
                </a:solidFill>
                <a:latin typeface="方正舒体"/>
                <a:ea typeface="方正舒体"/>
              </a:rPr>
              <a:t>我是袁珂。很高兴能与你们一起探讨神话。在探讨过程中，我将向你们提问四大问题，你们有信心解答吗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971640" y="981000"/>
            <a:ext cx="18288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走近袁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6785640" y="184464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《风俗通》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415480" y="1700280"/>
            <a:ext cx="127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04520" y="1700280"/>
            <a:ext cx="2313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女娲在神祠里祷告，祈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神任命她做女媒。于是女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就安排男女婚配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53280" y="6324480"/>
            <a:ext cx="83844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上一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68360" y="0"/>
            <a:ext cx="75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50920" y="69228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请认真比较我的《女娲造人》与《风俗通》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的资料记载，请概括说说我丰富了哪些内容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造人的动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造人的具体过程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人造出来之后欢欣喜悦的场面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女娲像人一样具有心理活动和喜怒哀乐等情绪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我的评述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95280" y="6922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区别如下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5:21:57Z</dcterms:created>
  <dc:creator>wutao</dc:creator>
  <dc:description/>
  <dc:language>en-US</dc:language>
  <cp:lastModifiedBy>zyb</cp:lastModifiedBy>
  <dcterms:modified xsi:type="dcterms:W3CDTF">2004-12-15T07:17:56Z</dcterms:modified>
  <cp:revision>100</cp:revision>
  <dc:subject/>
  <dc:title>幻灯片 1</dc:title>
</cp:coreProperties>
</file>