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media/image10.gif" ContentType="image/gi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0BB-172B-4EE5-B026-D1E1FCB5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68B-23CC-474E-81E5-924549F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FE3-86C3-4A5A-95CC-F8BD5D50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A31-925F-4FE6-809B-CF441959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0A6-4EB6-4B85-B3B0-20924C01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2EBE-8351-4C6E-982E-889A4768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A73D-BA63-4FAE-82C0-C520DD72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710-DCD7-4700-AC8E-F8274046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E3AB-E268-4E19-A4E8-4F7BDDE9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CBF4-C331-453D-8C76-41FFA11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011F-2757-4F79-A46E-597045B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4D4-337B-4D7F-8F2F-EBD6BED3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F0F5-DB7C-43FB-8AFA-9021AFC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F0F2-557C-4CA6-B2ED-E6A1A3E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6B70-8B8E-46AC-800F-51DB766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CD0-2CE7-4225-A9E8-43CC4B9D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CFA9-EAF3-41BD-8910-1081FC7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8C8-34C9-4C91-BD49-B1297088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FEC-417D-4A2C-898C-3531DB5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69F-6F63-4776-B5B4-3A05F7A7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FB2-7618-4972-A6FC-A09FAB4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983-1412-4B44-BCA6-4E396A2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62A-7448-4E21-87BB-50DE8D3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DDC-7E4C-4AC7-A5B1-7FFBF486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583-5639-4CFB-B536-C5F2B226A1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98D-0495-411E-994A-6E1D9D8DC8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23880" y="1447920"/>
            <a:ext cx="510552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女娲造人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5800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47920" y="1600200"/>
            <a:ext cx="5867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3400" y="2209680"/>
            <a:ext cx="44110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比较体会想象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理解人物形象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热爱生命和生活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教学目标</a:t>
            </a:r>
            <a:endParaRPr b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蜡烛" descr=""/>
          <p:cNvPicPr/>
          <p:nvPr/>
        </p:nvPicPr>
        <p:blipFill>
          <a:blip r:embed="rId1"/>
          <a:stretch/>
        </p:blipFill>
        <p:spPr>
          <a:xfrm>
            <a:off x="7647120" y="4800600"/>
            <a:ext cx="585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《风俗通》中关于女娲的记载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66440" y="2133720"/>
            <a:ext cx="4082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常说天地开辟以后，还没有人类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女娲揉团黄土造成人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项工作太费力了，女娲忙不过来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就把一根绳子放到泥浆中，拉出来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溅出的泥点子就成了人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女娲在神祠里祷告，祈求神任命她做女媒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于是女娲就安排男女婚配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26320" y="1960560"/>
            <a:ext cx="6188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娲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wā)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澄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héng):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清澈透明　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绵延：延续不断　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莽莽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榛榛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hēn)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草木丛生的样子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1c1c1c"/>
                </a:solidFill>
                <a:latin typeface="Times New Roman"/>
              </a:rPr>
              <a:t>生字解词</a:t>
            </a:r>
            <a:endParaRPr b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02" descr=""/>
          <p:cNvPicPr/>
          <p:nvPr/>
        </p:nvPicPr>
        <p:blipFill>
          <a:blip r:embed="rId2"/>
          <a:stretch/>
        </p:blipFill>
        <p:spPr>
          <a:xfrm>
            <a:off x="838080" y="6035760"/>
            <a:ext cx="73152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38480" y="838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盘古开天辟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743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补天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0512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女娲像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234468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38680" y="38862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800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造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743200"/>
            <a:ext cx="784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照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风俗通》中关于女娲的</a:t>
            </a:r>
            <a:r>
              <a:rPr b="0" lang="zh-CN" sz="4000" spc="-1" strike="noStrike" u="sng">
                <a:solidFill>
                  <a:srgbClr val="0099ff"/>
                </a:solidFill>
                <a:uFillTx/>
                <a:latin typeface="Times New Roman"/>
                <a:hlinkClick r:id="rId2" action="ppaction://hlinksldjump"/>
              </a:rPr>
              <a:t>记载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，找出课文丰富了哪些内容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，体会想象的写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4240" y="1828800"/>
            <a:ext cx="53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生快速阅读课文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0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3" action="ppaction://hlinksldjump"/>
              </a:rPr>
              <a:t>基础知识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课文分析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8600" y="5410080"/>
            <a:ext cx="11430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人物分析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350720" cy="170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720" y="281952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女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格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分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13200" y="25909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聪明、活泼、好奇心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916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3720" y="41911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勤劳、智慧、伟大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79160" y="4191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4382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00"/>
                </a:solidFill>
                <a:latin typeface="Times New Roman"/>
              </a:rPr>
              <a:t>｛</a:t>
            </a:r>
            <a:endParaRPr b="0" lang="en-US" sz="15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054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课文中的大胆想象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5600" y="2514600"/>
            <a:ext cx="34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造人的具体过程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1400" y="3657600"/>
            <a:ext cx="46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人造出来之后的欢欣喜悦场面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5600" y="4800600"/>
            <a:ext cx="34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具备了人的情绪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0440" y="2362320"/>
            <a:ext cx="707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收集相关的神话故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给弟妹听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查资料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搞清人类的起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想象练习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请你再想出一种造人的方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要求有新意，要大胆合理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</a:rPr>
              <a:t>布置作业</a:t>
            </a:r>
            <a:endParaRPr b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蜡烛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4748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your name</cp:lastModifiedBy>
  <dcterms:modified xsi:type="dcterms:W3CDTF">2003-12-24T13:32:45Z</dcterms:modified>
  <cp:revision>100</cp:revision>
  <dc:subject/>
  <dc:title>PowerPoint Presentation</dc:title>
</cp:coreProperties>
</file>