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97C-9A71-4BAD-877A-8FCF6982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4FF-EE0F-4349-94CD-B49AF59A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676-A206-4C7B-94F9-97654A50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DAB-8EC7-4624-8676-01B7F83B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B7C5-8689-428C-8425-71FC2A44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AF37-924D-47F9-A4B5-D16E3EC5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7AFB-1447-4E71-8B9E-536CADBE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D975-4FC1-4301-A3FF-4384D798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E0DB-25B6-4C7B-B38A-293E6672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D156-29AA-4386-8FB0-315C62B8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8F3D-53C6-42A3-BBCE-75728DCC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680-3177-4FBB-8C4E-2E5F284A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20C9-47AF-460C-92E0-1BA30228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62DF-8746-430A-B6D5-085012B9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B3EB-CDF7-4A71-AEBD-91A3D591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FF5C-2A9A-49AC-A90A-5044AFB7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2740-521E-4676-8EA9-1F31BFD2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E19-C56B-4F2C-B6C0-A76FAA4E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6C6-908C-469C-95B7-8E3E2283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E0A-1647-47D5-82CA-420DF9CB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DEC-203B-4ECF-BD8E-1F4E5CD9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83D-B51D-4A57-AF8C-97B4F932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A55-11FC-4C3E-9B8A-40003D36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556-FBE7-4907-AE87-FD17A0D4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4635-3BDA-4F91-9972-7F2CDF5E81E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954E-D4ED-4284-AC6D-DBAD7ADFF0E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5219640" cy="3500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04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大家喜欢神话吗？你们熟悉的神话都有哪些？那么这些故事是不是真有其事？明明知道这些并不存在，可我们听起来还是觉得津津有味，为什么？确实如此，神话故事当中有丰富的想象，奇妙的情节，瑰丽的色彩，以及奔放的情感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357720"/>
            <a:ext cx="3851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它表现了“人类童年时代的天真”，具有“永久的魅力”。今天就让我们一起走进奇妙的神话世界，感受一下女娲抟土造人的神奇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9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1268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4000" y="2602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课外作业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7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阅读中外神话故事，体会其中的想象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263700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708280"/>
            <a:ext cx="795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00"/>
                </a:solidFill>
                <a:latin typeface="Arial"/>
              </a:rPr>
              <a:t>推荐书籍：袁珂《中国古代神话》 </a:t>
            </a:r>
            <a:br>
              <a:rPr sz="3600"/>
            </a:br>
            <a:br>
              <a:rPr sz="3600"/>
            </a:br>
            <a:r>
              <a:rPr b="1" i="1" lang="zh-CN" sz="3600" spc="-1" strike="noStrike">
                <a:solidFill>
                  <a:srgbClr val="333300"/>
                </a:solidFill>
                <a:latin typeface="Arial"/>
              </a:rPr>
              <a:t>施瓦布（德）《希腊神话故事》 </a:t>
            </a:r>
            <a:br>
              <a:rPr sz="3600"/>
            </a:br>
            <a:br>
              <a:rPr sz="3600"/>
            </a:br>
            <a:r>
              <a:rPr b="1" i="1" lang="zh-CN" sz="3600" spc="-1" strike="noStrike">
                <a:solidFill>
                  <a:srgbClr val="333300"/>
                </a:solidFill>
                <a:latin typeface="Arial"/>
              </a:rPr>
              <a:t>《山海经》 </a:t>
            </a:r>
            <a:br>
              <a:rPr sz="3600"/>
            </a:br>
            <a:br>
              <a:rPr sz="3600"/>
            </a:br>
            <a:r>
              <a:rPr b="1" i="1" lang="zh-CN" sz="3600" spc="-1" strike="noStrike">
                <a:solidFill>
                  <a:srgbClr val="333300"/>
                </a:solidFill>
                <a:latin typeface="Arial"/>
              </a:rPr>
              <a:t>《一千零一夜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40000" y="1989000"/>
            <a:ext cx="73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华文行楷"/>
              </a:rPr>
              <a:t>谢谢大家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42210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ff"/>
                </a:solidFill>
                <a:latin typeface="Arial"/>
                <a:ea typeface="华文行楷"/>
              </a:rPr>
              <a:t>再见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92988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8893080" cy="865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华文行楷"/>
                <a:ea typeface="华文行楷"/>
              </a:rPr>
              <a:t>       </a:t>
            </a:r>
            <a:r>
              <a:rPr b="0" lang="zh-CN" sz="2800" spc="-1" strike="noStrike">
                <a:solidFill>
                  <a:srgbClr val="333300"/>
                </a:solidFill>
                <a:latin typeface="华文行楷"/>
                <a:ea typeface="华文行楷"/>
              </a:rPr>
              <a:t>义务教育课程标准实验教科书   语文  七年级  上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725480" y="2819520"/>
            <a:ext cx="5691240" cy="1218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79640" y="2924280"/>
            <a:ext cx="532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8  </a:t>
            </a:r>
            <a:r>
              <a:rPr b="1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女娲造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298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1341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47628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教学设想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34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这篇课文是袁珂根据《风俗通》有关“女娲造人”的记载改编的。作者运用大胆奇特且合情合理的想象，在原有故事的基础上进行演绎和扩充，使得这个古老的神话传说焕发出新的生机和活力。由于这个故事对学生来说，大都耳熟能详，所以不必对情节过程进行分析；而当着重体会情节中渗透的丰富想象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3284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首先，将课文与《风俗通》中的短文比较，通过比较来感受、鉴别，体会丰富的想象使故事更生动、具体、有趣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149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在探究阅读中，从分析女娲形象入手，把握想象的特点、要求，以小组讨论的形式体会、明确。学生可随即将讨论结果明确在黑板上，这样既调动了学生的积极性，又能够很鲜明地从整体上全面把握女娲形象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8770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带着对想象的理解，学以致用，扩写神话《夸父追日》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42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学习目标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981000"/>
            <a:ext cx="77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、比较阅读，整体感知故事情节，初步感受想象的作用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、探究阅读，体会神话故事中想象的魅力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、拓展阅读，试运用创造性想象扩写神话。</a:t>
            </a: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78936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学习重点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479736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、体会神话故事中想象的魅力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、把握想象的特点，尝试运用大胆合理的想象。</a:t>
            </a:r>
            <a:r>
              <a:rPr b="0" lang="zh-CN" sz="1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771640" cy="765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260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教学过程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52640"/>
            <a:ext cx="93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比较阅读，整体感知故事情节，初步感受想象的作用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9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、请大家把书打开到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153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页，齐读课后习题下面的词语。然后小声读课文，思考下列问题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2781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将课文与课后《风俗通》中的短文比较阅读。你更喜欢哪一篇，为什么？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350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答：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大多数同学更喜欢课文。袁珂的《女娲造人》是根据《风俗通》中的两则短文改编的。《风俗通》中的短文想象大胆，情节较简单，是故事的骨架。袁珂的《女娲造人》在此基础上，想象更丰富，情节更具体，使得故事血肉丰满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01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比较后筛选，课文中哪些情节更能体现作者的想象力？有感情地读一读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56707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答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：更能体现作者的想象力的情节，如：女娲造人的动机、造人的过程、人类诞生后的喜悦感、女娲的喜怒哀乐……挑出语段品读，着重体会人类诞生的喜悦感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给大家提高点要求，能不能用你的口头语言，再现这个生动有趣的故事？</a:t>
            </a: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1989000"/>
            <a:ext cx="80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讲故事：选择自己喜欢的情节讲述，尽量投入感情，表述连贯，力求生动。</a:t>
            </a:r>
            <a:r>
              <a:rPr b="0" lang="zh-CN" sz="1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14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说明：同位之间合作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互相讲述；推荐两三个同学当众讲述，鼓励借助肢体语言表现。</a:t>
            </a: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08360" cy="1197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260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探究阅读：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19700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体会神话故事中想象的魅力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9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、美好的故事不能浅尝辄止，让我们来共同探讨这则神话中想象的焦点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----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女娲。 </a:t>
            </a:r>
            <a:br>
              <a:rPr sz="2400"/>
            </a:b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讨论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结合文中想象的情节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体会女娲形象。完成句式：女娲是一个（            ）。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71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勤劳、慈祥、聪明、活泼、情感丰富、有伟大的神力……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50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333300"/>
                </a:solidFill>
                <a:latin typeface="宋体"/>
              </a:rPr>
              <a:t>、结合教师的板书，浅析女娲。 </a:t>
            </a:r>
            <a:br>
              <a:rPr sz="2400"/>
            </a:br>
            <a:r>
              <a:rPr b="1" lang="zh-CN" sz="2400" spc="-1" strike="noStrike">
                <a:solidFill>
                  <a:srgbClr val="333300"/>
                </a:solidFill>
                <a:latin typeface="宋体"/>
              </a:rPr>
              <a:t>板书中有的将女娲看成神，有的将女娲看成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5445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女娲到底是神还是人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5445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（明确：神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6021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女娲是现实生活中没有的，她是借助什么创造的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602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（明确：想象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19640" cy="865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拓展阅读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10526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试运用创造性想象扩写神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205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展开大胆奇特而又合情合理的想象，扩写《夸父追日》。选择一处情节，写片断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35772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夸父拄着杖，去追赶太阳。当他到达太阳将要落入的禺谷之际，觉得口干舌燥，便去喝黄河和渭河的水，河水被他喝干后，口渴仍没有止住。他想去喝北方大泽里的水，还没有走到，就渴死了。夸父临死，抛掉手里的杖，这杖顿时成了一片鲜果累累的桃林，为后来追求光明的人解除口渴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791480" y="5648400"/>
            <a:ext cx="1352520" cy="1209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08360" cy="1582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9640" y="69228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教师小结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628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爱因斯坦曾说过：“想象力比知识更重要，因为知识是有限的，而想象概括着世界上的进步，推动着进步，并且是知识进化的源泉。”大胆合理的想象不仅可以锦上添花，有时也能化腐朽为神奇。古今中外的神话故事便是“想象”的宝藏，有待大家去开采。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566748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让我们插上想象的翅膀，张开想象的双翼自由飞翔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2:47:39Z</dcterms:created>
  <dc:creator>wutao</dc:creator>
  <dc:description/>
  <dc:language>en-US</dc:language>
  <cp:lastModifiedBy>lizhigang</cp:lastModifiedBy>
  <dcterms:modified xsi:type="dcterms:W3CDTF">2004-11-15T07:36:51Z</dcterms:modified>
  <cp:revision>100</cp:revision>
  <dc:subject/>
  <dc:title>幻灯片 1</dc:title>
</cp:coreProperties>
</file>