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05E-9E03-4C84-A5DC-6FC4C356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9EF-2C89-4EE6-892E-57D68021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3A7-E82F-4EC9-AB20-94A86B13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A78-A892-453A-A86F-2245A067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9B1-7C5B-4EEA-93A1-A047C4EF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F5D-BCF4-4F43-ABDE-9DD976CB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5C7-2E84-44A2-86E4-8EC50CFB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B59-E46D-438D-95FB-E708C34B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149-7B55-4D36-A5C4-D0F23765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059-EB04-4FD4-BFED-4E6AC14B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BD1-B59E-4884-8E0F-2B4338E1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2BE-DA57-4304-AAF4-EB63F4C2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9A73-E693-4078-B745-54F33E92FA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831960"/>
            <a:ext cx="723888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066680"/>
            <a:ext cx="8153640" cy="3048120"/>
          </a:xfrm>
          <a:prstGeom prst="wedgeRectCallout">
            <a:avLst>
              <a:gd name="adj1" fmla="val -38490"/>
              <a:gd name="adj2" fmla="val 694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143000"/>
            <a:ext cx="8077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根据《风俗通》里的有关资料改编了一个《女娲造人》的故事，请你们到《神话故事新编》了去看看 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切盼你们的回应：你们更喜欢哪一篇，为什么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2520" y="5361120"/>
            <a:ext cx="109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袁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0"/>
            <a:ext cx="7391160" cy="441972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1523880"/>
            <a:ext cx="4952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喜欢，请把它推荐给你的朋友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45720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袁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8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91440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Times New Roman"/>
                <a:ea typeface="华文行楷"/>
              </a:rPr>
              <a:t>合作探究</a:t>
            </a:r>
            <a:r>
              <a:rPr b="1" lang="zh-CN" sz="3600" spc="-1" strike="noStrike">
                <a:solidFill>
                  <a:srgbClr val="111111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111111"/>
                </a:solidFill>
                <a:latin typeface="Times New Roman"/>
              </a:rPr>
              <a:t>、        鲜明的人物形象。（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方法指导：先用括号标出描写女娲的重要词语，然后分析女娲是怎样的一个形象。</a:t>
            </a:r>
            <a:r>
              <a:rPr b="1" lang="zh-CN" sz="3600" spc="-1" strike="noStrike">
                <a:solidFill>
                  <a:srgbClr val="111111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        </a:t>
            </a:r>
            <a:r>
              <a:rPr b="1" lang="zh-CN" sz="3600" spc="-1" strike="noStrike">
                <a:solidFill>
                  <a:srgbClr val="111111"/>
                </a:solidFill>
                <a:latin typeface="Times New Roman"/>
              </a:rPr>
              <a:t>美好的情感。（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方法指导：先用波浪线划出体现喜悦感的重要词句，然后说说你对这一喜悦感的体会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228600"/>
            <a:ext cx="3124080" cy="1600200"/>
          </a:xfrm>
          <a:custGeom>
            <a:avLst/>
            <a:gdLst>
              <a:gd name="textAreaLeft" fmla="*/ 713160 w 3124080"/>
              <a:gd name="textAreaRight" fmla="*/ 2410920 w 312408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590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请你对女娲造人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动机或经过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做另一种推测，说说你编的《女娲造人》，跟袁珂比一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6858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开动机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3880" y="2743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外再收集一些人类起源的说法，以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人类起源神话的魅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写一篇文章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字左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80880"/>
            <a:ext cx="3809880" cy="129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6858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别忘了！！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824040"/>
            <a:ext cx="74674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_31711" descr=""/>
          <p:cNvPicPr/>
          <p:nvPr/>
        </p:nvPicPr>
        <p:blipFill>
          <a:blip r:embed="rId1"/>
          <a:srcRect l="0" t="10018" r="0" b="0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43400" y="182880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女娲造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_31711" descr=""/>
          <p:cNvPicPr/>
          <p:nvPr/>
        </p:nvPicPr>
        <p:blipFill>
          <a:blip r:embed="rId1"/>
          <a:srcRect l="0" t="9138" r="0" b="0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hst003_pic1b" descr=""/>
          <p:cNvPicPr/>
          <p:nvPr/>
        </p:nvPicPr>
        <p:blipFill>
          <a:blip r:embed="rId2"/>
          <a:stretch/>
        </p:blipFill>
        <p:spPr>
          <a:xfrm>
            <a:off x="2666880" y="685800"/>
            <a:ext cx="3508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O01871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50240"/>
          </a:xfrm>
          <a:prstGeom prst="rect">
            <a:avLst/>
          </a:prstGeom>
          <a:ln w="0">
            <a:noFill/>
          </a:ln>
        </p:spPr>
      </p:pic>
      <p:pic>
        <p:nvPicPr>
          <p:cNvPr id="50" name="hst003_pic2b" descr=""/>
          <p:cNvPicPr/>
          <p:nvPr/>
        </p:nvPicPr>
        <p:blipFill>
          <a:blip r:embed="rId2"/>
          <a:stretch/>
        </p:blipFill>
        <p:spPr>
          <a:xfrm>
            <a:off x="2446200" y="1703520"/>
            <a:ext cx="4251600" cy="3450960"/>
          </a:xfrm>
          <a:prstGeom prst="rect">
            <a:avLst/>
          </a:prstGeom>
          <a:ln w="0">
            <a:noFill/>
          </a:ln>
        </p:spPr>
      </p:pic>
      <p:pic>
        <p:nvPicPr>
          <p:cNvPr id="51" name="pic_31711" descr=""/>
          <p:cNvPicPr/>
          <p:nvPr/>
        </p:nvPicPr>
        <p:blipFill>
          <a:blip r:embed="rId3"/>
          <a:srcRect l="0" t="7893" r="0" b="0"/>
          <a:stretch/>
        </p:blipFill>
        <p:spPr>
          <a:xfrm>
            <a:off x="685800" y="0"/>
            <a:ext cx="23749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922080" y="1523880"/>
            <a:ext cx="1155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卷七十八      风俗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st003_pic2b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2362320" cy="203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77200" y="685800"/>
            <a:ext cx="1409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俗说开天辟地，未有人民，女娲拌黄土做人。剧务力不暇供，乃引绳于泥中，举以为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女娲祷祠神，裨面为女媒，故置婚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533520"/>
            <a:ext cx="670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译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066680"/>
            <a:ext cx="8305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通常说天地开辟以后，还没有人类。女娲揉团黄土造成人。这项工作太费力了，女娲忙不过来，就把一根绳子放到泥浆中，拉出来，溅出的泥点子就成了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女娲在神祠里祷告，祈求神任命她做女媒。于是女娲就安排男女婚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5:45:10Z</dcterms:created>
  <dc:creator>wutao</dc:creator>
  <dc:description/>
  <dc:language>en-US</dc:language>
  <cp:lastModifiedBy>a</cp:lastModifiedBy>
  <dcterms:modified xsi:type="dcterms:W3CDTF">2004-12-16T07:27:02Z</dcterms:modified>
  <cp:revision>100</cp:revision>
  <dc:subject/>
  <dc:title>PowerPoint 演示文稿</dc:title>
</cp:coreProperties>
</file>