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8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34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10F4-5F37-4710-9A44-4A53D8918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8965-CA04-45BA-A11B-D3B31073A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0E9F-8F91-4995-A801-421B57CBA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7E04-069F-43B1-973F-DEFC7988C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F421-78FE-4E75-868C-CDF20F3C5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CEF6-3ED9-4472-AB81-15F87AF6D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A954-B099-435B-8CC4-2E5055865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B185-1FD7-481D-8242-081DFFC80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345A-3D60-44D7-A359-A809044B0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968E-C2BA-4F0A-BE13-766DD0C3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88CE-280D-49BA-8B19-BB1DAFBE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3E13-1191-4BD6-AF11-6157A065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304E9-FC0A-4D0A-A736-36B30AD29F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3382920" cy="2952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427640" y="189000"/>
            <a:ext cx="3959280" cy="29764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95280" y="3357720"/>
            <a:ext cx="3672000" cy="3238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427640" y="3463920"/>
            <a:ext cx="3960720" cy="3005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893080" y="6453360"/>
            <a:ext cx="250920" cy="40464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404640"/>
              <a:gd name="textAreaBottom" fmla="*/ 388440 h 404640"/>
            </a:gdLst>
            <a:ahLst/>
            <a:rect l="textAreaLeft" t="textAreaTop" r="textAreaRight" b="textAreaBottom"/>
            <a:pathLst>
              <a:path w="21600" h="34814">
                <a:moveTo>
                  <a:pt x="0" y="0"/>
                </a:moveTo>
                <a:lnTo>
                  <a:pt x="21600" y="0"/>
                </a:lnTo>
                <a:lnTo>
                  <a:pt x="21600" y="34814"/>
                </a:lnTo>
                <a:lnTo>
                  <a:pt x="0" y="34814"/>
                </a:lnTo>
                <a:close/>
              </a:path>
              <a:path fill="lightenLess" w="21600" h="348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814">
                <a:moveTo>
                  <a:pt x="21600" y="0"/>
                </a:moveTo>
                <a:lnTo>
                  <a:pt x="21600" y="34814"/>
                </a:lnTo>
                <a:lnTo>
                  <a:pt x="20200" y="33414"/>
                </a:lnTo>
                <a:lnTo>
                  <a:pt x="20200" y="1400"/>
                </a:lnTo>
                <a:close/>
              </a:path>
              <a:path fill="darkenLess" w="21600" h="34814">
                <a:moveTo>
                  <a:pt x="21600" y="34814"/>
                </a:moveTo>
                <a:lnTo>
                  <a:pt x="0" y="34814"/>
                </a:lnTo>
                <a:lnTo>
                  <a:pt x="1400" y="33414"/>
                </a:lnTo>
                <a:lnTo>
                  <a:pt x="20200" y="33414"/>
                </a:lnTo>
                <a:close/>
              </a:path>
              <a:path fill="lighten" w="21600" h="34814">
                <a:moveTo>
                  <a:pt x="0" y="34814"/>
                </a:moveTo>
                <a:lnTo>
                  <a:pt x="0" y="0"/>
                </a:lnTo>
                <a:lnTo>
                  <a:pt x="1400" y="1400"/>
                </a:lnTo>
                <a:lnTo>
                  <a:pt x="1400" y="3341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" nodeType="after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wedg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dissolv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0" r="0" b="779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dissolv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rcRect l="0" t="10018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ssolv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rcRect l="17556" t="15748" r="6067" b="1426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8893080" y="6308640"/>
            <a:ext cx="250920" cy="54936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549360"/>
              <a:gd name="textAreaBottom" fmla="*/ 533160 h 549360"/>
            </a:gdLst>
            <a:ahLst/>
            <a:rect l="textAreaLeft" t="textAreaTop" r="textAreaRight" b="textAreaBottom"/>
            <a:pathLst>
              <a:path w="21600" h="47254">
                <a:moveTo>
                  <a:pt x="0" y="0"/>
                </a:moveTo>
                <a:lnTo>
                  <a:pt x="21600" y="0"/>
                </a:lnTo>
                <a:lnTo>
                  <a:pt x="21600" y="47254"/>
                </a:lnTo>
                <a:lnTo>
                  <a:pt x="0" y="47254"/>
                </a:lnTo>
                <a:close/>
              </a:path>
              <a:path fill="lightenLess" w="21600" h="47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7254">
                <a:moveTo>
                  <a:pt x="21600" y="0"/>
                </a:moveTo>
                <a:lnTo>
                  <a:pt x="21600" y="47254"/>
                </a:lnTo>
                <a:lnTo>
                  <a:pt x="20200" y="45854"/>
                </a:lnTo>
                <a:lnTo>
                  <a:pt x="20200" y="1400"/>
                </a:lnTo>
                <a:close/>
              </a:path>
              <a:path fill="darkenLess" w="21600" h="47254">
                <a:moveTo>
                  <a:pt x="21600" y="47254"/>
                </a:moveTo>
                <a:lnTo>
                  <a:pt x="0" y="47254"/>
                </a:lnTo>
                <a:lnTo>
                  <a:pt x="1400" y="45854"/>
                </a:lnTo>
                <a:lnTo>
                  <a:pt x="20200" y="45854"/>
                </a:lnTo>
                <a:close/>
              </a:path>
              <a:path fill="lighten" w="21600" h="47254">
                <a:moveTo>
                  <a:pt x="0" y="47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4585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3000">
    <p:dissolv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dissolv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wedg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2333520" cy="2857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700360" y="549360"/>
            <a:ext cx="3029040" cy="3809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296040" y="476280"/>
            <a:ext cx="2847960" cy="1571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250920" y="3068640"/>
            <a:ext cx="3025800" cy="3527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6119640" y="2133720"/>
            <a:ext cx="3024360" cy="2438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7020000" y="4149720"/>
            <a:ext cx="1904760" cy="2305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3780000" y="3573360"/>
            <a:ext cx="3076560" cy="30276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amond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80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30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80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30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80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508720" y="189000"/>
            <a:ext cx="2954160" cy="6048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50920" y="3867120"/>
            <a:ext cx="4027320" cy="2557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395280" y="260280"/>
            <a:ext cx="3960720" cy="324000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diamond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0"/>
                            </p:stCondLst>
                            <p:childTnLst>
                              <p:par>
                                <p:cTn id="60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47640" y="260280"/>
            <a:ext cx="1584360" cy="1656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211640" y="0"/>
            <a:ext cx="2933640" cy="4238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95280" y="2852640"/>
            <a:ext cx="3171960" cy="3124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5364000" y="3048120"/>
            <a:ext cx="3057840" cy="380988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diamond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60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3810240" cy="2391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042920" y="2492280"/>
            <a:ext cx="3105360" cy="38102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643280" y="3357720"/>
            <a:ext cx="3219480" cy="3160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4788000" y="260280"/>
            <a:ext cx="4032000" cy="302436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diamond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5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0"/>
                            </p:stCondLst>
                            <p:childTnLst>
                              <p:par>
                                <p:cTn id="94" nodeType="afterEffect" fill="hold" presetClass="entr" presetID="5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0" nodeType="afterEffect" fill="hold" presetClass="entr" presetID="5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40360" cy="3357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427640" y="0"/>
            <a:ext cx="4716360" cy="3357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0" y="3357720"/>
            <a:ext cx="4140360" cy="3500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4427640" y="3429000"/>
            <a:ext cx="4716360" cy="34290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diamond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5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3263760"/>
            <a:ext cx="5041800" cy="359424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0" r="0" b="2744"/>
          <a:stretch/>
        </p:blipFill>
        <p:spPr>
          <a:xfrm>
            <a:off x="0" y="-36360"/>
            <a:ext cx="9144000" cy="68943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 spokes="8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circl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8T02:27:47Z</dcterms:created>
  <dc:creator>wutao</dc:creator>
  <dc:description/>
  <dc:language>en-US</dc:language>
  <cp:lastModifiedBy>a</cp:lastModifiedBy>
  <dcterms:modified xsi:type="dcterms:W3CDTF">2004-12-16T07:31:51Z</dcterms:modified>
  <cp:revision>100</cp:revision>
  <dc:subject/>
  <dc:title>幻灯片 1</dc:title>
</cp:coreProperties>
</file>