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355E2-8C2A-439D-A969-0A9D40BE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9331-FE36-4654-825D-08417BAE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49D9-07FF-400A-9CBD-D344DB1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2F89-BA06-4329-A3C9-20525898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19C5-FBA2-4A3D-8928-FAAD31A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6FF8E-E324-4527-AB33-91668295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B7D6D-C2A4-4C0F-ABBD-9BA10F1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F1C03-2B55-421F-BB33-4BEEA94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918DB-4360-412C-A6B5-058D74D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B3F3-58F7-4ECB-9335-29F9C02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A0EF8-0EF4-43A1-9146-7304A7A6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A2FBE-81C4-4A6C-A910-AA76E568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70CA-C5E7-45AA-AB78-CEDD69A6B2E3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</a:rPr>
              <a:t>女娲造人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8640" y="35809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袁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《女娲造人》邮票设计稿" descr=""/>
          <p:cNvPicPr/>
          <p:nvPr/>
        </p:nvPicPr>
        <p:blipFill>
          <a:blip r:embed="rId2"/>
          <a:stretch/>
        </p:blipFill>
        <p:spPr>
          <a:xfrm>
            <a:off x="2652840" y="3886200"/>
            <a:ext cx="1538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71840" y="1904760"/>
            <a:ext cx="1981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女娲感到非常孤独。她觉得在这天地之间，应该添一点什么东西进去，让它生气蓬勃起来才好。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美术片《女娲补天》剪影1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48160" y="1523880"/>
            <a:ext cx="190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她就顺手从池边掘起一团黄泥，掺合了水，在手里揉团着，揉团着，揉团成了第一个娃娃模样的小东西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美术片《女娲补天》剪影2" descr=""/>
          <p:cNvPicPr/>
          <p:nvPr/>
        </p:nvPicPr>
        <p:blipFill>
          <a:blip r:embed="rId3"/>
          <a:stretch/>
        </p:blipFill>
        <p:spPr>
          <a:xfrm>
            <a:off x="150840" y="1370160"/>
            <a:ext cx="57164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4480" y="1676160"/>
            <a:ext cx="1981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不久，大地上就布满了人类的踪迹。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美术片《女娲补天》剪影3" descr=""/>
          <p:cNvPicPr/>
          <p:nvPr/>
        </p:nvPicPr>
        <p:blipFill>
          <a:blip r:embed="rId3"/>
          <a:stretch/>
        </p:blipFill>
        <p:spPr>
          <a:xfrm>
            <a:off x="150840" y="1370160"/>
            <a:ext cx="57164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积累词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词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澄澈　掺合　揉团　非凡　气概　孤独　安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灵敏　幽光　溅落　绵延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四字短语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兽虫鱼　荒凉寂寞　神通广大　生气蓬勃　莽莽榛榛　各种各样　灵机一动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兴高采烈　眉开眼笑　聪明美丽　满心欢喜　跳跃欢呼　疲倦不堪　简单省事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世代代　一般无二  山川草木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了解神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神话故事多数是民间口头创作，后来由文人记录、整理而成的。其特点有三：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多产生于人们还不能认识和支配大自然的原始社会时期，所以故事对天地万物的解释是幼稚天真的；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以神的形象或神化了的人作为故事的中心；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富于神奇的幻想，自然界的现象大多被描绘成有生命的并赋予了人的特点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研讨问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女娲在你心中是一个怎样的形象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阅读全文，根据文章内容，提出自己的见解，共同讨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参考观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神通广大的“神”。她非凡的能力，她造人的手段、方法体现了“神”的威力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普通的“人”。她有人的孤独感。她走在莽莽榛榛的原野上，感到“在这天地之间，应该添一点什么东西进去，让它生气蓬勃起来才好”。她有人的喜怒之情，她会笑，她会假装生气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活泼、充满活力与创造力的孩子。当她看到自己的影子时，“就忽然灵机一动：世间各种各样的生物都有了，单单没有像自己一样的生物，那为什么不创造一种像自己一样的生物加入到世间呢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?”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这种口吻非常孩子气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勤劳的母亲。例如：她工作着，工作着，一直工作到晚霞布满天空，星星和月亮射出幽光。夜深了，她只把头枕在山崖上，略睡一睡，第二天，天刚微明，她又赶紧起来继续工作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喜爱孩子的妈妈。女娲看着她亲手创造的这个聪明美丽的生物，又听见“妈妈”的喊声，不由得满心欢喜，眉开眼笑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ymr</cp:lastModifiedBy>
  <dcterms:modified xsi:type="dcterms:W3CDTF">2006-09-06T02:16:01Z</dcterms:modified>
  <cp:revision>101</cp:revision>
  <dc:subject/>
  <dc:title>PowerPoint Presentation</dc:title>
</cp:coreProperties>
</file>