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%E6%8F%90%E7%A4%BA2.wav" ContentType="audio/x-wav"/>
  <Override PartName="/ppt/media/image17.jpeg" ContentType="image/jpeg"/>
  <Override PartName="/ppt/media/image24.wmf" ContentType="image/x-wmf"/>
  <Override PartName="/ppt/media/image21.jpeg" ContentType="image/jpeg"/>
  <Override PartName="/ppt/media/chimes.wav" ContentType="audio/x-wav"/>
  <Override PartName="/ppt/media/image13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5.gif" ContentType="image/gif"/>
  <Override PartName="/ppt/media/image19.jpeg" ContentType="image/jpeg"/>
  <Override PartName="/ppt/media/image9.jpeg" ContentType="image/jpeg"/>
  <Override PartName="/ppt/media/image11.png" ContentType="image/png"/>
  <Override PartName="/ppt/media/image20.jpeg" ContentType="image/jpeg"/>
  <Override PartName="/ppt/media/image29.gif" ContentType="image/gif"/>
  <Override PartName="/ppt/media/image31.gif" ContentType="image/gif"/>
  <Override PartName="/ppt/media/image30.jpeg" ContentType="image/jpeg"/>
  <Override PartName="/ppt/media/image18.jpeg" ContentType="image/jpeg"/>
  <Override PartName="/ppt/media/image1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A0A-5FB1-4B5F-A82E-BCEFDAD0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2EB-F9F4-4C28-932C-F579451E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4C8C0-44BB-4FB9-BAFD-9429AE06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4E19E-0AC0-4A5E-BEB3-12893EE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12AB8-87F4-4F0A-AE7F-20139F66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DE734-A0C4-4F7A-8DCA-39C766C8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52B5E-92AA-4D2D-B6C2-49AA80B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981D8-F757-4ED8-93E7-54323902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9BE73-5A45-4355-8CDF-0CA352A6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3474A-B0CE-45B1-938A-95FF2D8B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1F6CA-5EBF-41F7-84DA-5452B269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2A56A-9B5F-492C-8CC1-E8F8B8FB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D31-C23E-4295-8F68-157F2EBD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98476-EA4B-4B2D-B20F-AA7A6C60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78599-FA51-4D36-82AF-02A098F5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7B849-3978-47F4-BC9F-761B6BD1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05B9B-2B56-4BCE-9CEB-7A97C964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6413E-1FD0-460C-B376-7F5543C1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AADD4-5C86-4AFA-9B5E-2325DF1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9AA4E-9A48-468A-8699-6F10FDC9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A2615-76CF-4B66-B385-EC797A2C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B2844-C6C8-41B4-9253-6A41CE7C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AE2A9-399E-401B-B20F-2EAA70E9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137-4D70-4AE0-8F92-BAA0FC5E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B4F74-E734-485C-B2A9-5C874D49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114F-C7FF-4F1E-A017-C3DD86FE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36387-21D9-4CCA-8547-EA20A567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9EA9D-7D48-4690-B944-11DA6C4E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88FF6-40CD-4F56-9ADD-44F60877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171E0-AD32-4A76-9540-45E7AE41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289FA-B7E2-4F3A-A37F-DDC56B45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0CF03-A29D-43B5-A077-BC1DD39B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9DA8C-E00C-4659-9DFC-7838C169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1AE4-8456-4480-816D-0F9DD0B9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73941-5ED2-4D08-9D0F-44847B8D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643C2-B837-4541-AE24-C99500E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6C05A-976E-432C-A59F-7ECE2291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47A7E-CE24-456A-BAD5-6FCD76F1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80E86-A450-4345-B074-E755E0BD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A495C-E913-4BBB-8B5E-C9336C41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D5E05-F819-46A0-AA8D-41052799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B3EC5-B4F7-45F2-8797-1C1482BB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A2B58-3AFA-41F2-9EBB-F4EDCA1C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03FBB-F557-455E-A9CA-159A69ED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26B2-E958-4483-9CBD-D8293784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B965E-3E34-4B74-AD0D-1B4E49B4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12CD0-69C6-41AA-A9A7-5D96F2F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B4BCD-D796-4550-97B3-BE4F98EC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33312-C0E0-4BEA-9ADF-5E66AF92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28783-E4ED-4C39-85E5-16D7123C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33A09-E68A-4DF4-86B0-4FFEEA3F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67D24-DEAB-46E8-B7FB-10D5C393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1E711-F727-48B1-B830-D39E1AC7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172BD-192F-49AC-8563-B119FF32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21B2C-46A4-47CB-9622-67A533B2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828C-7C66-45E5-80AA-A9D08A60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E6404-3604-460A-BD94-E9ED6289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5ACF3-94AD-4BAA-A577-74746281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970F5-58D3-4A53-9773-EB05F5E9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BDDC8-3157-47F7-B967-1EF967C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89A70-466B-41A9-826A-77400507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1D024-8D84-43C0-942F-4858894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D1E5E-0501-456F-A224-02D70E36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47A06-9C24-4EE2-88F9-0EB715F8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B8E70-2DF0-45EE-83DF-03D0290A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F8CEA-4C35-4427-A80A-58C6A5CA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2346-D73F-4381-86E4-64960797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FB550-36C5-4A89-8329-A6016FC3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4312C-6954-48B5-88DE-EA61242C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09D1A-296D-4593-8EC0-C06E5F59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65AE4-D251-44C4-A211-70BC1C5B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5C86A-2E04-4094-B2D2-D0C781BC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B74B3-B491-41BC-8CD8-2A17F75B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BF564-3530-4FF8-87EF-D72EEBAC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64F6C-0C12-4F72-9249-4AA394F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8AF2F-1588-4DBA-8468-C786F136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F40ED-E0AB-485E-B069-AB859036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4514-6854-4C17-B6EB-2D2EB35D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28ABF-E8F1-46C0-9D6D-DA0BD81E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E8BCF-2A73-44A7-9AD7-578BEEBC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C86CB-9711-4305-90BE-EDF918CF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C7993-91ED-43D4-8766-B9B0895A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91C5B-FCD8-478F-9B8F-86443F77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215C9-5346-488C-B501-0E110117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CBE82-3275-4D5F-B932-C595FEB1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5432A-1703-4230-AC26-0BD4DBC8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C31CF-8600-4C5D-A14A-FCDBAA0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CFB8D-280B-4BFF-9337-40F3958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8F6F-A24F-438A-A898-234D9DAB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8AE3B-E230-4FDA-942F-9C83CFA4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C106E-4DF8-41A6-BDE6-DB8EF3A5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61832-764E-4710-BC43-193A3314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9F4B5-E554-4DB4-90CA-5B083F8A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98C7A-FD86-4D6E-A6D9-1C6F12E1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3DB03-278C-4D24-803B-EB46AA6B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82601-29BC-42F0-A838-FE002DF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A6877-F9A4-492C-BD49-C26294E7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5F10E-31D1-4EFC-A7F0-9624CF69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14BD1-20A2-42CA-9132-F45DE423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6D8-F2C5-4661-815C-0F5253DC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41E4-FB45-4C84-930D-9825BD9C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00837-DD16-415F-A510-C6F40C42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3541F-C429-482A-B69F-5F48FF9E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D45C0-34CE-49C6-A33E-90417976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53CC2-77E4-469E-9789-56473A70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CB221F-DDB0-4B89-BB7E-15F6DA7A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60DD8-5B7C-4A7A-A04C-A3A7011A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517AD9-E0C2-448E-93D2-C5C3AE34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8B0CD-8EED-4226-891F-D5EF18B2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AD2F5-452F-4522-8CF2-F7BA4180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2BA08-886F-47ED-9E80-0C7FCD1C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362E-2BD1-4CC3-B9CD-CF9FE0D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5D06C-FBA8-40DB-8A87-B8EE9DFD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470F6-9D47-4CAB-B504-7F4F0AE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070DA-FDCE-428E-AC6E-7D9ADF4B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7F3A8-9E57-46C0-B409-1EEF32C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0BDB5-FBEC-423B-9AB8-55FDF88D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DE9C3-EFDA-4CF8-AAF2-A613DC8D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ECD52-9085-44EA-99AF-B3246FD0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50334-2189-454F-8B1F-E04D62F2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B2791-D2F2-4482-93B1-1A5786BD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9A476-2BF5-45D2-9E51-CBD256D2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E2C1-9F56-48F0-9036-AC5D32DC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5894B9-4326-4683-B54A-D921DCCE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9569A-5225-419C-BA95-00EA3BBC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B47D95-25ED-44D7-9904-F0994011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16630-F906-42C3-8731-F096508E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4CE9E1-3008-42F3-B8BA-16A65156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9C742-D732-4FC1-A4DC-33A95B37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AA0A8-ED95-46ED-A066-B3191B2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AD547-8E84-46F8-AF53-38E69503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C1515-FB7B-409A-B381-4A4CE53A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935BC-FA4C-46DE-8BC7-35007AE3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0FB9-62CF-4E21-9E61-D5E7CF1A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9016B-09F4-4E73-928A-A227219B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25B5B1-4851-4D38-BAEB-984BFA1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B0DE8-9BC6-44FF-B687-6B20125D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659B7-D4F8-40F8-AB41-04F00931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4E14E-EB9D-413F-B735-82172499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B4FB9-9150-47EF-B926-494FFAB2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28922-65CC-43B4-BFB9-3C5E46D3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97E16-CE72-4422-AFCA-1EBFA9DD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1BE61-95F1-4AEC-AA2F-CF9F88FD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0A8A7-A634-4884-A7F6-521F0911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7C4F-D6C6-4448-973E-BC96C465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4CA5F-D2F1-4A01-8E6C-E17004D3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DEFBC-E30B-4CFB-96DD-A9F63C71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A19F2A-66FA-4515-AC27-16D0208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DE15C-F06F-461C-B289-590B87D9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05CBD-E2C5-4130-B3B2-B6C4242B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1DAF16-2B9E-4BFF-A072-18555603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04A2F-5574-4AEF-A48C-D5A2596E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4A3A1-0E11-4E27-9F1F-CD9DBC5D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2B9AD-A3FC-466E-A2A6-76927830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49671-6A71-4F35-8413-59D4B97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705B-5A7B-44C5-9938-465031CE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7583ED-F99B-4163-ADF2-22B7A87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6FEAD-DCA4-46D6-9D6D-C0AB0C00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AF5BA-CA5C-43E0-97DC-5FA788D2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25781-0C91-403F-8C76-2058709F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73D2A-E13D-47D4-B92A-C877CA04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9591D1-A614-4F93-8B69-288E39B7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5D12C-6C9B-4FC9-8A96-8240CC1D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FD710-B38A-4E98-B4D4-CC80C7F2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ACB5C3-29AE-48B8-9723-29C861CC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34A4E6-83E6-47E3-A160-370D0E8A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E91F-B556-4627-8799-9A16FE64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4FB4B-93ED-4E9F-9C64-09D7EC9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F9173-374E-4B33-9818-CF33D76F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6E143-1B5D-49AB-88AE-97EF471B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7E028-8A2B-4362-A263-89FDD9B8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14F3B-E74D-4BC6-A89E-7C9BA964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82B247-6996-4889-9E9E-33D2DE9C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B700A7-A615-482B-A26C-2D2908F6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17CAB1-0395-473B-A9B8-82485824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3B80A3-AECB-4202-9DBC-AC0F78A5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504A36-50B6-4923-A5A3-070AF52A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B777-6585-4CBA-A15D-D96CE0F9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65AA4E-5CD1-4C51-A17D-7338C89E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AC4227-E15F-4E1B-B97F-16303601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22FA04-C325-45BC-B704-D4978754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65129F-6031-45FC-B2DC-FAB14A0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20717F-1C21-4F66-998E-3DE58B42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63A990-FFCB-4159-9E4F-6EFD8483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03AD03-EDC4-47A7-93A9-431F29B8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DDD38E-A3F4-403E-8DBD-746AFE7A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C6AD92-9886-4D7B-A8A8-8000D8F3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6A3733-D2FC-4BE5-A5CB-35B8B46B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4384-90D1-4831-B6E0-7300092D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F465FC-5980-4CAC-BDFF-D0B9E3F5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F1CADB-34EC-4E39-A069-3948C7E8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42E131-891D-4919-A428-B4405CD0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1EC10E-F3D3-4F43-823D-460ECC7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AFEA67-D488-45F8-A4B3-004A5B5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0FCC98-0ECA-48AB-AF24-CDBD3C7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85D812-0D4A-4D4C-9595-93A00E71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7A2A4-895C-4205-97A3-284E2769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23FECE-0201-4CF3-AC48-72EAF5F0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AED8F5-D266-4773-9F35-52961714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F5FC1-FC4C-4B46-A30B-5940D52C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826E4F-AC13-47F3-B486-54FABA86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6A2940-3702-4B9E-B85C-F9A5303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F4DE55-6044-4DCA-9070-348C58A8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6987C6-0FEE-433E-89B5-E9B1F9F7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CF975F-06FE-4CBC-93C9-1437B2F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6982E7-7B57-4572-89A2-E273EF01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81F6AC-37E5-4C73-B8C8-8969FFE5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ABFA5A-1DF5-46D4-B9EF-2FA4DEA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60886C-F6FC-4C7A-A3B2-4144DE94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0FFF34-88EC-4A4B-92E4-DE8C5E76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00F-4360-4F05-8D01-D2D07B31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B09F-D685-4B5A-810B-176BB7B6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3768EA-9D44-46A8-AAF2-DC943115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78BAB7-0CC0-4DEE-A5BD-647FDE3B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56CDAE-51A3-41B4-9BEC-5A380A15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F57CBE-8EFD-45D7-BC90-6E2853A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DD47AE-C941-4D4E-AB64-29F19CA7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6254C5-F520-49B0-B756-F6E2C48D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E607BE-6AAC-44B0-9D8C-06644731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6B3244-0B84-41D5-BF3F-4B2A7994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57A883-44FE-4F01-9411-AD81C5E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2F5381-EC35-466D-B94A-91BD0A61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AB1E-3C9B-4EE4-871C-E91D53D7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A37E00-5A91-43D2-8A78-13A7A89C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5CEC2D-16FF-4414-AAE2-FBBA2129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A8702D-46F9-417C-8888-71F9B65D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7174-DE83-4A8E-A8D4-C3B5E472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F77E-7094-4978-B4B9-18B26C5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9091-B31E-4377-8B21-683C7384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97E8-0309-4102-8346-79DE9798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F332-B1BA-4822-AD58-ABCCF5D2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5946-B615-4340-A232-70881328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D5E5-2592-43F8-8162-41D9978E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E8C8-3881-4FA4-A2A6-F9B7D0C0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5AD-E395-456E-8AF8-8A8F5B9C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36E5C-EB1C-4848-BCCB-385BC20E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3EE5-4AC5-4563-9EEC-8ECFA9D2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BB31-8E4D-4B0D-AB97-B2885918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F71D5-73FA-462D-B2A9-2271BF1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D271-0C1C-42B4-B959-F0305E1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F2FD-4645-410A-9447-186E4FF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1E4E-4232-49CA-9B9B-1E8F13DF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8852-2794-4E10-BAB7-2619E2B4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F7A4-559C-4623-B96B-08D451F8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E717F-AA45-443C-BBD1-333DEF88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89C-1CB3-425D-852D-5D57C960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EE52-C0B1-4726-8D0E-0D9BE193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5819-53FA-40E9-B650-3DD48D77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9D7C5-2D0C-4972-A587-004B3B02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A1A0-BFCA-4E37-A558-D67E6237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90BD3-0046-46DD-BE9A-701CFD61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EF8A-4C95-4DCF-95BC-D7EE3B5A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D8513-2FD3-4B2F-94A3-82331EC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FE4E8-B620-456A-8F88-75013E9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DC574-9822-463A-8096-9E66D789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C856C-00F9-407E-9CE3-73904427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5E1-D899-4F4A-96A5-7FA559A9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D883A-8013-4CC3-9ECD-1FEF2F7D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DA4C-0BFD-45E1-98E4-BDB37F6F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A0C3A-2125-468A-ACE2-46D467F2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1E964-1DD8-4F62-AF19-CAB87722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5EC0-1AEB-46E4-B526-619BE744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BB6C-B52A-4100-A53C-1448A0EB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D6F5D-A03F-470E-BAF2-28212DD3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80E7F-99EB-4DFF-BAB1-948FC63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E8A98-BFB2-4C93-BF5C-CE0987B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50F4E-BC42-493E-B137-AAF9FF45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44B-3040-4E2C-A9B5-FC1E65FE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4BC35-59EA-4EFB-A916-C4755DD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9208-7A3B-4154-A76A-EE6DC2E3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25996-2045-46FD-932E-9CBA8DFB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BE6B0-A1E9-42D9-BAED-9A496E8D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A501-9B19-4737-88E4-79FBCD53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3F24E-CD36-4677-9FF1-E1E76829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B42E7-CE87-4681-B7D4-878161E5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22A8-E96E-4515-9BCD-B8EADDB0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52516-91DB-434A-80E5-A74B89B4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C012F-1E92-4327-AFB5-6F1A688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D63-317C-40AA-B270-84064E08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E66FE-EE42-4E41-ACCE-97553EBD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2B70-D221-453B-A641-720DD314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856F4-974C-438D-98D3-3E53EBAF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881C3-125B-491E-B6D6-CC45812C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047B1-0C02-49A1-8A95-C4E7A5BC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25ED-A237-4EED-AFFF-74F70398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D502-95F4-47D6-9BE3-676A6C4C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C19AD-21C1-498B-B942-DA361B86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1CD0F-037F-4E3D-8D5B-FE087A25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8E957-29A8-4869-A0FF-F28687C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A93-0CD7-41E0-8BB0-05B81731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5B29D-47C4-437C-9815-034B0C83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12E96-2870-42AF-A8BE-D0BFB184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2F259-D2C3-4947-94B1-FDB3B1B3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B110C-C66E-4B7E-95F1-D7D64B4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89E5C-53E3-456D-853F-5E693741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BCC2E-33FB-4C4B-B54E-F40ECED6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B0DF8-1927-41B5-80AD-C2C9EF96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4F71B-CFB1-457C-8A9F-BE8DF2B0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696FF-A10B-4198-830C-EF67FB0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9837C-490C-4A32-B321-FEF68630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7034-E9F9-43C5-B1D5-3A75C7BDCF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0B77-866C-40D6-B95A-34F7722317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2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01FB-337A-4085-8E51-87F4F6D52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6CC5-0D77-4A64-A8E5-8E273EA71B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8CBB-FB12-4ECC-9BC5-BB2F384FBD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3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3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8CC-E8EA-44A7-8C51-98CA839AF431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7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8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sldNum" idx="4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E455-8871-4FB3-9676-ED8B56F52C99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B08E-80AC-4F9B-BC7B-8F644009BF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dt" idx="4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3F2F-C891-4F3A-A0BD-9E403AE06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2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3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54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E38D-0AE4-492C-A5A8-4B07FD9321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335E-BFB2-4AA1-AB10-BBB074B217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FBBF-6173-46F3-A097-8CDBA9C76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5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3D41-4742-41CE-949C-17A85728A1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dt" idx="6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DA89-6987-426A-91BA-1B6B2A7A6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6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0252-0A5B-4EB3-976B-61F0E40114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6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6444-0B7D-4F29-84A9-0FF1987F16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7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ED7A-BAD8-4446-BC76-1CAF6E0F43E1}" type="slidenum">
              <a:rPr b="0" lang="zh-CN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dt" idx="7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3A69-B0A7-45C7-8CBF-AA7B1FBF1364}" type="slidenum">
              <a:rPr b="0" lang="zh-CN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258E-8446-40EA-9040-44E3B2A455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3FBB-E93B-438A-A26D-456489DE45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4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4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7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B5D5-498C-4E52-A518-EC5DFD69DBED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9660-2018-4F1A-8F0D-F01102F31FC4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3F56-57CF-4B2C-B384-49F83FF18A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C5F1-983D-478D-83A1-F1BBB467B5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8839-FD3F-4E93-99A2-8C179E9AEA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slide" Target="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bio-engine.com/" TargetMode="External"/><Relationship Id="rId3" Type="http://schemas.openxmlformats.org/officeDocument/2006/relationships/hyperlink" Target="http://www.hhfg.org/" TargetMode="External"/><Relationship Id="rId4" Type="http://schemas.openxmlformats.org/officeDocument/2006/relationships/hyperlink" Target="http://www.gz-todag.com/" TargetMode="External"/><Relationship Id="rId5" Type="http://schemas.openxmlformats.org/officeDocument/2006/relationships/hyperlink" Target="http://www.guanzhong.gd.cn/" TargetMode="External"/><Relationship Id="rId6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6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&#25552;&#31034;2.wav"/><Relationship Id="rId3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6785640" y="2118240"/>
            <a:ext cx="66780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《风俗通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644080" y="1371600"/>
            <a:ext cx="1277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通常说天地开辟以后，还没有人类。女娲揉团黄土造成人。这项工作太费力了，女娲忙不过来，就把一根绳子放到泥浆中，拉出来，溅出的泥点子就成了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20680"/>
          </a:xfrm>
          <a:prstGeom prst="rect">
            <a:avLst/>
          </a:prstGeom>
          <a:ln w="0">
            <a:noFill/>
          </a:ln>
        </p:spPr>
      </p:pic>
      <p:sp>
        <p:nvSpPr>
          <p:cNvPr id="1264" name=""/>
          <p:cNvSpPr/>
          <p:nvPr/>
        </p:nvSpPr>
        <p:spPr>
          <a:xfrm>
            <a:off x="1620000" y="528480"/>
            <a:ext cx="188676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女娲在神祠里祷告，祈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神任命她做女媒。于是女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就安排男女婚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153280" y="6324480"/>
            <a:ext cx="83844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68360" y="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对照课文故事情节，划出下面短文所没有的内容，看看课文中丰富了哪几个情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1981080" y="1339920"/>
            <a:ext cx="6858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女娲造人的动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女娲造人的具体过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人造出来之后欢欣喜悦的场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女娲像人一样具有心理活动和喜怒哀乐等情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）作者的评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6781680" y="701640"/>
            <a:ext cx="2194200" cy="219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女娲吗？说说你的理由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457200" y="304920"/>
            <a:ext cx="171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讨 论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ff"/>
                </a:solidFill>
                <a:latin typeface="Arial"/>
                <a:ea typeface="隶书"/>
              </a:rPr>
              <a:t>鲜明的人物形象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483200" y="205740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女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性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98384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聪明、活泼、好奇心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650480" y="32004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勤劳、智慧、伟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371600" y="15238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19320" y="4495680"/>
            <a:ext cx="40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ff"/>
                </a:solidFill>
                <a:latin typeface="Times New Roman"/>
                <a:ea typeface="隶书"/>
              </a:rPr>
              <a:t>美好的情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8153280" y="6324480"/>
            <a:ext cx="83844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e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3"/>
          <a:stretch/>
        </p:blipFill>
        <p:spPr>
          <a:xfrm>
            <a:off x="7897680" y="0"/>
            <a:ext cx="124632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女娲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本身是神。（非凡能力、造人手段、方法，体现神的威力。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又是一个人。（人的孤独感、人的喜怒之情、人的心理、人的生活体验）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19810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对人类诞生的喜悦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女娲造出人之后的喜悦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人类自身对获得生命的欢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226836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539640" y="692280"/>
            <a:ext cx="806472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关于神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神话是人类社会幼年时期的产物，是人类早期不自觉的艺术创作，是原始社会最早的艺术形式之一。是古代劳动人民对社会和自然现象的美妙解释和奇特想象，他们把自然力神化、人格化，在幻想中不自觉地进行艺术加工，创造出许多神的故事，这就是神话。神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表现了远古人民对自然力的抗争和提高人类自身能力的渴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其中的人物形象，大多具有超人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1908000" y="1125360"/>
            <a:ext cx="53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想像是神话故事中的亮点，没有想象就没有神话，神话故事中的想像体现了远古时代人们那种强烈的探求欲望。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0" y="609480"/>
            <a:ext cx="4419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0" y="0"/>
            <a:ext cx="9144000" cy="6858000"/>
          </a:xfrm>
          <a:prstGeom prst="verticalScroll">
            <a:avLst>
              <a:gd name="adj" fmla="val 6712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106720" y="685800"/>
            <a:ext cx="50562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想象力是发明、发现及其他创造活动的源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         ——</a:t>
            </a: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亚里士多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想象力是人类能力的试金石，人们正是依靠想象力征服世界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80"/>
                </a:solidFill>
                <a:latin typeface="黑体"/>
                <a:ea typeface="黑体"/>
              </a:rPr>
              <a:t>奥斯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4643280" y="2276640"/>
            <a:ext cx="41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你能不能对女娲造人的 、动机、方法作新的想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2895480" y="380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ff33"/>
                </a:solidFill>
                <a:uFillTx/>
                <a:latin typeface="Arial"/>
                <a:ea typeface="隶书"/>
              </a:rPr>
              <a:t>时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：天地初开后随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一时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ff33"/>
                </a:solidFill>
                <a:uFillTx/>
                <a:latin typeface="Arial"/>
                <a:ea typeface="隶书"/>
              </a:rPr>
              <a:t>地点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：地球范围内任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一旮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 rot="5400000">
            <a:off x="-213120" y="2574720"/>
            <a:ext cx="4740480" cy="1266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sq"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女娲造人</a:t>
            </a:r>
            <a:r>
              <a:rPr b="0" lang="en-US" sz="9600" spc="1" strike="noStrike">
                <a:ln cap="sq"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·</a:t>
            </a:r>
            <a:r>
              <a:rPr b="0" lang="zh-CN" sz="9600" spc="1" strike="noStrike">
                <a:ln cap="sq"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新编</a:t>
            </a:r>
            <a:endParaRPr b="0" lang="en-US" sz="9600" spc="1" strike="noStrike">
              <a:ln cap="sq"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2"/>
          <a:stretch/>
        </p:blipFill>
        <p:spPr>
          <a:xfrm>
            <a:off x="7675560" y="5105520"/>
            <a:ext cx="988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451640" y="691920"/>
            <a:ext cx="1006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6699"/>
                </a:solidFill>
                <a:latin typeface="Arial Black"/>
                <a:ea typeface="黑体"/>
              </a:rPr>
              <a:t>盘古开天辟地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推荐资料及网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80880" y="914400"/>
            <a:ext cx="72392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80880" y="990720"/>
            <a:ext cx="73152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09480" y="380880"/>
            <a:ext cx="0" cy="5943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990720" y="1486080"/>
            <a:ext cx="6705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《中国科普佳作精选 》第一部（方宗熙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《进化论思想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《中国文学史》 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6666"/>
                </a:solidFill>
                <a:uFillTx/>
                <a:latin typeface="Times New Roman"/>
                <a:ea typeface="黑体"/>
                <a:hlinkClick r:id="rId2"/>
              </a:rPr>
              <a:t>http://www.bio-engi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6666"/>
                </a:solidFill>
                <a:uFillTx/>
                <a:latin typeface="Times New Roman"/>
                <a:ea typeface="黑体"/>
                <a:hlinkClick r:id="rId3"/>
              </a:rPr>
              <a:t>http://www.hhfg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6666"/>
                </a:solidFill>
                <a:uFillTx/>
                <a:latin typeface="Times New Roman"/>
                <a:ea typeface="黑体"/>
                <a:hlinkClick r:id="rId4"/>
              </a:rPr>
              <a:t>http://www.gz-toda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6666"/>
                </a:solidFill>
                <a:uFillTx/>
                <a:latin typeface="Times New Roman"/>
                <a:ea typeface="黑体"/>
                <a:hlinkClick r:id="rId5"/>
              </a:rPr>
              <a:t>http://www.guanzhong.gd.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1295280" y="45720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课后小结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207000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文记述了女娲造人的全过程，表现了原始人类对人类起源的好奇和追索，以及在当时社会条件下，所做出的丰富想象，表达了作者对生命诞生的喜悦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2627280" y="1989000"/>
            <a:ext cx="5040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再见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884720" y="764640"/>
            <a:ext cx="801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后羿射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84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3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3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956360" y="1197000"/>
            <a:ext cx="826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嫦娥奔月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740720" y="274680"/>
            <a:ext cx="94608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女娲造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女娲造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袁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1332000" y="691920"/>
            <a:ext cx="6624720" cy="53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者简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袁珂，生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9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，神话学家。四川省新繁县人。论著有《中国古代神话》、《山海经校注》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中国古代神话》是中国第一部汉民族古代神话专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457200" y="304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检查预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1066680"/>
            <a:ext cx="76197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女娲（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wā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）：传说中造人、补天的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澄澈（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é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ng  ch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è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）：清澈透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幽光：昏安的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灵敏：反应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绵延：延续不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神通广大：指特别高明的本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莽莽榛榛（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zhēn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）：草木丛生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根据课文内容框架复述故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26880" y="312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女娲造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836440" y="2590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揉黄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76516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挥洒泥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07440" y="3124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3371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人类绵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797800" y="2743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97800" y="373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752480" y="2971440"/>
            <a:ext cx="576000" cy="864000"/>
            <a:chOff x="1752480" y="2971440"/>
            <a:chExt cx="576000" cy="864000"/>
          </a:xfrm>
        </p:grpSpPr>
        <p:sp>
          <p:nvSpPr>
            <p:cNvPr id="1253" name=""/>
            <p:cNvSpPr/>
            <p:nvPr/>
          </p:nvSpPr>
          <p:spPr>
            <a:xfrm>
              <a:off x="1752480" y="3403440"/>
              <a:ext cx="288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041200" y="2971440"/>
              <a:ext cx="28728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041200" y="3403440"/>
              <a:ext cx="28728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4114800" y="3429000"/>
            <a:ext cx="57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5257440" y="3048120"/>
            <a:ext cx="360360" cy="864720"/>
            <a:chOff x="5257440" y="3048120"/>
            <a:chExt cx="360360" cy="864720"/>
          </a:xfrm>
        </p:grpSpPr>
        <p:sp>
          <p:nvSpPr>
            <p:cNvPr id="1258" name=""/>
            <p:cNvSpPr/>
            <p:nvPr/>
          </p:nvSpPr>
          <p:spPr>
            <a:xfrm flipH="1">
              <a:off x="5257440" y="3048120"/>
              <a:ext cx="36036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5257440" y="3481200"/>
              <a:ext cx="36036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6400800" y="3581280"/>
            <a:ext cx="57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3:08:31Z</dcterms:created>
  <dc:creator>wutao</dc:creator>
  <dc:description/>
  <dc:language>en-US</dc:language>
  <cp:lastModifiedBy>zyb</cp:lastModifiedBy>
  <dcterms:modified xsi:type="dcterms:W3CDTF">2004-12-15T07:16:40Z</dcterms:modified>
  <cp:revision>100</cp:revision>
  <dc:subject/>
  <dc:title>幻灯片 1</dc:title>
</cp:coreProperties>
</file>