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jpeg" ContentType="image/jpeg"/>
  <Override PartName="/ppt/media/%E6%8F%90%E7%A4%BA1.wav" ContentType="audio/x-wav"/>
  <Override PartName="/ppt/media/image14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%E6%8F%90%E7%A4%BA4.wav" ContentType="audio/x-wav"/>
  <Override PartName="/ppt/media/image11.gif" ContentType="image/gif"/>
  <Override PartName="/ppt/media/image6.jpeg" ContentType="image/jpeg"/>
  <Override PartName="/ppt/media/%E6%8F%90%E7%A4%BA2.wav" ContentType="audio/x-wav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6E54-4F9C-4EA5-93A8-8272B92141A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A32-AE25-4CCD-8254-CF039E7D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47D-83EA-45DF-8A97-48D08565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BEE-4D1F-44E0-B79F-B27E2A0B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F50-AEE4-4794-98ED-36A90F58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9051-8FA7-4754-808D-91AD7645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C3FA-0BC5-4794-8082-6448FC99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DADC-9B2A-4DEC-BE60-B79E6B42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FA5E-C82C-4D29-803D-8EE3FB64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0817-4D0F-4946-9FED-2C431DCD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74C8-DA67-4782-B971-2F3FF90C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FD8E-F3EB-46DB-BAF6-FC87FF3B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820-4CB7-4298-A981-51E22648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8A53-9A54-4964-9F3D-F3BBB0CB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CDD2-9739-414A-AB31-C17C3D62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3C23-2254-450C-9298-65464AA8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6072-C999-471B-B1FA-59525439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061C-06C4-4856-93A7-F8FF7B7E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1CA-84AB-4DA7-A96B-FFAF39D0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8E6-83B6-4BF1-B8F9-407414CA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E8D-F22F-4522-96B3-33DB0294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141-8F09-4D49-ACC5-08B660A6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014-4E72-415B-9EA7-71B9F798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09D-E7E2-4327-9C3B-84162727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B7A-9529-41FB-9958-11C79ACA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B259-8144-4A17-9D35-CCF8AC41F8CC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EF24-C9E5-48B5-8ADD-4C5D798E6A0F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&#25552;&#31034;2.wav"/><Relationship Id="rId2" Type="http://schemas.openxmlformats.org/officeDocument/2006/relationships/audio" Target="../media/&#25552;&#31034;2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&#25552;&#31034;4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&#25552;&#31034;1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&#25552;&#31034;2.wav"/><Relationship Id="rId2" Type="http://schemas.openxmlformats.org/officeDocument/2006/relationships/audio" Target="../media/&#25552;&#31034;4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00000" y="83664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想像为生活添翼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627280" y="2997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神话令你我心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813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通常说天地开辟以后，还没有人类，女娲揉团黄土造成人。这项工作太费力了，女娲忙不过来，就把一根绳子放到泥浆中拉出来，溅出的泥点子就成了人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女娲在神祠里祷告，祈求神任命她做女媒。于是女娲就安排男女婚配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1280" y="5442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</a:rPr>
              <a:t>古籍《风俗通》有关内容译文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未标题-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1000800" y="0"/>
            <a:ext cx="2191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80808"/>
                </a:solidFill>
                <a:latin typeface="Times New Roman"/>
                <a:ea typeface="隶书"/>
              </a:rPr>
              <a:t>女娲造人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549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  <a:ea typeface="华文隶书"/>
              </a:rPr>
              <a:t>探究品味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752480"/>
            <a:ext cx="830592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   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复述课文，对照《风俗通》中关于女娲的</a:t>
            </a:r>
            <a:r>
              <a:rPr b="0" lang="zh-CN" sz="4400" spc="-1" strike="noStrike" u="sng">
                <a:solidFill>
                  <a:srgbClr val="0066ff"/>
                </a:solidFill>
                <a:uFillTx/>
                <a:latin typeface="华文新魏"/>
                <a:ea typeface="华文新魏"/>
                <a:hlinkClick r:id="rId1" action="ppaction://hlinksldjump"/>
              </a:rPr>
              <a:t>记载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，找出课文丰富了哪些</a:t>
            </a:r>
            <a:r>
              <a:rPr b="0" lang="zh-CN" sz="4400" spc="-1" strike="noStrike" u="sng">
                <a:solidFill>
                  <a:srgbClr val="0066ff"/>
                </a:solidFill>
                <a:uFillTx/>
                <a:latin typeface="华文新魏"/>
                <a:ea typeface="华文新魏"/>
                <a:hlinkClick r:id="rId2" action="ppaction://hlinksldjump"/>
              </a:rPr>
              <a:t>内容</a:t>
            </a:r>
            <a:r>
              <a:rPr b="0" lang="zh-CN" sz="4400" spc="-1" strike="noStrike" u="sng">
                <a:solidFill>
                  <a:srgbClr val="0066ff"/>
                </a:solidFill>
                <a:uFillTx/>
                <a:latin typeface="华文新魏"/>
                <a:ea typeface="华文新魏"/>
                <a:hlinkClick r:id="rId3" action="ppaction://hlinksldjump"/>
              </a:rPr>
              <a:t>，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哪里最见出作者的想像力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0" name="wend6" descr=""/>
          <p:cNvPicPr/>
          <p:nvPr/>
        </p:nvPicPr>
        <p:blipFill>
          <a:blip r:embed="rId4"/>
          <a:stretch/>
        </p:blipFill>
        <p:spPr>
          <a:xfrm>
            <a:off x="6629400" y="4775040"/>
            <a:ext cx="25146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59000" y="287280"/>
            <a:ext cx="59896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丰富了以下内容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1680" y="1600200"/>
            <a:ext cx="85406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造人动机的产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造人的具体过程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人造出后的欢快场面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女娲的情绪和心理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5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作者的评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79132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足见作者想像的丰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原短文内容框架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6880" y="3124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女娲造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36440" y="2590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揉黄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65160" y="373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挥洒泥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07440" y="3124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371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人类绵延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7800" y="2743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男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7800" y="3733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女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2971440"/>
            <a:ext cx="576000" cy="864000"/>
            <a:chOff x="1752480" y="2971440"/>
            <a:chExt cx="576000" cy="864000"/>
          </a:xfrm>
        </p:grpSpPr>
        <p:sp>
          <p:nvSpPr>
            <p:cNvPr id="153" name=""/>
            <p:cNvSpPr/>
            <p:nvPr/>
          </p:nvSpPr>
          <p:spPr>
            <a:xfrm>
              <a:off x="1752480" y="3403440"/>
              <a:ext cx="28872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041200" y="2971440"/>
              <a:ext cx="28728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41200" y="3403440"/>
              <a:ext cx="287280" cy="4320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114800" y="3429000"/>
            <a:ext cx="5778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257440" y="3048120"/>
            <a:ext cx="360360" cy="864720"/>
            <a:chOff x="5257440" y="3048120"/>
            <a:chExt cx="360360" cy="864720"/>
          </a:xfrm>
        </p:grpSpPr>
        <p:sp>
          <p:nvSpPr>
            <p:cNvPr id="158" name=""/>
            <p:cNvSpPr/>
            <p:nvPr/>
          </p:nvSpPr>
          <p:spPr>
            <a:xfrm flipH="1">
              <a:off x="5257440" y="3048120"/>
              <a:ext cx="36036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5257440" y="3481200"/>
              <a:ext cx="36036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400800" y="3581280"/>
            <a:ext cx="5778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7%A4%B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58920" y="1412640"/>
            <a:ext cx="5113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神”性和“人”性的结合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奇特和合理的统一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873000" y="240840"/>
            <a:ext cx="6578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合作探究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141720"/>
            <a:ext cx="85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、故事中哪些内容体现出女娲的“神”性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、故事中哪些内容体现出女娲的“人”性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494172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要求：分小组讨论，并由小组代表作好讨论记录，然后由小组代表发言交流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" y="1574640"/>
            <a:ext cx="25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主题——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7%A4%B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346716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一天变化七十次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揉黄泥造人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挥洒泥浆造人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………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371628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寂寞孤独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自豪欣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忙碌疲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………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38606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1413000"/>
            <a:ext cx="289080" cy="172692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6000" y="1557360"/>
            <a:ext cx="18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神”的非凡能力和神奇方法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4005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”的心理、情感、活动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720" y="1413000"/>
            <a:ext cx="216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方正姚体"/>
              </a:rPr>
              <a:t>想像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大胆奇特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386064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方正姚体"/>
              </a:rPr>
              <a:t>想像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真实合理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flipV="1">
            <a:off x="304920" y="99036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295280"/>
            <a:ext cx="8763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080808"/>
                </a:solidFill>
                <a:latin typeface="华文行楷"/>
                <a:ea typeface="华文行楷"/>
              </a:rPr>
              <a:t>、你也发挥自己的想像，对女娲造人的动机、经过做另一种推测，说给大家听听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6" name="gaofeng179" descr=""/>
          <p:cNvPicPr/>
          <p:nvPr/>
        </p:nvPicPr>
        <p:blipFill>
          <a:blip r:embed="rId1"/>
          <a:stretch/>
        </p:blipFill>
        <p:spPr>
          <a:xfrm>
            <a:off x="6705720" y="4417920"/>
            <a:ext cx="2438280" cy="2440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880" y="3809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华文行楷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080808"/>
                </a:solidFill>
                <a:latin typeface="华文行楷"/>
                <a:ea typeface="华文行楷"/>
              </a:rPr>
              <a:t>、说 说你对女娲的认识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Times New Roman"/>
                <a:ea typeface="幼圆"/>
              </a:rPr>
              <a:t>研读课文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中宋"/>
              </a:rPr>
              <a:t>争论题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3480" y="26798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80808"/>
                </a:solidFill>
                <a:latin typeface="Arial"/>
              </a:rPr>
              <a:t>这个神话故事的内容违背了科学性，今天学习这个故事是否有意义？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7%A4%BA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609480"/>
            <a:ext cx="4495680" cy="9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37339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华文行楷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神话是通过人民的幻想，用一种不自觉的艺术方式加工过的自然和社会形态本身。”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——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马克思</a:t>
            </a:r>
            <a:r>
              <a:rPr b="1" lang="zh-CN" sz="4400" spc="-1" strike="noStrike">
                <a:solidFill>
                  <a:srgbClr val="080808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457200"/>
            <a:ext cx="74278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关于神仙或神化的古代英雄的故事。是古代人民对自然现象和社会生活的一种天真的解释和美丽的向往，常有浓厚的幻想色彩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58b0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nvwa" descr=""/>
          <p:cNvPicPr/>
          <p:nvPr/>
        </p:nvPicPr>
        <p:blipFill>
          <a:blip r:embed="rId1"/>
          <a:stretch/>
        </p:blipFill>
        <p:spPr>
          <a:xfrm>
            <a:off x="3859200" y="228600"/>
            <a:ext cx="5056200" cy="6400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269280" y="990720"/>
            <a:ext cx="286164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80808"/>
                </a:solidFill>
                <a:latin typeface="Times New Roman"/>
              </a:rPr>
              <a:t>女娲造人</a:t>
            </a:r>
            <a:endParaRPr b="0" lang="en-US" sz="8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70120" y="2590920"/>
            <a:ext cx="1003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Times New Roman"/>
                <a:ea typeface="华文行楷"/>
              </a:rPr>
              <a:t>     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袁    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5280" y="33336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中宋"/>
              </a:rPr>
              <a:t>上帝在创造天地和万物以后，在第六日造人。上帝按照自己的形象，用地上的尘土造一个人，往他的鼻孔里吹一口气，有了灵气，人就活了。能说话，能行走，上帝给他取一个名字叫亚当。后来，亚当成了伊甸园的守护神。亚当给伊甸园里的各种飞禽走兽起了名字，它们都听从于亚当。上帝看亚当辛苦，决定为他造一个配偶，以便帮助他工作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中宋"/>
              </a:rPr>
              <a:t>于是，上帝在亚当睡觉时，抽了亚当的一根肋骨造成一个女人叫夏娃，做了亚当的妻子。从此，亚当和夏娃在伊甸园里无忧无虑，过着和谐美满的生活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42920" y="98100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         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在中国有女娲造人美丽神话，在西方有上帝造人的宗教神话，人类的起源到底是什么，要依赖科学的解释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620640"/>
            <a:ext cx="72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80808"/>
                </a:solidFill>
                <a:latin typeface="Times New Roman"/>
                <a:ea typeface="华文新魏"/>
              </a:rPr>
              <a:t>女娲造人，体现了人类可贵的创造力和探求精神，也使我们感受到生而为人的自豪。今天，我们面对的广大世界，依然有许多未知领域，等待我们去探求，去追索，去感受那种创造成功的喜悦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mm1064" descr=""/>
          <p:cNvPicPr/>
          <p:nvPr/>
        </p:nvPicPr>
        <p:blipFill>
          <a:blip r:embed="rId2"/>
          <a:srcRect l="0" t="0" r="0" b="77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609480" y="48006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让我们去探索宇宙的奥秘吧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夸父逐日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304920"/>
            <a:ext cx="830592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夸父逐日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夸父与日逐走，入日。渴，欲得饮，饮于河、渭；河、渭不足，北饮大泽。未至，道渴而死。弃其杖，化为邓林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逐走：竞跑，赛跑。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入日：追赶到太阳落下的地方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河、渭：即黄河、渭水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大泽：大湖。传说其大纵横千里，在燕门山北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道渴而死：在半路因口渴而死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邓林：桃林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38080" y="99072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夸父与太阳竞跑，一直追赶到太阳落下的地方；他感到口渴，想要喝水，就到黄河、渭水喝水。黄河、渭水的水不够，又去北方的大湖喝水。还没赶到大湖，就半路渴死了。他遗弃的手杖，化成桃林。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拓展延伸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】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天地浑如鸡子，盘古生其中，万八千岁。开天辟地，阳清为天，阴浊为地，盘古在其中。一日九变，神于天，圣于地。天日高一尺，盘古日长一丈。如此万八千岁，天数极高，地数极深，盘古极长……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盘古开天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楷体_GB2312"/>
              </a:rPr>
              <a:t>请围绕下面几方面展开想像，扩充这个神话故事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、天地混沌的景象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、盘古开天的过程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、盘古顶天立地的情景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、天地成形后，盘古化成了什么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7%A4%B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25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9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419640" y="260280"/>
            <a:ext cx="4105080" cy="1440000"/>
          </a:xfrm>
          <a:prstGeom prst="cloudCallout">
            <a:avLst>
              <a:gd name="adj1" fmla="val 25791"/>
              <a:gd name="adj2" fmla="val 119018"/>
            </a:avLst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9ac"/>
                </a:solidFill>
                <a:latin typeface="Times New Roman"/>
                <a:ea typeface="华文新魏"/>
              </a:rPr>
              <a:t>拓展迁移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26828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有一天，他忽然醒过来。睁开眼睛一看，啊呀，什么也看不见，眼前只是模糊的一片，闷的怪心慌。不知道从哪里抓过来一把大板斧，朝着眼前的混沌用力这么一挥，只听得一声霹雳巨响，大混沌忽然破裂开来。其中有些轻而清的东西，冉冉上升，变成天；另外有些重而浊的东西，沉沉下降，变成地。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------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当初是混沌不分的天地，就这样给盘古板斧一挥，划分开来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76500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阅读神话《盘古开天地》选段，回答问题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1413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从选段中找出三个反义词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1989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清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-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1989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轻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-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64360" y="1989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冉冉上升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-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沉沉下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2492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用简洁的话叙述天和地是怎样形成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24360" y="549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盘古用大板斧劈开了混沌，分出了开地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3500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找出描写盘古开天劈地动作的动词，这些动词表现了盘古的什么特点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797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这段文字主要运用了的修辞手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2781360"/>
            <a:ext cx="360360" cy="360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3500280"/>
            <a:ext cx="360360" cy="360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4038480"/>
            <a:ext cx="3024360" cy="2232000"/>
          </a:xfrm>
          <a:prstGeom prst="cloudCallout">
            <a:avLst>
              <a:gd name="adj1" fmla="val -18611"/>
              <a:gd name="adj2" fmla="val -91037"/>
            </a:avLst>
          </a:prstGeom>
          <a:solidFill>
            <a:srgbClr val="66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4941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豪壮  威力巨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5300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夸张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28600"/>
            <a:ext cx="8915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想象力比知识更重要。因为知识是有限的，而想象概括着世界上的一切，推动着社会的进步，成为知识进化的源泉。——爱因斯坦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想象力是发明、发现及其他创造活动的源泉。——古希腊的亚里士多德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想象力是人类能力的试金石，人们正是依靠想象力征服世界！ ——被誉为创造学之父的奥斯本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411280" y="2781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飞向未知的世界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00000" y="69228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插上想像的翅膀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9640" y="692280"/>
            <a:ext cx="806472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宋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关于神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神话是人类社会幼年时期的产物，是人类早期不自觉的艺术创作，是原始社会最早的艺术形式之一。是古代劳动人民对社会和自然现象的美妙解释和奇特想象，他们把自然力神化、人格化，在幻想中不自觉地进行艺术加工，创造出许多神的故事，这就是神话。神话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表现了远古人民对自然力的抗争和提高人类自身能力的渴望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其中的人物形象，大多具有超人的力量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gk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  <p:pic>
        <p:nvPicPr>
          <p:cNvPr id="96" name="hysr" descr=""/>
          <p:cNvPicPr/>
          <p:nvPr/>
        </p:nvPicPr>
        <p:blipFill>
          <a:blip r:embed="rId3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140360" y="765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盘古开天辟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3716280"/>
            <a:ext cx="13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女娲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6000" y="1773360"/>
            <a:ext cx="0" cy="109224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234468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93080" y="393372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429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补天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4797360"/>
            <a:ext cx="86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321300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造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342900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1640" y="907920"/>
            <a:ext cx="6840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作者简介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袁珂，生于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1916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年，神话学家。四川省新繁县人。论著有《中国古代神话》、《山海经校注》等。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《中国古代神话》是中国第一部汉民族古代神话</a:t>
            </a:r>
            <a:r>
              <a:rPr b="1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专著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2286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读出画线字的正确读音：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30481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莽莽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榛榛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8288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澄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澈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1240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幽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光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715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灵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敏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4197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绵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延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267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神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通广大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19051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生气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蓬勃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791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枯    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藤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1828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imes New Roman"/>
              </a:rPr>
              <a:t>chè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1905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imes New Roman"/>
              </a:rPr>
              <a:t>péng bó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0481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yōu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3124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imes New Roman"/>
              </a:rPr>
              <a:t>zhēn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419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mián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79132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imes New Roman"/>
              </a:rPr>
              <a:t>téng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715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mǐn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41911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imes New Roman"/>
              </a:rPr>
              <a:t>shén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95280" y="1700280"/>
            <a:ext cx="784872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莽莽榛榛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9079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Times New Roman"/>
              </a:rPr>
              <a:t>词语解释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2708280"/>
            <a:ext cx="586728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澄澈</a:t>
            </a: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:</a:t>
            </a: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39337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绵延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191628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Times New Roman"/>
              </a:rPr>
              <a:t>草木丛生的样子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29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Times New Roman"/>
              </a:rPr>
              <a:t>清澈透明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933720"/>
            <a:ext cx="367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Times New Roman"/>
              </a:rPr>
              <a:t>延续不断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《风俗通》中关于女娲的记载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0120" y="1066680"/>
            <a:ext cx="4586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通常说天地开辟以后，还没有人类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女娲揉团黄土造成人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这项工作太费力了，女娲忙不过来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就把一根绳子放到泥浆中，拉出来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溅出的泥点子就成了人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女娲在神祠里祷告，祈求神任命她做女媒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于是女娲就安排男女婚配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419112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1:38:01Z</dcterms:created>
  <dc:creator>wutao</dc:creator>
  <dc:description/>
  <dc:language>en-US</dc:language>
  <cp:lastModifiedBy>a</cp:lastModifiedBy>
  <dcterms:modified xsi:type="dcterms:W3CDTF">2004-12-16T07:21:01Z</dcterms:modified>
  <cp:revision>100</cp:revision>
  <dc:subject/>
  <dc:title>幻灯片 1</dc:title>
</cp:coreProperties>
</file>