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%E6%8F%90%E7%A4%BA4.wav" ContentType="audio/x-wav"/>
  <Override PartName="/ppt/media/%E6%8F%90%E7%A4%BA2.wav" ContentType="audio/x-wav"/>
  <Override PartName="/ppt/media/%E6%8F%90%E7%A4%BA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779-6477-4F4B-8426-89937020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43F-89C3-4CD3-BBB1-D20C2D9A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1B7-BCA0-4679-AC88-2942F6A8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5F2-DFE9-4E66-BD9E-C7B79143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0D0-C3CB-4713-B800-80639024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8DF7-20B6-4652-BCBB-4A8DE946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3340-DA57-4721-A5AC-CDAEF12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0877-3CEF-4497-B144-88549A04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75F1-24F6-4BF3-B1FA-B59D5E3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96F4-FD7E-4981-B4CC-4DFD1F51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304F-90E3-4D1F-B6AB-2A4213E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5AE-409E-47BB-8AE9-62CE77C3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8D38-7611-4266-A817-6351121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8A59-15E5-49B8-B913-7B45B16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A7F0-909F-4C4D-9D3D-E696C38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4BA8-1CCA-41AF-9810-7767FD38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9CAB-8ADD-46B5-A29D-0CC96EFB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086-0E29-461D-ABE2-3D1D5050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888-EF44-4F12-B98C-33024EF9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66E-97FF-4C66-AE49-932607D2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5D0-B57B-4E82-BC1B-81D3A7CC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72E-17F4-448E-BDC4-64438A4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63E-0B4B-4F97-9482-2AAAB0B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2E6-4707-4F5E-BF42-E07275C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15C3-58AF-4957-98F3-EE06E03E1E39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331-6B10-4935-827D-D0DE2C7664BA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1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2.wav"/><Relationship Id="rId3" Type="http://schemas.openxmlformats.org/officeDocument/2006/relationships/audio" Target="../media/&#25552;&#31034;4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2.wav"/><Relationship Id="rId3" Type="http://schemas.openxmlformats.org/officeDocument/2006/relationships/audio" Target="../media/&#25552;&#31034;2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1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争论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3480" y="2679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这个神话故事的内容违背了科学性，今天学习这个故事是否有意义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拓展延伸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天地浑如鸡子，盘古生其中，万八千岁。开天辟地，阳清为天，阴浊为地，盘古在其中。一日九变，神于天，圣于地。天日高一尺，盘古日长一丈。如此万八千岁，天数极高，地数极深，盘古极长…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《盘古开天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9ac"/>
                </a:solidFill>
                <a:latin typeface="Arial"/>
                <a:ea typeface="方正姚体"/>
              </a:rPr>
              <a:t>请围绕下面几方面展开想像，扩充这个神话故事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天地混沌的景象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盘古开天的过程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盘古顶天立地的情景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天地成形后，盘古化成了什么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25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11280" y="2781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飞向未知的世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69228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插上想像的翅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3280" y="131760"/>
            <a:ext cx="3168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神话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4278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关于神仙或神化的古代英雄的故事。是古代人民对自然现象和社会生活的一种天真的解释和美丽的向往，常有浓厚的幻想色彩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4653000"/>
            <a:ext cx="741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如：《盘古开天》、《夸父追日》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4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上帝在创造天地和万物以后，在第六日造人。上帝按照自己的形象，用地上的尘土造一个人，往他的鼻孔里吹一口气，有了灵气，人就活了。能说话，能行走，上帝给他取一个名字叫亚当。后来，亚当成了伊甸园的守护神。亚当给伊甸园里的各种飞禽走兽起了名字，它们都听从于亚当。上帝看亚当辛苦，决定为他造一个配偶，以便帮助他工作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于是，上帝在亚当睡觉时，抽了亚当的一根肋骨造成一个女人叫夏娃，做了亚当的妻子。从此，亚当和夏娃在伊甸园里无忧无虑，过着和谐美满的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通常说天地开辟以后，还没有人类，女娲揉团黄土造成人。这项工作太费力了，女娲忙不过来，就把一根绳子放到泥浆中拉出来，溅出的泥点子就成了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女娲在神祠里祷告，祈求神任命她做女媒。于是女娲就安排男女婚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44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古籍《风俗通》有关内容译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76360" y="1339920"/>
            <a:ext cx="58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二十八    女娲造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0040" y="3979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袁  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原短文内容框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800" y="1936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9880" y="1457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1240" y="2320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9520" y="1889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75240" y="1889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0040" y="152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0040" y="2320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35280" y="1773000"/>
            <a:ext cx="576000" cy="864000"/>
            <a:chOff x="1835280" y="1773000"/>
            <a:chExt cx="576000" cy="864000"/>
          </a:xfrm>
        </p:grpSpPr>
        <p:sp>
          <p:nvSpPr>
            <p:cNvPr id="101" name=""/>
            <p:cNvSpPr/>
            <p:nvPr/>
          </p:nvSpPr>
          <p:spPr>
            <a:xfrm>
              <a:off x="1835280" y="2205000"/>
              <a:ext cx="288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124000" y="1773000"/>
              <a:ext cx="28728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4000" y="2205000"/>
              <a:ext cx="287280" cy="4320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140360" y="2205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92360" y="1773360"/>
            <a:ext cx="360360" cy="864720"/>
            <a:chOff x="5292360" y="1773360"/>
            <a:chExt cx="360360" cy="864720"/>
          </a:xfrm>
        </p:grpSpPr>
        <p:sp>
          <p:nvSpPr>
            <p:cNvPr id="106" name=""/>
            <p:cNvSpPr/>
            <p:nvPr/>
          </p:nvSpPr>
          <p:spPr>
            <a:xfrm flipH="1">
              <a:off x="5292360" y="177336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292360" y="220644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372360" y="2205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284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讨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508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课文在原短文基础上丰富了哪些内容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9000" y="287280"/>
            <a:ext cx="59896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丰富了以下内容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动机的产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的具体过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人造出后的欢快场面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女娲的情绪和心理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作者的评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544500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足见作者想像的丰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11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神”性和“人”性的结合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奇特和合理的统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73000" y="240840"/>
            <a:ext cx="6578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合作探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14172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神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人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941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要求：分小组讨论，并由小组代表作好讨论记录，然后由小组代表发言交流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2120" y="157464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主题——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3467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一天变化七十二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37162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寂寞孤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自豪欣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忙碌疲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8606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413000"/>
            <a:ext cx="289080" cy="17269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557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神”的非凡能力和神奇方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人”的心理、情感、活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413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大胆奇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386064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真实合理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utao</dc:creator>
  <dc:description/>
  <dc:language>en-US</dc:language>
  <cp:lastModifiedBy>Administrator</cp:lastModifiedBy>
  <dcterms:modified xsi:type="dcterms:W3CDTF">2003-11-25T01:39:48Z</dcterms:modified>
  <cp:revision>100</cp:revision>
  <dc:subject/>
  <dc:title>幻灯片 1</dc:title>
</cp:coreProperties>
</file>